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.jpeg" ContentType="image/jpeg"/>
  <Override PartName="/ppt/media/image10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750B9-B5EB-4F4D-B271-4BED954090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EDC0F-EC8B-462F-88DB-2A236C0297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A6901-65CA-49FF-A674-4AD3E4959E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C0939-8FCF-4EAC-AAE8-7D3725D092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AEC83-13DA-466D-B805-CD67556497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33C1C-5A31-487E-A04C-2D9912FB8B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4AE42-0902-4CFF-B1D0-871EB2EFAA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0CF00-F8EE-47A8-895E-C4026471BA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2B51A-CA17-4599-AF1C-CAA80A749F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8EEB5-1426-4137-8AE0-47EFBEAC4B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4491E-8B27-46A8-9A3C-F02DA86211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693DA-2E54-4042-90F7-F006A1C741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ogo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85840" indent="-285840">
              <a:spcBef>
                <a:spcPts val="499"/>
              </a:spcBef>
              <a:buClr>
                <a:srgbClr val="004b6a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499"/>
              </a:spcBef>
              <a:buClr>
                <a:srgbClr val="002b5d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499"/>
              </a:spcBef>
              <a:buClr>
                <a:srgbClr val="002b5d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spcBef>
                <a:spcPts val="499"/>
              </a:spcBef>
              <a:buClr>
                <a:srgbClr val="002b5d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775476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4266720" y="655272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fld id="{81F7813D-B3E6-475C-BAC4-0396332F8FAE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6172200" y="655308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44000" tIns="3600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 Siemen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7949880" y="5657760"/>
            <a:ext cx="212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CM MP CCQ SLI  Matthias Wilt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logo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2819160"/>
            <a:ext cx="5638680" cy="16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7949880" y="5657760"/>
            <a:ext cx="212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CM MP CCQ SLI  Matthias Wilt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 algn="ctr">
              <a:lnSpc>
                <a:spcPts val="2200"/>
              </a:lnSpc>
              <a:spcAft>
                <a:spcPts val="400"/>
              </a:spcAft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42840" algn="ctr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•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3" marL="1371600" indent="65160" algn="ctr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–"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4" marL="1828800" indent="87480" algn="ctr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»"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5" marL="1828800" indent="874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6" marL="1828800" indent="874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19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22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23.png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24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8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9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90560" y="5654160"/>
            <a:ext cx="16002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ff"/>
                </a:solidFill>
                <a:latin typeface="Arial"/>
              </a:rPr>
              <a:t>C6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90720" y="1371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177920" y="2438280"/>
          <a:ext cx="1184400" cy="27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7920" y="2438280"/>
                    <a:ext cx="1184400" cy="27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4" name=""/>
          <p:cNvGrpSpPr/>
          <p:nvPr/>
        </p:nvGrpSpPr>
        <p:grpSpPr>
          <a:xfrm>
            <a:off x="1287360" y="5334120"/>
            <a:ext cx="922320" cy="1334880"/>
            <a:chOff x="1287360" y="5334120"/>
            <a:chExt cx="922320" cy="1334880"/>
          </a:xfrm>
        </p:grpSpPr>
        <p:sp>
          <p:nvSpPr>
            <p:cNvPr id="95" name=""/>
            <p:cNvSpPr/>
            <p:nvPr/>
          </p:nvSpPr>
          <p:spPr>
            <a:xfrm>
              <a:off x="1330200" y="5534640"/>
              <a:ext cx="595800" cy="689040"/>
            </a:xfrm>
            <a:prstGeom prst="rect">
              <a:avLst/>
            </a:prstGeom>
            <a:solidFill>
              <a:srgbClr val="fb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26000" y="5949360"/>
              <a:ext cx="225360" cy="518400"/>
            </a:xfrm>
            <a:prstGeom prst="rect">
              <a:avLst/>
            </a:prstGeom>
            <a:solidFill>
              <a:srgbClr val="fb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4"/>
            <a:stretch/>
          </p:blipFill>
          <p:spPr>
            <a:xfrm>
              <a:off x="1287360" y="5334120"/>
              <a:ext cx="922320" cy="1334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22200" y="1859040"/>
            <a:ext cx="4264200" cy="42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457200" indent="-457200">
              <a:lnSpc>
                <a:spcPts val="2398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b5d"/>
                </a:solidFill>
                <a:latin typeface="Arial"/>
              </a:rPr>
              <a:t>Colour 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2398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2398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b5d"/>
                </a:solidFill>
                <a:latin typeface="Arial"/>
              </a:rPr>
              <a:t>Target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2398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2398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b5d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2398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2398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b5d"/>
                </a:solidFill>
                <a:latin typeface="Arial"/>
              </a:rPr>
              <a:t>Highl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2398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2398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b5d"/>
                </a:solidFill>
                <a:latin typeface="Arial"/>
              </a:rPr>
              <a:t>Access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2398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2398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b5d"/>
                </a:solidFill>
                <a:latin typeface="Arial"/>
              </a:rPr>
              <a:t>G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2398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ts val="2398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8120" y="1646280"/>
            <a:ext cx="4130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rry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3459240"/>
            <a:ext cx="18511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geon B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3360" y="5638680"/>
            <a:ext cx="1819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gle W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760" y="-12960"/>
            <a:ext cx="7391520" cy="990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olour Concep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2280" y="1066680"/>
          <a:ext cx="2448000" cy="162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066680"/>
                    <a:ext cx="2448000" cy="16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572000" y="2752560"/>
          <a:ext cx="2552760" cy="1743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2752560"/>
                    <a:ext cx="255276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52280" y="4857840"/>
          <a:ext cx="2409840" cy="1695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2280" y="4857840"/>
                    <a:ext cx="2409840" cy="16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Bubble3" descr=""/>
          <p:cNvPicPr/>
          <p:nvPr/>
        </p:nvPicPr>
        <p:blipFill>
          <a:blip r:embed="rId2">
            <a:lum bright="6000"/>
          </a:blip>
          <a:srcRect l="10683" t="10563" r="10734" b="13004"/>
          <a:stretch/>
        </p:blipFill>
        <p:spPr>
          <a:xfrm>
            <a:off x="687240" y="4267080"/>
            <a:ext cx="1293840" cy="1298520"/>
          </a:xfrm>
          <a:prstGeom prst="rect">
            <a:avLst/>
          </a:prstGeom>
          <a:ln w="0">
            <a:noFill/>
          </a:ln>
        </p:spPr>
      </p:pic>
      <p:pic>
        <p:nvPicPr>
          <p:cNvPr id="111" name="Bubble3" descr=""/>
          <p:cNvPicPr/>
          <p:nvPr/>
        </p:nvPicPr>
        <p:blipFill>
          <a:blip r:embed="rId3">
            <a:lum bright="6000"/>
          </a:blip>
          <a:srcRect l="10683" t="10563" r="10734" b="13004"/>
          <a:stretch/>
        </p:blipFill>
        <p:spPr>
          <a:xfrm>
            <a:off x="1847880" y="2054160"/>
            <a:ext cx="1293840" cy="1298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863720" y="2057400"/>
            <a:ext cx="1268280" cy="1263600"/>
          </a:xfrm>
          <a:prstGeom prst="ellipse">
            <a:avLst/>
          </a:prstGeom>
          <a:noFill/>
          <a:ln w="57240">
            <a:solidFill>
              <a:srgbClr val="bae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34000" y="2422440"/>
            <a:ext cx="913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Product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52080" y="2439360"/>
            <a:ext cx="35319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ic Emotion (C-Class) fo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"Younger Peer Group Centric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7240" y="4267080"/>
            <a:ext cx="1268640" cy="1263600"/>
          </a:xfrm>
          <a:prstGeom prst="ellipse">
            <a:avLst/>
          </a:prstGeom>
          <a:noFill/>
          <a:ln w="57240">
            <a:solidFill>
              <a:srgbClr val="bae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84880" y="4510440"/>
            <a:ext cx="8618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ocio-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demo-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5320" y="4292640"/>
            <a:ext cx="36846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668160" indent="-380880">
              <a:lnSpc>
                <a:spcPts val="22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le &lt; Fem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380880">
              <a:lnSpc>
                <a:spcPts val="22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8 - 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380880">
              <a:lnSpc>
                <a:spcPts val="22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to mid inc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380880">
              <a:lnSpc>
                <a:spcPts val="22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us on private u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7386480" y="987480"/>
            <a:ext cx="1755720" cy="5560920"/>
            <a:chOff x="7386480" y="987480"/>
            <a:chExt cx="1755720" cy="5560920"/>
          </a:xfrm>
        </p:grpSpPr>
        <p:graphicFrame>
          <p:nvGraphicFramePr>
            <p:cNvPr id="119" name=""/>
            <p:cNvGraphicFramePr/>
            <p:nvPr/>
          </p:nvGraphicFramePr>
          <p:xfrm>
            <a:off x="7389360" y="987480"/>
            <a:ext cx="1751040" cy="1265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389360" y="987480"/>
                      <a:ext cx="1751040" cy="12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1" name="14%20copie" descr=""/>
            <p:cNvPicPr/>
            <p:nvPr/>
          </p:nvPicPr>
          <p:blipFill>
            <a:blip r:embed="rId6"/>
            <a:srcRect l="0" t="0" r="0" b="7240"/>
            <a:stretch/>
          </p:blipFill>
          <p:spPr>
            <a:xfrm>
              <a:off x="7386480" y="3852720"/>
              <a:ext cx="1753920" cy="12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7"/>
            <a:stretch/>
          </p:blipFill>
          <p:spPr>
            <a:xfrm>
              <a:off x="7387920" y="2419200"/>
              <a:ext cx="1752480" cy="12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996_SIE_01_EINKAUF" descr=""/>
            <p:cNvPicPr/>
            <p:nvPr/>
          </p:nvPicPr>
          <p:blipFill>
            <a:blip r:embed="rId8"/>
            <a:stretch/>
          </p:blipFill>
          <p:spPr>
            <a:xfrm>
              <a:off x="7387920" y="5284800"/>
              <a:ext cx="1754280" cy="1263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4" name="" descr=""/>
          <p:cNvPicPr/>
          <p:nvPr/>
        </p:nvPicPr>
        <p:blipFill>
          <a:blip r:embed="rId9"/>
          <a:srcRect l="0" t="0" r="647" b="0"/>
          <a:stretch/>
        </p:blipFill>
        <p:spPr>
          <a:xfrm>
            <a:off x="7386480" y="3852720"/>
            <a:ext cx="1757520" cy="1266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Target Group overvie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 flipH="1" rot="5400000">
            <a:off x="-1452960" y="3407040"/>
            <a:ext cx="5554440" cy="704880"/>
          </a:xfrm>
          <a:custGeom>
            <a:avLst/>
            <a:gdLst>
              <a:gd name="textAreaLeft" fmla="*/ 1221480 w 5554440"/>
              <a:gd name="textAreaRight" fmla="*/ 4332960 w 5554440"/>
              <a:gd name="textAreaTop" fmla="*/ 154800 h 704880"/>
              <a:gd name="textAreaBottom" fmla="*/ 550080 h 70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5da9c9"/>
              </a:gs>
              <a:gs pos="100000">
                <a:srgbClr val="bae4e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992160"/>
            <a:ext cx="1828800" cy="69372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9360">
            <a:solidFill>
              <a:srgbClr val="c6d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4440" y="992160"/>
            <a:ext cx="389916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c6d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43320" y="1219680"/>
            <a:ext cx="1247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27360" y="1074600"/>
            <a:ext cx="340524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ng, trendy bar ph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exchangeable co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1685880"/>
            <a:ext cx="1807920" cy="69228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9360">
            <a:solidFill>
              <a:srgbClr val="c6d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84440" y="1685880"/>
            <a:ext cx="389916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6d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9160" y="1788480"/>
            <a:ext cx="732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eight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olu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27360" y="1763640"/>
            <a:ext cx="340524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85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 cm³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: 101 x 44 x 20 [mm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2378160"/>
            <a:ext cx="1807920" cy="69372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9360">
            <a:solidFill>
              <a:srgbClr val="c6d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84440" y="2378160"/>
            <a:ext cx="389916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c6d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2618280"/>
            <a:ext cx="191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ndby/Talk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27360" y="2619720"/>
            <a:ext cx="340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up to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50 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h / 4,5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3071880"/>
            <a:ext cx="1807920" cy="69372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9360">
            <a:solidFill>
              <a:srgbClr val="c6d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84440" y="3071880"/>
            <a:ext cx="389916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c6d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44040" y="3305520"/>
            <a:ext cx="161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ss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27360" y="3183840"/>
            <a:ext cx="3405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MS, picture messaging EMS, extra long SMS, and SMS to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3765600"/>
            <a:ext cx="1807920" cy="69228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9360">
            <a:solidFill>
              <a:srgbClr val="c6d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84440" y="3765600"/>
            <a:ext cx="389916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6d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44400" y="4003920"/>
            <a:ext cx="1878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 Trans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27360" y="4003920"/>
            <a:ext cx="340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GPRS Multislot Class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4457880"/>
            <a:ext cx="1807920" cy="69372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9360">
            <a:solidFill>
              <a:srgbClr val="c6d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84440" y="4457880"/>
            <a:ext cx="389916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c6d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42960" y="4685040"/>
            <a:ext cx="131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m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27360" y="4563360"/>
            <a:ext cx="3405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ttachable QuickPic Camera with flash as access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5151600"/>
            <a:ext cx="1807920" cy="69192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9360">
            <a:solidFill>
              <a:srgbClr val="c6d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84440" y="5151600"/>
            <a:ext cx="3899160" cy="691920"/>
          </a:xfrm>
          <a:prstGeom prst="rect">
            <a:avLst/>
          </a:prstGeom>
          <a:solidFill>
            <a:srgbClr val="ffffff"/>
          </a:solidFill>
          <a:ln w="9360">
            <a:solidFill>
              <a:srgbClr val="c6d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28800" y="5393160"/>
            <a:ext cx="149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spla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27360" y="5269680"/>
            <a:ext cx="40687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128 x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28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4k colors, 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7 line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, white lightening (26,5 mm x 26,5m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5843520"/>
            <a:ext cx="1807920" cy="69372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9360">
            <a:solidFill>
              <a:srgbClr val="c6d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84440" y="5843520"/>
            <a:ext cx="389916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c6d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44760" y="6074280"/>
            <a:ext cx="208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net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27360" y="6074280"/>
            <a:ext cx="340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Wap 1.2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52280" y="1819440"/>
          <a:ext cx="1495440" cy="341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819440"/>
                    <a:ext cx="1495440" cy="34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30480" y="4416480"/>
            <a:ext cx="1817640" cy="112068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9360">
            <a:solidFill>
              <a:srgbClr val="bae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8440" y="4611960"/>
            <a:ext cx="9259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xcellent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Value for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05000" y="4416480"/>
            <a:ext cx="3733920" cy="1120680"/>
          </a:xfrm>
          <a:prstGeom prst="rect">
            <a:avLst/>
          </a:prstGeom>
          <a:solidFill>
            <a:srgbClr val="ffffff"/>
          </a:solidFill>
          <a:ln w="9360">
            <a:solidFill>
              <a:srgbClr val="bae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4620960"/>
            <a:ext cx="3530520" cy="9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230040" indent="-228600">
              <a:lnSpc>
                <a:spcPct val="100000"/>
              </a:lnSpc>
              <a:spcBef>
                <a:spcPts val="176"/>
              </a:spcBef>
              <a:buClr>
                <a:srgbClr val="3d597a"/>
              </a:buClr>
              <a:buSzPct val="120000"/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ull color for the mass 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228600">
              <a:lnSpc>
                <a:spcPct val="100000"/>
              </a:lnSpc>
              <a:spcBef>
                <a:spcPts val="176"/>
              </a:spcBef>
              <a:buClr>
                <a:srgbClr val="3d597a"/>
              </a:buClr>
              <a:buSzPct val="120000"/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est price/performance r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228600">
              <a:lnSpc>
                <a:spcPct val="100000"/>
              </a:lnSpc>
              <a:spcBef>
                <a:spcPts val="176"/>
              </a:spcBef>
              <a:buClr>
                <a:srgbClr val="3d597a"/>
              </a:buClr>
              <a:buSzPct val="120000"/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Young, trendy design and keyp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22860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th crossbe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31920" y="3890880"/>
            <a:ext cx="1816200" cy="71928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9360">
            <a:solidFill>
              <a:srgbClr val="bae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8080" y="3979800"/>
            <a:ext cx="1670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olyphonic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in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05000" y="3890880"/>
            <a:ext cx="37339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bae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4041360"/>
            <a:ext cx="35305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230040" indent="-228600">
              <a:lnSpc>
                <a:spcPct val="100000"/>
              </a:lnSpc>
              <a:spcBef>
                <a:spcPts val="176"/>
              </a:spcBef>
              <a:buClr>
                <a:srgbClr val="3d597a"/>
              </a:buClr>
              <a:buSzPct val="120000"/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 chord polyphonics give vivid sound to ringer and g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31920" y="3051000"/>
            <a:ext cx="1816200" cy="84780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9360">
            <a:solidFill>
              <a:srgbClr val="bae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78800" y="3282840"/>
            <a:ext cx="1014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motional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05000" y="3051000"/>
            <a:ext cx="3733920" cy="8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bae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76720" y="3162960"/>
            <a:ext cx="35305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230040" indent="-228600">
              <a:lnSpc>
                <a:spcPct val="100000"/>
              </a:lnSpc>
              <a:spcBef>
                <a:spcPts val="176"/>
              </a:spcBef>
              <a:buClr>
                <a:srgbClr val="3d597a"/>
              </a:buClr>
              <a:buSzPct val="120000"/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d and receive color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228600">
              <a:lnSpc>
                <a:spcPct val="100000"/>
              </a:lnSpc>
              <a:spcBef>
                <a:spcPts val="176"/>
              </a:spcBef>
              <a:buClr>
                <a:srgbClr val="3d597a"/>
              </a:buClr>
              <a:buSzPct val="120000"/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oice recording  for M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228600">
              <a:lnSpc>
                <a:spcPct val="100000"/>
              </a:lnSpc>
              <a:spcBef>
                <a:spcPts val="176"/>
              </a:spcBef>
              <a:buClr>
                <a:srgbClr val="3d597a"/>
              </a:buClr>
              <a:buSzPct val="120000"/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ling im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577920" y="3154320"/>
            <a:ext cx="810720" cy="803520"/>
            <a:chOff x="6577920" y="3154320"/>
            <a:chExt cx="810720" cy="803520"/>
          </a:xfrm>
        </p:grpSpPr>
        <p:sp>
          <p:nvSpPr>
            <p:cNvPr id="175" name=""/>
            <p:cNvSpPr/>
            <p:nvPr/>
          </p:nvSpPr>
          <p:spPr>
            <a:xfrm rot="2539800">
              <a:off x="6670440" y="3297240"/>
              <a:ext cx="625320" cy="517320"/>
            </a:xfrm>
            <a:prstGeom prst="irregularSeal2">
              <a:avLst/>
            </a:prstGeom>
            <a:solidFill>
              <a:srgbClr val="ff8200"/>
            </a:solidFill>
            <a:ln w="0">
              <a:noFill/>
            </a:ln>
            <a:effectLst>
              <a:outerShdw dist="17819" dir="2700000" blurRad="0" rotWithShape="0">
                <a:srgbClr val="984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83120" y="3463920"/>
              <a:ext cx="35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231920" y="1028880"/>
            <a:ext cx="1816200" cy="101088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9360">
            <a:solidFill>
              <a:srgbClr val="bae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8800" y="1260360"/>
            <a:ext cx="747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olor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05000" y="1028880"/>
            <a:ext cx="3733920" cy="1010880"/>
          </a:xfrm>
          <a:prstGeom prst="rect">
            <a:avLst/>
          </a:prstGeom>
          <a:solidFill>
            <a:srgbClr val="ffffff"/>
          </a:solidFill>
          <a:ln w="9360">
            <a:solidFill>
              <a:srgbClr val="bae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76720" y="1193040"/>
            <a:ext cx="35305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230040" indent="-228600">
              <a:lnSpc>
                <a:spcPct val="100000"/>
              </a:lnSpc>
              <a:spcBef>
                <a:spcPts val="176"/>
              </a:spcBef>
              <a:buClr>
                <a:srgbClr val="3d597a"/>
              </a:buClr>
              <a:buSzPct val="120000"/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joy rich color with 128 x 128 pix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228600">
              <a:lnSpc>
                <a:spcPct val="100000"/>
              </a:lnSpc>
              <a:spcBef>
                <a:spcPts val="176"/>
              </a:spcBef>
              <a:buClr>
                <a:srgbClr val="3d597a"/>
              </a:buClr>
              <a:buSzPct val="120000"/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k colors in menu and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228600">
              <a:lnSpc>
                <a:spcPct val="100000"/>
              </a:lnSpc>
              <a:spcBef>
                <a:spcPts val="176"/>
              </a:spcBef>
              <a:buClr>
                <a:srgbClr val="3d597a"/>
              </a:buClr>
              <a:buSzPct val="120000"/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ite illumination, 7 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577920" y="1131840"/>
            <a:ext cx="810720" cy="803520"/>
            <a:chOff x="6577920" y="1131840"/>
            <a:chExt cx="810720" cy="803520"/>
          </a:xfrm>
        </p:grpSpPr>
        <p:sp>
          <p:nvSpPr>
            <p:cNvPr id="182" name=""/>
            <p:cNvSpPr/>
            <p:nvPr/>
          </p:nvSpPr>
          <p:spPr>
            <a:xfrm rot="2539800">
              <a:off x="6670440" y="1274760"/>
              <a:ext cx="625320" cy="517320"/>
            </a:xfrm>
            <a:prstGeom prst="irregularSeal2">
              <a:avLst/>
            </a:prstGeom>
            <a:solidFill>
              <a:srgbClr val="ff8200"/>
            </a:solidFill>
            <a:ln w="0">
              <a:noFill/>
            </a:ln>
            <a:effectLst>
              <a:outerShdw dist="17819" dir="2700000" blurRad="0" rotWithShape="0">
                <a:srgbClr val="984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83120" y="1441440"/>
              <a:ext cx="35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1231920" y="2039760"/>
            <a:ext cx="1816200" cy="101124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9360">
            <a:solidFill>
              <a:srgbClr val="bae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79520" y="2271600"/>
            <a:ext cx="1419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hare Special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o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05000" y="2039760"/>
            <a:ext cx="3733920" cy="1011240"/>
          </a:xfrm>
          <a:prstGeom prst="rect">
            <a:avLst/>
          </a:prstGeom>
          <a:solidFill>
            <a:srgbClr val="ffffff"/>
          </a:solidFill>
          <a:ln w="9360">
            <a:solidFill>
              <a:srgbClr val="bae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2120040"/>
            <a:ext cx="353052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230040" indent="-228600">
              <a:lnSpc>
                <a:spcPct val="100000"/>
              </a:lnSpc>
              <a:spcBef>
                <a:spcPts val="176"/>
              </a:spcBef>
              <a:buClr>
                <a:srgbClr val="3d597a"/>
              </a:buClr>
              <a:buSzPct val="120000"/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achable QuickPic Camera with flash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ke color pictures of your famil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friends and share real momen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6601680" y="4692600"/>
            <a:ext cx="810720" cy="803520"/>
            <a:chOff x="6601680" y="4692600"/>
            <a:chExt cx="810720" cy="803520"/>
          </a:xfrm>
        </p:grpSpPr>
        <p:sp>
          <p:nvSpPr>
            <p:cNvPr id="189" name=""/>
            <p:cNvSpPr/>
            <p:nvPr/>
          </p:nvSpPr>
          <p:spPr>
            <a:xfrm rot="2539800">
              <a:off x="6694200" y="4835520"/>
              <a:ext cx="625320" cy="517320"/>
            </a:xfrm>
            <a:prstGeom prst="irregularSeal2">
              <a:avLst/>
            </a:prstGeom>
            <a:solidFill>
              <a:srgbClr val="ff8200"/>
            </a:solidFill>
            <a:ln w="0">
              <a:noFill/>
            </a:ln>
            <a:effectLst>
              <a:outerShdw dist="17819" dir="2700000" blurRad="0" rotWithShape="0">
                <a:srgbClr val="984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06880" y="5002200"/>
              <a:ext cx="35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1241280" y="5526000"/>
            <a:ext cx="1806840" cy="95400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9360">
            <a:solidFill>
              <a:srgbClr val="bae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14720" y="5537160"/>
            <a:ext cx="37339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bae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31720" y="5644440"/>
            <a:ext cx="10004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Be be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organ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00480" y="5532840"/>
            <a:ext cx="403380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230040" indent="-228600">
              <a:lnSpc>
                <a:spcPct val="100000"/>
              </a:lnSpc>
              <a:spcBef>
                <a:spcPts val="176"/>
              </a:spcBef>
              <a:buClr>
                <a:srgbClr val="3d597a"/>
              </a:buClr>
              <a:buSzPct val="120000"/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enda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228600">
              <a:lnSpc>
                <a:spcPct val="100000"/>
              </a:lnSpc>
              <a:spcBef>
                <a:spcPts val="176"/>
              </a:spcBef>
              <a:buClr>
                <a:srgbClr val="3d597a"/>
              </a:buClr>
              <a:buSzPct val="120000"/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cul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228600">
              <a:lnSpc>
                <a:spcPct val="100000"/>
              </a:lnSpc>
              <a:spcBef>
                <a:spcPts val="176"/>
              </a:spcBef>
              <a:buClr>
                <a:srgbClr val="3d597a"/>
              </a:buClr>
              <a:buSzPct val="120000"/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arm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228600">
              <a:lnSpc>
                <a:spcPct val="100000"/>
              </a:lnSpc>
              <a:spcBef>
                <a:spcPts val="176"/>
              </a:spcBef>
              <a:buClr>
                <a:srgbClr val="3d597a"/>
              </a:buClr>
              <a:buSzPct val="120000"/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gital Mem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22860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7554960" y="2249640"/>
          <a:ext cx="1284120" cy="293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4960" y="2249640"/>
                    <a:ext cx="1284120" cy="29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Highligh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892840" y="4989600"/>
            <a:ext cx="1411200" cy="1423800"/>
          </a:xfrm>
          <a:custGeom>
            <a:avLst/>
            <a:gdLst>
              <a:gd name="textAreaLeft" fmla="*/ 0 w 1411200"/>
              <a:gd name="textAreaRight" fmla="*/ 1411560 w 1411200"/>
              <a:gd name="textAreaTop" fmla="*/ 0 h 1423800"/>
              <a:gd name="textAreaBottom" fmla="*/ 1424160 h 14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da9c9"/>
              </a:gs>
              <a:gs pos="100000">
                <a:srgbClr val="bae4e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83080" y="4989600"/>
            <a:ext cx="1554120" cy="1423800"/>
          </a:xfrm>
          <a:custGeom>
            <a:avLst/>
            <a:gdLst>
              <a:gd name="textAreaLeft" fmla="*/ 0 w 1554120"/>
              <a:gd name="textAreaRight" fmla="*/ 1554480 w 1554120"/>
              <a:gd name="textAreaTop" fmla="*/ 0 h 1423800"/>
              <a:gd name="textAreaBottom" fmla="*/ 1424160 h 14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26" y="0"/>
                </a:lnTo>
                <a:lnTo>
                  <a:pt x="21600" y="10800"/>
                </a:lnTo>
                <a:lnTo>
                  <a:pt x="1802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da9c9"/>
              </a:gs>
              <a:gs pos="100000">
                <a:srgbClr val="bae4e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7618320" y="1781280"/>
            <a:ext cx="1289160" cy="4221000"/>
            <a:chOff x="7618320" y="1781280"/>
            <a:chExt cx="1289160" cy="4221000"/>
          </a:xfrm>
        </p:grpSpPr>
        <p:grpSp>
          <p:nvGrpSpPr>
            <p:cNvPr id="201" name=""/>
            <p:cNvGrpSpPr/>
            <p:nvPr/>
          </p:nvGrpSpPr>
          <p:grpSpPr>
            <a:xfrm>
              <a:off x="7742160" y="4564080"/>
              <a:ext cx="1041480" cy="1438200"/>
              <a:chOff x="7742160" y="4564080"/>
              <a:chExt cx="1041480" cy="1438200"/>
            </a:xfrm>
          </p:grpSpPr>
          <p:sp>
            <p:nvSpPr>
              <p:cNvPr id="202" name=""/>
              <p:cNvSpPr/>
              <p:nvPr/>
            </p:nvSpPr>
            <p:spPr>
              <a:xfrm>
                <a:off x="8618400" y="4671720"/>
                <a:ext cx="157320" cy="900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618400" y="4574880"/>
                <a:ext cx="157320" cy="517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04" name=""/>
              <p:cNvGraphicFramePr/>
              <p:nvPr/>
            </p:nvGraphicFramePr>
            <p:xfrm>
              <a:off x="7742160" y="4564080"/>
              <a:ext cx="1041480" cy="14382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05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742160" y="4564080"/>
                        <a:ext cx="1041480" cy="1438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206" name=""/>
            <p:cNvGrpSpPr/>
            <p:nvPr/>
          </p:nvGrpSpPr>
          <p:grpSpPr>
            <a:xfrm>
              <a:off x="7618320" y="1781280"/>
              <a:ext cx="1289160" cy="2857320"/>
              <a:chOff x="7618320" y="1781280"/>
              <a:chExt cx="1289160" cy="2857320"/>
            </a:xfrm>
          </p:grpSpPr>
          <p:sp>
            <p:nvSpPr>
              <p:cNvPr id="207" name=""/>
              <p:cNvSpPr/>
              <p:nvPr/>
            </p:nvSpPr>
            <p:spPr>
              <a:xfrm>
                <a:off x="7734960" y="1913760"/>
                <a:ext cx="1046160" cy="2582280"/>
              </a:xfrm>
              <a:custGeom>
                <a:avLst/>
                <a:gdLst>
                  <a:gd name="textAreaLeft" fmla="*/ 115920 w 1046160"/>
                  <a:gd name="textAreaRight" fmla="*/ 930240 w 1046160"/>
                  <a:gd name="textAreaTop" fmla="*/ 115920 h 2582280"/>
                  <a:gd name="textAreaBottom" fmla="*/ 2466360 h 2582280"/>
                </a:gdLst>
                <a:ahLst/>
                <a:rect l="textAreaLeft" t="textAreaTop" r="textAreaRight" b="textAreaBottom"/>
                <a:pathLst>
                  <a:path w="21600" h="53305">
                    <a:moveTo>
                      <a:pt x="8192" y="0"/>
                    </a:moveTo>
                    <a:arcTo wR="8192" hR="8192" stAng="16200000" swAng="-5400000"/>
                    <a:lnTo>
                      <a:pt x="0" y="45113"/>
                    </a:lnTo>
                    <a:arcTo wR="8192" hR="8192" stAng="10800000" swAng="-5400000"/>
                    <a:lnTo>
                      <a:pt x="13408" y="53305"/>
                    </a:lnTo>
                    <a:arcTo wR="8192" hR="8192" stAng="5400000" swAng="-5400000"/>
                    <a:lnTo>
                      <a:pt x="21600" y="8192"/>
                    </a:lnTo>
                    <a:arcTo wR="8192" hR="8192" stAng="0" swAng="-5400000"/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8" name="C62_Eagle%20White_Blue" descr=""/>
              <p:cNvPicPr/>
              <p:nvPr/>
            </p:nvPicPr>
            <p:blipFill>
              <a:blip r:embed="rId4"/>
              <a:stretch/>
            </p:blipFill>
            <p:spPr>
              <a:xfrm>
                <a:off x="7618320" y="1781280"/>
                <a:ext cx="1289160" cy="285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09" name=""/>
          <p:cNvGrpSpPr/>
          <p:nvPr/>
        </p:nvGrpSpPr>
        <p:grpSpPr>
          <a:xfrm>
            <a:off x="5082120" y="2715840"/>
            <a:ext cx="1967040" cy="1989000"/>
            <a:chOff x="5082120" y="2715840"/>
            <a:chExt cx="1967040" cy="1989000"/>
          </a:xfrm>
        </p:grpSpPr>
        <p:sp>
          <p:nvSpPr>
            <p:cNvPr id="210" name=""/>
            <p:cNvSpPr/>
            <p:nvPr/>
          </p:nvSpPr>
          <p:spPr>
            <a:xfrm rot="2539800">
              <a:off x="5449680" y="2925720"/>
              <a:ext cx="1231560" cy="1568880"/>
            </a:xfrm>
            <a:prstGeom prst="irregularSeal2">
              <a:avLst/>
            </a:prstGeom>
            <a:solidFill>
              <a:srgbClr val="ff8200"/>
            </a:solidFill>
            <a:ln w="0">
              <a:noFill/>
            </a:ln>
            <a:effectLst>
              <a:outerShdw dist="17819" dir="2700000" blurRad="0" rotWithShape="0">
                <a:srgbClr val="984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672880" y="3613680"/>
              <a:ext cx="526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" name="" descr="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7880400" y="2403360"/>
            <a:ext cx="809640" cy="7365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483080" y="4989600"/>
            <a:ext cx="1554120" cy="1423800"/>
          </a:xfrm>
          <a:custGeom>
            <a:avLst/>
            <a:gdLst>
              <a:gd name="textAreaLeft" fmla="*/ 0 w 1554120"/>
              <a:gd name="textAreaRight" fmla="*/ 1554480 w 1554120"/>
              <a:gd name="textAreaTop" fmla="*/ 0 h 1423800"/>
              <a:gd name="textAreaBottom" fmla="*/ 1424160 h 14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26" y="0"/>
                </a:lnTo>
                <a:lnTo>
                  <a:pt x="21600" y="10800"/>
                </a:lnTo>
                <a:lnTo>
                  <a:pt x="1802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da9c9"/>
              </a:gs>
              <a:gs pos="100000">
                <a:srgbClr val="bae4e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32440" y="4995720"/>
            <a:ext cx="1554120" cy="1424160"/>
          </a:xfrm>
          <a:custGeom>
            <a:avLst/>
            <a:gdLst>
              <a:gd name="textAreaLeft" fmla="*/ 0 w 1554120"/>
              <a:gd name="textAreaRight" fmla="*/ 1554480 w 1554120"/>
              <a:gd name="textAreaTop" fmla="*/ 0 h 1424160"/>
              <a:gd name="textAreaBottom" fmla="*/ 1424520 h 142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26" y="0"/>
                </a:lnTo>
                <a:lnTo>
                  <a:pt x="21600" y="10800"/>
                </a:lnTo>
                <a:lnTo>
                  <a:pt x="1802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da9c9"/>
              </a:gs>
              <a:gs pos="100000">
                <a:srgbClr val="bae4e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73320" y="4989600"/>
            <a:ext cx="1554120" cy="1423800"/>
          </a:xfrm>
          <a:custGeom>
            <a:avLst/>
            <a:gdLst>
              <a:gd name="textAreaLeft" fmla="*/ 0 w 1554120"/>
              <a:gd name="textAreaRight" fmla="*/ 1554480 w 1554120"/>
              <a:gd name="textAreaTop" fmla="*/ 0 h 1423800"/>
              <a:gd name="textAreaBottom" fmla="*/ 1424160 h 14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26" y="0"/>
                </a:lnTo>
                <a:lnTo>
                  <a:pt x="21600" y="10800"/>
                </a:lnTo>
                <a:lnTo>
                  <a:pt x="1802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da9c9"/>
              </a:gs>
              <a:gs pos="100000">
                <a:srgbClr val="bae4e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63560" y="4989600"/>
            <a:ext cx="1554480" cy="1423800"/>
          </a:xfrm>
          <a:custGeom>
            <a:avLst/>
            <a:gdLst>
              <a:gd name="textAreaLeft" fmla="*/ 0 w 1554480"/>
              <a:gd name="textAreaRight" fmla="*/ 1554840 w 1554480"/>
              <a:gd name="textAreaTop" fmla="*/ 0 h 1423800"/>
              <a:gd name="textAreaBottom" fmla="*/ 1424160 h 14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26" y="0"/>
                </a:lnTo>
                <a:lnTo>
                  <a:pt x="21600" y="10800"/>
                </a:lnTo>
                <a:lnTo>
                  <a:pt x="1802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da9c9"/>
              </a:gs>
              <a:gs pos="100000">
                <a:srgbClr val="bae4e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4160" y="4989600"/>
            <a:ext cx="1554120" cy="1423800"/>
          </a:xfrm>
          <a:custGeom>
            <a:avLst/>
            <a:gdLst>
              <a:gd name="textAreaLeft" fmla="*/ 0 w 1554120"/>
              <a:gd name="textAreaRight" fmla="*/ 1554480 w 1554120"/>
              <a:gd name="textAreaTop" fmla="*/ 0 h 1423800"/>
              <a:gd name="textAreaBottom" fmla="*/ 1424160 h 14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26" y="0"/>
                </a:lnTo>
                <a:lnTo>
                  <a:pt x="21600" y="10800"/>
                </a:lnTo>
                <a:lnTo>
                  <a:pt x="1802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da9c9"/>
              </a:gs>
              <a:gs pos="100000">
                <a:srgbClr val="bae4e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4160" y="1206360"/>
            <a:ext cx="66164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fter the attachable QuickPic Camera with flash is attached and the camera application has been starte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6">
            <a:lum bright="12000"/>
          </a:blip>
          <a:stretch/>
        </p:blipFill>
        <p:spPr>
          <a:xfrm>
            <a:off x="1808280" y="5237280"/>
            <a:ext cx="1137960" cy="10396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3351240" y="5237280"/>
            <a:ext cx="1131840" cy="10396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8">
            <a:lum bright="12000"/>
          </a:blip>
          <a:stretch/>
        </p:blipFill>
        <p:spPr>
          <a:xfrm>
            <a:off x="415800" y="5237280"/>
            <a:ext cx="1141560" cy="10396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852120" y="4995720"/>
            <a:ext cx="26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1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73040" y="4995720"/>
            <a:ext cx="26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2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97200" y="4995720"/>
            <a:ext cx="26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3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82840" y="4995720"/>
            <a:ext cx="26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4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082120" y="2715840"/>
            <a:ext cx="1967040" cy="1989000"/>
            <a:chOff x="5082120" y="2715840"/>
            <a:chExt cx="1967040" cy="1989000"/>
          </a:xfrm>
        </p:grpSpPr>
        <p:sp>
          <p:nvSpPr>
            <p:cNvPr id="227" name=""/>
            <p:cNvSpPr/>
            <p:nvPr/>
          </p:nvSpPr>
          <p:spPr>
            <a:xfrm rot="2539800">
              <a:off x="5449680" y="2925720"/>
              <a:ext cx="1231560" cy="1568880"/>
            </a:xfrm>
            <a:prstGeom prst="irregularSeal2">
              <a:avLst/>
            </a:prstGeom>
            <a:solidFill>
              <a:srgbClr val="ff8200"/>
            </a:solidFill>
            <a:ln w="0">
              <a:noFill/>
            </a:ln>
            <a:effectLst>
              <a:outerShdw dist="17819" dir="2700000" blurRad="0" rotWithShape="0">
                <a:srgbClr val="984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72880" y="3613680"/>
              <a:ext cx="526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561960" y="1760400"/>
            <a:ext cx="6450120" cy="31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     Take a photo.  Press RSK 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, scroll to functionality 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d via M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. 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 the required picture quality (hi-res / lo-r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     Press LSK 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, 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Recor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 select sound field – [This opens the Sound Recording application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      Press RSK 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o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cording starts immediately; Press LSK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Stop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 finish recording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 RSK 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 to play-back recorded mess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      In MMS application select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Options” -&gt; “Send”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       Fill in “Recipient”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 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vike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 to select subject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“Subjec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S message is now ready to be se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9">
            <a:lum bright="12000"/>
          </a:blip>
          <a:stretch/>
        </p:blipFill>
        <p:spPr>
          <a:xfrm>
            <a:off x="6037200" y="5249880"/>
            <a:ext cx="1138320" cy="1039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"/>
          <p:cNvGraphicFramePr/>
          <p:nvPr/>
        </p:nvGraphicFramePr>
        <p:xfrm>
          <a:off x="1776240" y="5388120"/>
          <a:ext cx="1170000" cy="888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776240" y="5388120"/>
                    <a:ext cx="11700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4767120" y="5270400"/>
          <a:ext cx="1165320" cy="1019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767120" y="5270400"/>
                    <a:ext cx="116532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6546600" y="4986360"/>
            <a:ext cx="26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5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808280" y="5249880"/>
          <a:ext cx="1170000" cy="1017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808280" y="5249880"/>
                    <a:ext cx="117000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MMS Picture and Sou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5586480" y="5276880"/>
            <a:ext cx="132444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patible wi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55 series 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60, C62, S55, M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62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5792760"/>
            <a:ext cx="466560" cy="208080"/>
          </a:xfrm>
          <a:prstGeom prst="rect">
            <a:avLst/>
          </a:prstGeom>
          <a:solidFill>
            <a:srgbClr val="ff8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5520" y="5487840"/>
            <a:ext cx="466560" cy="208080"/>
          </a:xfrm>
          <a:prstGeom prst="rect">
            <a:avLst/>
          </a:prstGeom>
          <a:solidFill>
            <a:srgbClr val="8cc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05520" y="6097680"/>
            <a:ext cx="466560" cy="207720"/>
          </a:xfrm>
          <a:prstGeom prst="rect">
            <a:avLst/>
          </a:prstGeom>
          <a:solidFill>
            <a:srgbClr val="69a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30280" y="3720960"/>
            <a:ext cx="954000" cy="613080"/>
          </a:xfrm>
          <a:prstGeom prst="rect">
            <a:avLst/>
          </a:prstGeom>
          <a:solidFill>
            <a:srgbClr val="8cc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ra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har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TC-500/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30280" y="4386240"/>
            <a:ext cx="954000" cy="612720"/>
          </a:xfrm>
          <a:prstGeom prst="rect">
            <a:avLst/>
          </a:prstGeom>
          <a:solidFill>
            <a:srgbClr val="8cc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ar Char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CC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30280" y="2376360"/>
            <a:ext cx="954000" cy="613080"/>
          </a:xfrm>
          <a:prstGeom prst="rect">
            <a:avLst/>
          </a:prstGeom>
          <a:solidFill>
            <a:srgbClr val="69a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i-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BA-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30280" y="3044880"/>
            <a:ext cx="954000" cy="612720"/>
          </a:xfrm>
          <a:prstGeom prst="rect">
            <a:avLst/>
          </a:prstGeom>
          <a:solidFill>
            <a:srgbClr val="69a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esk Top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EDS-600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68360" y="1220760"/>
            <a:ext cx="1077840" cy="662040"/>
          </a:xfrm>
          <a:prstGeom prst="rect">
            <a:avLst/>
          </a:prstGeom>
          <a:gradFill rotWithShape="0">
            <a:gsLst>
              <a:gs pos="0">
                <a:srgbClr val="69a2cb"/>
              </a:gs>
              <a:gs pos="100000">
                <a:srgbClr val="5282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02080" y="2376360"/>
            <a:ext cx="954000" cy="613080"/>
          </a:xfrm>
          <a:prstGeom prst="rect">
            <a:avLst/>
          </a:prstGeom>
          <a:solidFill>
            <a:srgbClr val="8cc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ead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HS-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40160" y="1220760"/>
            <a:ext cx="1077840" cy="662040"/>
          </a:xfrm>
          <a:prstGeom prst="rect">
            <a:avLst/>
          </a:prstGeom>
          <a:gradFill rotWithShape="0">
            <a:gsLst>
              <a:gs pos="0">
                <a:srgbClr val="69a2cb"/>
              </a:gs>
              <a:gs pos="100000">
                <a:srgbClr val="5282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andsfre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or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772080" y="3044880"/>
            <a:ext cx="954000" cy="612720"/>
          </a:xfrm>
          <a:prstGeom prst="rect">
            <a:avLst/>
          </a:prstGeom>
          <a:solidFill>
            <a:srgbClr val="8cc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asic C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KB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710160" y="1220760"/>
            <a:ext cx="1077840" cy="662040"/>
          </a:xfrm>
          <a:prstGeom prst="rect">
            <a:avLst/>
          </a:prstGeom>
          <a:gradFill rotWithShape="0">
            <a:gsLst>
              <a:gs pos="0">
                <a:srgbClr val="69a2cb"/>
              </a:gs>
              <a:gs pos="100000">
                <a:srgbClr val="5282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a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6760" y="3044880"/>
            <a:ext cx="954000" cy="612720"/>
          </a:xfrm>
          <a:prstGeom prst="rect">
            <a:avLst/>
          </a:prstGeom>
          <a:solidFill>
            <a:srgbClr val="8cc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e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ol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CL-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8360" y="1220760"/>
            <a:ext cx="1077840" cy="662040"/>
          </a:xfrm>
          <a:prstGeom prst="rect">
            <a:avLst/>
          </a:prstGeom>
          <a:gradFill rotWithShape="0">
            <a:gsLst>
              <a:gs pos="0">
                <a:srgbClr val="69a2cb"/>
              </a:gs>
              <a:gs pos="100000">
                <a:srgbClr val="5282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Fashion &am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ar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81600" y="1220760"/>
            <a:ext cx="1077840" cy="662040"/>
          </a:xfrm>
          <a:prstGeom prst="rect">
            <a:avLst/>
          </a:prstGeom>
          <a:gradFill rotWithShape="0">
            <a:gsLst>
              <a:gs pos="0">
                <a:srgbClr val="69a2cb"/>
              </a:gs>
              <a:gs pos="100000">
                <a:srgbClr val="5282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Multi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tai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943520" y="2376360"/>
            <a:ext cx="954000" cy="613080"/>
          </a:xfrm>
          <a:prstGeom prst="rect">
            <a:avLst/>
          </a:prstGeom>
          <a:solidFill>
            <a:srgbClr val="ff82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QuickP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Camer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QP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53040" y="1220760"/>
            <a:ext cx="1077840" cy="662040"/>
          </a:xfrm>
          <a:prstGeom prst="rect">
            <a:avLst/>
          </a:prstGeom>
          <a:gradFill rotWithShape="0">
            <a:gsLst>
              <a:gs pos="0">
                <a:srgbClr val="69a2cb"/>
              </a:gs>
              <a:gs pos="100000">
                <a:srgbClr val="5282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Off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14960" y="2376360"/>
            <a:ext cx="954000" cy="613080"/>
          </a:xfrm>
          <a:prstGeom prst="rect">
            <a:avLst/>
          </a:prstGeom>
          <a:solidFill>
            <a:srgbClr val="8cc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a C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S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CA-5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14960" y="3044880"/>
            <a:ext cx="954000" cy="612720"/>
          </a:xfrm>
          <a:prstGeom prst="rect">
            <a:avLst/>
          </a:prstGeom>
          <a:solidFill>
            <a:srgbClr val="8cc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a C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CA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6760" y="2362320"/>
            <a:ext cx="954000" cy="612720"/>
          </a:xfrm>
          <a:prstGeom prst="rect">
            <a:avLst/>
          </a:prstGeom>
          <a:solidFill>
            <a:srgbClr val="8cc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our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CT-6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6760" y="3733920"/>
            <a:ext cx="954000" cy="612720"/>
          </a:xfrm>
          <a:prstGeom prst="rect">
            <a:avLst/>
          </a:prstGeom>
          <a:solidFill>
            <a:srgbClr val="8cc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el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CL-5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6760" y="4419720"/>
            <a:ext cx="954000" cy="612720"/>
          </a:xfrm>
          <a:prstGeom prst="rect">
            <a:avLst/>
          </a:prstGeom>
          <a:solidFill>
            <a:srgbClr val="8cc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oop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CT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72080" y="2362320"/>
            <a:ext cx="954000" cy="612720"/>
          </a:xfrm>
          <a:prstGeom prst="rect">
            <a:avLst/>
          </a:prstGeom>
          <a:solidFill>
            <a:srgbClr val="8cc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ar K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KP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56240" y="6656400"/>
            <a:ext cx="13053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* backwards compati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ccessor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05520" y="5181480"/>
            <a:ext cx="466560" cy="228600"/>
          </a:xfrm>
          <a:prstGeom prst="rect">
            <a:avLst/>
          </a:prstGeom>
          <a:solidFill>
            <a:srgbClr val="4e5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77200" y="5062680"/>
            <a:ext cx="6181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</a:rPr>
              <a:t>Only C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54160" y="1447920"/>
            <a:ext cx="2414520" cy="36504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lling Game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68840" y="1434960"/>
            <a:ext cx="2197080" cy="39240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hevo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74600" y="4191120"/>
            <a:ext cx="2416320" cy="38088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id Guest 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4191120"/>
            <a:ext cx="2210040" cy="38088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tune Teller 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871800" y="4986360"/>
          <a:ext cx="1005120" cy="88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71800" y="4986360"/>
                    <a:ext cx="100512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4952880" y="4986360"/>
          <a:ext cx="1030320" cy="88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52880" y="4986360"/>
                    <a:ext cx="103032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838080" y="4876920"/>
          <a:ext cx="1295640" cy="1295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38080" y="4876920"/>
                    <a:ext cx="1295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838080" y="2133720"/>
          <a:ext cx="1295640" cy="1295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38080" y="2133720"/>
                    <a:ext cx="1295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4191120" y="2133720"/>
          <a:ext cx="1314360" cy="1304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191120" y="2133720"/>
                    <a:ext cx="1314360" cy="13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Gam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6121440"/>
            <a:ext cx="30481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668160" indent="-380880">
              <a:lnSpc>
                <a:spcPts val="2200"/>
              </a:lnSpc>
              <a:spcBef>
                <a:spcPts val="176"/>
              </a:spcBef>
              <a:spcAft>
                <a:spcPts val="400"/>
              </a:spcAft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)   APAC cont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49240" y="3692520"/>
            <a:ext cx="16650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)   EMEA cont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1T13:27:47Z</dcterms:created>
  <dc:creator>rasche</dc:creator>
  <dc:description/>
  <dc:language>en-US</dc:language>
  <cp:lastModifiedBy>Wilting1</cp:lastModifiedBy>
  <dcterms:modified xsi:type="dcterms:W3CDTF">2003-09-24T07:02:47Z</dcterms:modified>
  <cp:revision>121</cp:revision>
  <dc:subject/>
  <dc:title>S 4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36259468</vt:r8>
  </property>
  <property fmtid="{D5CDD505-2E9C-101B-9397-08002B2CF9AE}" pid="3" name="_AuthorEmail">
    <vt:lpwstr>matthias.wiltink@siemens.com</vt:lpwstr>
  </property>
  <property fmtid="{D5CDD505-2E9C-101B-9397-08002B2CF9AE}" pid="4" name="_AuthorEmailDisplayName">
    <vt:lpwstr>Wiltink Matthias ICM Bocholt</vt:lpwstr>
  </property>
  <property fmtid="{D5CDD505-2E9C-101B-9397-08002B2CF9AE}" pid="5" name="_EmailSubject">
    <vt:lpwstr>Communication Market</vt:lpwstr>
  </property>
</Properties>
</file>