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745788" cy="80391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2842920" y="533520"/>
            <a:ext cx="34621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move the slide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44E-0A9D-4F24-99C2-4002F3DFEEC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E47-C734-4299-B7A2-F5B15F72F19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512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960" y="3257280"/>
            <a:ext cx="73180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EE6-ABB5-44A9-8D31-E447EBDD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F3A-344C-483F-833D-2E0AC59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978-E73F-4E09-8DC7-F83E83FB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0CB-E2D4-4DAB-9175-78FC3CC0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70B-6CA1-4EEE-9A41-F19651BF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CC8B-712A-4577-B322-5149B53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C10F-7F0A-492F-85F5-840B79D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DE71-DFC5-4842-8E32-2F8DB5D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C3FE-018D-4A6C-A82F-F6158FF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0D1C-3CD9-452C-BBD3-F7E459A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D7C-5D7A-4DC5-B645-C5B7A60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23E-B1B4-41E8-B371-8BA92B45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C2E-E11F-4E05-BE04-F7CDCE9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05D2-5117-415A-853E-03DF62A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9876-DB07-4E4D-A4C9-7126AE8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01EC-7972-47E8-932E-4A5025FE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5F4B-493C-4E6D-8B23-9CC69E01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1476-B197-46D7-B11F-87DC5826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D7A7-2909-4B44-AEBF-94E73A2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5640-3A64-434E-B578-FC98D4D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2495-3A0A-45BB-BEDB-ABB7A749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6FA2-CCB8-4B56-B95D-F4D13E8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1AB-74D8-422C-B331-99AE7288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0BB2-942B-4FDD-8F92-03DB7B5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995E-AF5F-416D-B547-0B2DBC3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BD25-47E7-4C8C-A601-0488C79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F266-15D3-474B-8A5C-817C7C2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69E1-6DC3-4E75-ABCF-273B1C30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D980-5692-4F8D-9A4F-86393F7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AA69-5A03-40D4-B413-03C25230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BCB1-E448-4D2A-8E23-94BE54F8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4956-958B-43AE-927C-3D6B21F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5F0B-D2E9-4510-AF91-DAF44F9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526-A76C-40BA-8515-E1C1D54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569B-4F49-4462-B2A9-2EE43F9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C60E-C556-4D88-9E18-77B5D86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3EA5-6A22-460A-988B-449C94A3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9DE4-D807-40CA-AA83-F58E8E4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BE09-ADF5-4C0E-A0D6-B6A926F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F598-DB2F-4D72-B88E-69B02DE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E0D1-EFFF-4D3F-95F8-41188AED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848F-B732-49D3-BA53-3626E4E8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5E2E-F064-4F0C-8821-0AC31F71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BF5E-D06C-4817-8269-C34A2B92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DC4-5F61-4DCA-9286-E8B568A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D3A9-D083-43C1-94E3-84DB212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8C77-1D16-4DAF-B430-B14C6E7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2CBF-70EE-4777-A24D-C99227C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EB25-33FD-43E4-B059-625B09C8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6DF8-7511-424C-ACB9-52CBAD5C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ED06-7739-4689-A1BA-391F33D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C81F-084C-4B14-9915-AE125EF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060D4-D0BD-40BE-B36F-575F10C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4BD5-FA33-4B37-9D1A-0FAD634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4C4E-372E-407C-AC99-13246AC8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3F7-6C05-4A0D-8EEC-FDF3BBF7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0439-7488-4F5E-8299-03A319FA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996-778C-4453-8DC4-60E1AA0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0F1-86D1-4AD8-94A9-7BB994A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D37-F734-477B-8B91-B03F7F6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D0313C2E-0ADB-4FD5-ADE0-BBFC3EAE8DAC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1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6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BBEC8A20-FCFB-4668-94B0-AC8F93C753DD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78026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/08/26)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80D823A5-FC91-40BF-ABF6-8CE94C55BCF0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B3FAC529-3796-4F07-AB8A-6FD0AC698EFA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8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808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CD54785-001F-411B-8BC5-029454C66695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9200" y="5634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nion Bold"/>
              </a:rPr>
              <a:t>Feature Commitment vs. Project Du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603576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0" y="214776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214776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40640" y="214740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11200" y="3803760"/>
            <a:ext cx="7416720" cy="1152360"/>
          </a:xfrm>
          <a:custGeom>
            <a:avLst/>
            <a:gdLst/>
            <a:ahLst/>
            <a:rect l="l" t="t" r="r" b="b"/>
            <a:pathLst>
              <a:path w="4672" h="726">
                <a:moveTo>
                  <a:pt x="0" y="726"/>
                </a:moveTo>
                <a:cubicBezTo>
                  <a:pt x="268" y="605"/>
                  <a:pt x="537" y="484"/>
                  <a:pt x="1316" y="363"/>
                </a:cubicBezTo>
                <a:cubicBezTo>
                  <a:pt x="2095" y="242"/>
                  <a:pt x="4135" y="45"/>
                  <a:pt x="46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4280" y="2724120"/>
            <a:ext cx="7343640" cy="1150920"/>
          </a:xfrm>
          <a:custGeom>
            <a:avLst/>
            <a:gdLst/>
            <a:ahLst/>
            <a:rect l="l" t="t" r="r" b="b"/>
            <a:pathLst>
              <a:path w="4626" h="725">
                <a:moveTo>
                  <a:pt x="0" y="0"/>
                </a:moveTo>
                <a:cubicBezTo>
                  <a:pt x="272" y="98"/>
                  <a:pt x="544" y="196"/>
                  <a:pt x="1315" y="317"/>
                </a:cubicBezTo>
                <a:cubicBezTo>
                  <a:pt x="2086" y="438"/>
                  <a:pt x="4089" y="642"/>
                  <a:pt x="4626" y="72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8120" y="6297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67560" y="25066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ull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3920" y="6324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84280" y="2651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7560" y="4235400"/>
            <a:ext cx="288720" cy="2890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6280" y="3659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4240" y="45244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3320" y="308304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@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4240" y="25066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0830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9680" y="63244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7920" y="437976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09104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560" y="40910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400" y="452448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Chang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2:52:45Z</dcterms:created>
  <dc:creator>Apple Zhou</dc:creator>
  <dc:description/>
  <dc:language>en-US</dc:language>
  <cp:lastModifiedBy>Holger Asmussen</cp:lastModifiedBy>
  <dcterms:modified xsi:type="dcterms:W3CDTF">2006-02-01T20:22:31Z</dcterms:modified>
  <cp:revision>1045</cp:revision>
  <dc:subject/>
  <dc:title>PowerPoint 簡報</dc:title>
</cp:coreProperties>
</file>