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E58A-048B-4196-B4C2-D19B4CC7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A70C-3B39-4FE0-9148-A4003E90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9F02-152A-46FF-9A63-7634B848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D3AF-8D0D-4865-9851-C5E6C484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604C2-14D8-4244-BE9D-95E12B79AB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AC3E4-4A94-4623-AB63-5C4B8B3F09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9664C-3B09-4563-9250-619C4086F9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29480-857F-42F1-981A-B11003453B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364C2-9875-4EF3-B114-D2ADEFDFFE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223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D2268-1D9B-4669-B1AB-030EA938C1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A1400-458D-436C-9DAF-70E926AFB6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45DE-9375-43F2-A141-9194361F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26EAB-D154-4D7E-B744-A9D098AE3E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CE297-E117-41C5-A67A-44EDC112FD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DC256-854A-4BAD-9B47-B05020F48D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9BEFE-E561-4E1B-85B1-4869BDE65D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25B9F-0037-4DF8-ACC1-10BFD668B42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40A16B-5DC0-49E5-ADE2-F0E80197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5666D-F0CF-4301-8150-9C502C9E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0A79DB-98CC-4068-A37C-D63AB16F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F827D-C3F8-4FA6-8808-09981BFA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6B1EC5-75F2-4F99-8EFA-193EC8CB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43C8-F611-4839-AE46-1069B345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223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A9575-AF27-45A4-9D5E-0F4A461C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2A7D0C-BD07-41B9-B481-8F057A42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44CBF2-1648-4E61-910C-51EF4C22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B4FEF5-FAFB-4E9C-AE62-5EE4D37F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BD6426-479F-43CC-A9D3-208DBFBC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2BF337-DF6F-4FD1-8482-C923CBF4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C42BD2-F955-490D-927F-9158C200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CE6D-1742-4ABE-8EC7-758202F3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91C6-51F5-4351-A2FB-E9E2ED28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223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3A12-65C9-42BA-9498-676E5713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A284-4BCB-4FD2-8816-8ED448BF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4F86-675C-40CC-86B8-65EBD645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4285-036A-43E8-879A-89B82983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782B-CCC1-4540-B424-7B474692B636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03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Hoeckenreiner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239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0800" y="-33840"/>
            <a:ext cx="70102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9E21BC-EC55-4624-AF80-B2EA4A2FDA4C}" type="slidenum">
              <a:rPr b="0" lang="en-US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Arial Unicode MS"/>
              </a:rPr>
              <a:t>BenQ Confidential (2006/05/03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Arial Unicode MS"/>
              </a:rPr>
              <a:t>2005, Hoeckenreiner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44760" y="896760"/>
            <a:ext cx="7269120" cy="8424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25280" y="1657440"/>
            <a:ext cx="879336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4320" indent="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1" marL="184320" indent="-184320">
              <a:spcBef>
                <a:spcPts val="451"/>
              </a:spcBef>
              <a:buClr>
                <a:srgbClr val="3a0e66"/>
              </a:buClr>
              <a:buFont typeface="Wingdings" charset="2"/>
              <a:buChar char="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2" marL="184320" indent="-184320">
              <a:spcBef>
                <a:spcPts val="45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3" marL="184320" indent="-184320">
              <a:spcBef>
                <a:spcPts val="451"/>
              </a:spcBef>
              <a:buClr>
                <a:srgbClr val="3a0e66"/>
              </a:buClr>
              <a:buFont typeface="Wingdings" charset="2"/>
              <a:buChar char="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4" marL="184320" indent="-184320">
              <a:spcBef>
                <a:spcPts val="45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5" marL="184320" indent="-18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6" marL="184320" indent="-18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a0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a0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Arial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Arial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5751-24EE-4BCF-97EB-8DA2428BF03E}" type="slidenum">
              <a:rPr b="0" lang="en-US" sz="1400" spc="-1" strike="noStrike">
                <a:solidFill>
                  <a:srgbClr val="000066"/>
                </a:solidFill>
                <a:latin typeface="Arial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BenQ Confidential (20.03.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7504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latform and Product planning content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文鼎中黑"/>
              </a:rPr>
              <a:t>SPC, Hoeckenre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文鼎中黑"/>
              </a:rPr>
              <a:t>03.05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84320" y="836640"/>
            <a:ext cx="654840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4160" y="980640"/>
            <a:ext cx="8358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432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Arial"/>
              </a:rPr>
              <a:t>Definition of a platform: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4295880"/>
            <a:ext cx="654840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Benefit</a:t>
            </a:r>
            <a:r>
              <a:rPr b="1" lang="de-DE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555920"/>
            <a:ext cx="82818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A platform is a framework where all products which are based on this framework can be derived from. It contains all basic functionality and all common features of the initial produ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[Remark: Features needed </a:t>
            </a:r>
            <a:r>
              <a:rPr b="0" lang="en-US" sz="1800" spc="-1" strike="noStrike" u="sng">
                <a:solidFill>
                  <a:srgbClr val="3a0e66"/>
                </a:solidFill>
                <a:uFillTx/>
                <a:latin typeface="Arial"/>
                <a:ea typeface="Arial Unicode MS"/>
              </a:rPr>
              <a:t>for only one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product are not part of the platform. The individual features have to be accounted to the dedicated product projects.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This is valid for all HW, ST, QA, SCM  and SW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MD is not part of the platform development. Mechanics have to be done within the product proje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4975200"/>
            <a:ext cx="741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Common platform components are developed only on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Testing of platform features is done in only one projec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Creation of synergies between the proje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BenQ, 2006 05 03, Hoeckenrein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9640" y="3933720"/>
            <a:ext cx="8280360" cy="1582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: Common content shared by all projects on 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HW: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-providing related re-usable HW components like batteries, displays (plan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                 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under predevelopments) and  master-schematic, RF-layouts et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W:  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-getting reference board running (device lay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-providing application framework (user interf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T: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-Testing of platform framework and preparation of initial cer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0880" y="151920"/>
            <a:ext cx="8368200" cy="6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Arial"/>
              </a:rPr>
              <a:t>Product and platform content </a:t>
            </a:r>
            <a:br>
              <a:rPr sz="2800"/>
            </a:b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Development</a:t>
            </a:r>
            <a:r>
              <a:rPr b="1" lang="zh-TW" sz="1600" spc="-1" strike="noStrike">
                <a:solidFill>
                  <a:srgbClr val="3a0e66"/>
                </a:solidFill>
                <a:latin typeface="Arial"/>
              </a:rPr>
              <a:t> with external platform suppliers (e.g. APOXI, QCT Brew)</a:t>
            </a:r>
            <a:endParaRPr b="1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9" name=""/>
          <p:cNvSpPr/>
          <p:nvPr/>
        </p:nvSpPr>
        <p:spPr>
          <a:xfrm>
            <a:off x="1965240" y="39337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5516640"/>
            <a:ext cx="8280360" cy="72072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suppli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rovides HW reference board and SW reference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1052640"/>
            <a:ext cx="5616720" cy="1944720"/>
          </a:xfrm>
          <a:prstGeom prst="rect">
            <a:avLst/>
          </a:prstGeom>
          <a:solidFill>
            <a:srgbClr val="800080">
              <a:alpha val="26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inion"/>
                <a:ea typeface="文鼎中黑"/>
              </a:rPr>
              <a:t>Product …..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65240" y="39337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1557360"/>
            <a:ext cx="5830920" cy="1944720"/>
          </a:xfrm>
          <a:prstGeom prst="rect">
            <a:avLst/>
          </a:prstGeom>
          <a:solidFill>
            <a:srgbClr val="8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inion"/>
                <a:ea typeface="文鼎中黑"/>
              </a:rPr>
              <a:t>Product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060640"/>
            <a:ext cx="6337440" cy="1873080"/>
          </a:xfrm>
          <a:prstGeom prst="rect">
            <a:avLst/>
          </a:prstGeom>
          <a:solidFill>
            <a:srgbClr val="8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inion"/>
                <a:ea typeface="文鼎中黑"/>
              </a:rPr>
              <a:t>Product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HW, SW: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Integration of generic platform components, adap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and enhancement for special product needs</a:t>
            </a:r>
            <a:r>
              <a:rPr b="0" lang="de-DE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ST: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Certification and  product specific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D</a:t>
            </a: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Providing of housing and product specific p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79280" y="981000"/>
            <a:ext cx="683604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Hardware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2480" y="105228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371628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de-DE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557360"/>
            <a:ext cx="84247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nteraction with platform supplier including setup of change request handl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viding platform schematic and baseband pin li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viding documentation and testing templates (Circuit Description, Master Action Pla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velopment of every feature/component used in more than one produ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latform maintenance support until last product on this plat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Remark: Development of batteries, displays and cameras planned under components/predevelop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4292640"/>
            <a:ext cx="856908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ntegration of platform and HW components into produ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velopment of product specific/unique components/features which are not covered by the    plat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velopment and testing of the PCB(s) incl. equipped functions (e.g. RF, BB, BT etc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eparation of HW approvals and documentations (R&amp;TTE, FCC, GCF etc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Acoustics, Antenna and EMC develop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Ensure mass production qu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4320" y="981000"/>
            <a:ext cx="683568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Software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17160" y="105228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421812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1711440"/>
            <a:ext cx="7634160" cy="20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All activities for the deliveries of the supplier (basic package), provisioning of the platform framewor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vision of features used in more than one product (including license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latform integrity sup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lanning support for all products based on this plat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General operator variant sup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4865760"/>
            <a:ext cx="79930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Feature/component development used for only one dedicated pro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duct integration (incl. Build and Integration management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W product project le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Customiz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84320" y="981000"/>
            <a:ext cx="683568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System Test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17160" y="105228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364500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700280"/>
            <a:ext cx="763416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OTs for new platform technolog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eparation and testing of platform applications/technolog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Arial"/>
                <a:ea typeface="Arial Unicode MS"/>
              </a:rPr>
              <a:t>Remark: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Providing test capabilities for new technologies (e.g. HSDPA) are handled within predevelopment projects, as they are platform independ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4292640"/>
            <a:ext cx="7993080" cy="22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Operator acceptance tes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Approvals (R&amp;TTE, FCC, GCF etc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eparation and test of product specific applications/technolog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Certification/Approval of product specific applications/technolog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Efforts for project coordination, reporting, error track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84320" y="981000"/>
            <a:ext cx="683568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SCM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17160" y="105228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364500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1700280"/>
            <a:ext cx="763416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Qualification of suppliers of platform component (reuse &gt;=2, i.e. BB chipset etc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duction of test boards (breadboards etc.) in the prototype sho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viding general framework for production tes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Arial"/>
                <a:ea typeface="Arial Unicode MS"/>
              </a:rPr>
              <a:t>Remark: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StackUp issues are handled in the stack up tea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4292640"/>
            <a:ext cx="799308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Qualification of suppliers of project specific  component (i.e. barometer chip or housing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totyping, test concept, assembly concept, adapter built, production process qualification and verifi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Ramp up, logistics and supplier quality assur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duction and maintenance after S4 milestone (currently not planned in Primaver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84320" y="765000"/>
            <a:ext cx="683568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Quality Assurance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17160" y="83664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314172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268280"/>
            <a:ext cx="87850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Reporting work, product quality and process adherence support for components/sub-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finition and monitoring of Q-targets for suppliers and sub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upport of TAMs by audits and acceptance procedu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fect prognosis, driving resolution of quality risks and non compliance iss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Management of Change Request Proc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3807000"/>
            <a:ext cx="8424720" cy="25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ject attended quality assurance for each product from M0 to M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finition of Q-targets, crisis management, defect classification, return rate prognos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Release of core-software and customization/varia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EUAT (End User Acceptance Test); GCF-Field-Tri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Change Request Proc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eventive quality assurance (FMEA, Review, Audit, Release of QA Milestones,...) and product safety (Risk Potential Analysis, EN60950,..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Ensure product quality (environmental testing, failure tracking, ...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Hans-Peter Hoeckenreiner</cp:lastModifiedBy>
  <dcterms:modified xsi:type="dcterms:W3CDTF">2006-05-03T09:46:06Z</dcterms:modified>
  <cp:revision>136</cp:revision>
  <dc:subject/>
  <dc:title>PowerPoint 簡報</dc:title>
</cp:coreProperties>
</file>