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91F6-E8CD-4621-BC06-C20556D920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E17E-61AB-4685-A490-DDACAFE8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6B11-8405-42B9-97D0-3FFA404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21FE-5B77-435E-864A-63F5294BB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F017-85C1-4028-B8FC-BBF53F0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D340-D419-4728-9DB7-EA6A0D6A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FF4C-1A28-44DC-88FF-C303AB71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2720-A511-4D34-873C-58708DC0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1710-58CB-449B-B665-80CC9D54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20FD-688D-484D-89F4-48EA2960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9559-C608-4858-B90A-85FA5DA5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B1C6-C346-471B-8336-41DB8C91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E67-D65D-4C2A-BF44-71A2219F61B9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&lt;Milestone&gt;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0E97-D399-42BF-B915-0D68937F30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831960"/>
            <a:ext cx="4467240" cy="20973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alisation vs.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12264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vol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334120"/>
            <a:ext cx="4467240" cy="615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DB95-AEFB-405B-8912-9634BB5B7C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211D-A239-4BDF-B513-495A64E90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easures, Responsibles and Due Date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047600"/>
            <a:ext cx="8785440" cy="51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3135240"/>
            <a:ext cx="6120000" cy="1803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n non-green Q-Gates it’s up to the team to define during the Q-Gate process adequate measures, responsibles and due dates to reach a green Q-Gate r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can find this sheet here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s://www.benqmobile.siemens.com/livelink/livelink.exe/open/3360479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8D27-ABE8-4240-B273-14C361BD0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Dr.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0733-5E4E-44CE-8640-BEAE8C229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98F6-0DEC-42BB-81AA-6A5E11E315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38FF-9CD9-4617-8694-477925AD14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5240" y="396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4640"/>
            <a:ext cx="4295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Spending &lt;Product&gt;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Product Approach Sloga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773280"/>
          <a:ext cx="647712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773280"/>
                    <a:ext cx="6477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38080" y="5391000"/>
          <a:ext cx="3468960" cy="91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91000"/>
                    <a:ext cx="3468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589800" y="1454040"/>
            <a:ext cx="25905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up to Mrz 02 were spent under predevelopment-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opened Mrz 0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Mrz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cast after M3: 1‘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ince last month (also in M1-Plan): Higher hourly rate for FY 02/03: 0‘8 Mio EURO; NRE-Costs: 0‘5 Mio Eu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5600" y="5423040"/>
            <a:ext cx="231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5d"/>
                </a:solidFill>
                <a:latin typeface="Arial"/>
              </a:rPr>
              <a:t>Costs of devi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5D61-450B-4F8E-96E4-4DEDD3188E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39DB-6EBD-4660-84BB-09DA79C7F1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52:04Z</dcterms:modified>
  <cp:revision>99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684188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