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091B-F4EB-4B02-A7BB-5D4A8D73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417-A549-4AA9-9DEC-70145DF0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DB6E-F8FF-467D-93CB-81BEF13D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47B8-7368-48D2-9B2D-81EB0832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D01-36A9-4D93-833B-4539157B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708F-9432-4C09-8378-7BA2C43F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0A95-1919-4631-82B2-A88E1BEA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16D-4CC6-4779-A599-FAC27503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6CD4-1C12-441B-B206-720B0D13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DD2-40F7-49EA-8890-6D59B654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3BD0-5CB2-4738-BDFC-F8A9B399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5C6-99A0-4E82-80EB-4529BC8E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72CA-6B17-4769-9CF6-2631781BB191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arrenkothen, Gallner, BenQ Confidential (2006/02/16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Minion"/>
              </a:rPr>
              <a:t>Procedure for update of Primavera MS Reporting for OPC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1012680" y="329256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868320"/>
            <a:ext cx="2376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QM PSO to create 1st. extract of Primavera MS planning as a preparation 1 day before next O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eliver report to TPM Head and local Primavera suppo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276df9"/>
                </a:solidFill>
                <a:latin typeface="Minion"/>
                <a:ea typeface="文鼎中黑"/>
              </a:rPr>
              <a:t>Time: Monday 05:00 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534f"/>
                </a:solidFill>
                <a:latin typeface="Minion"/>
                <a:ea typeface="文鼎中黑"/>
              </a:rPr>
              <a:t>Responsible: Stefan Gall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05160" y="329256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54640" y="329256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0348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24880" y="359424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69480" y="35942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4952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560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2256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60560" y="3591000"/>
            <a:ext cx="3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48280" y="3591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16040" y="33624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34920" y="359100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5740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8800" y="359100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0720" y="33465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42120" y="357516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174160" y="48704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18520" y="48704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61440" y="48704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337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98120" y="360360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07000" y="337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81480" y="337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71960" y="3600360"/>
            <a:ext cx="3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07200" y="3591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54520" y="33717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64040" y="360036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9756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040" y="3436920"/>
            <a:ext cx="777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62240" y="4191120"/>
            <a:ext cx="19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Minion"/>
                <a:ea typeface="文鼎中黑"/>
              </a:rPr>
              <a:t>TPM to judge / modify / change (if necessary) and commit to the pla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20760" y="36050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5157720"/>
            <a:ext cx="2201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cal Primavera support to create  extract of Primavera MS planning eac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276df9"/>
                </a:solidFill>
                <a:latin typeface="Minion"/>
                <a:ea typeface="文鼎中黑"/>
              </a:rPr>
              <a:t>Monday 05:00 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DE" sz="1000" spc="-1" strike="noStrike">
                <a:solidFill>
                  <a:srgbClr val="ff534f"/>
                </a:solidFill>
                <a:latin typeface="Minion"/>
                <a:ea typeface="文鼎中黑"/>
              </a:rPr>
              <a:t>Responsible: Primavera Coordin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08960" y="3292560"/>
            <a:ext cx="28872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0728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28680" y="358452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6480" y="35942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5332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9940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2636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64360" y="3591000"/>
            <a:ext cx="3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52080" y="3600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19840" y="33624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38720" y="360036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836640"/>
            <a:ext cx="2592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QM PSO to create 1st. extract of Primavera MS planning as a preparation 1 day before next O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eliver report to TPM Head and local Primavera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276df9"/>
                </a:solidFill>
                <a:latin typeface="Minion"/>
                <a:ea typeface="文鼎中黑"/>
              </a:rPr>
              <a:t>Time: Monday 05:00 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534f"/>
                </a:solidFill>
                <a:latin typeface="Minion"/>
                <a:ea typeface="文鼎中黑"/>
              </a:rPr>
              <a:t>Responsible: Stefan Gall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2349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0872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3933720"/>
            <a:ext cx="2449440" cy="216000"/>
          </a:xfrm>
          <a:custGeom>
            <a:avLst/>
            <a:gdLst>
              <a:gd name="textAreaLeft" fmla="*/ 428400 w 2449440"/>
              <a:gd name="textAreaRight" fmla="*/ 1775880 w 24494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2852640"/>
            <a:ext cx="50328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2852640"/>
            <a:ext cx="50292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1964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0872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1200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17840" y="3933720"/>
            <a:ext cx="2449440" cy="216000"/>
          </a:xfrm>
          <a:custGeom>
            <a:avLst/>
            <a:gdLst>
              <a:gd name="textAreaLeft" fmla="*/ 428400 w 2449440"/>
              <a:gd name="textAreaRight" fmla="*/ 1775880 w 24494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3933720"/>
            <a:ext cx="2449800" cy="216000"/>
          </a:xfrm>
          <a:custGeom>
            <a:avLst/>
            <a:gdLst>
              <a:gd name="textAreaLeft" fmla="*/ 428760 w 2449800"/>
              <a:gd name="textAreaRight" fmla="*/ 1776240 w 24498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tefan Gallner</cp:lastModifiedBy>
  <dcterms:modified xsi:type="dcterms:W3CDTF">2006-02-16T08:56:42Z</dcterms:modified>
  <cp:revision>82</cp:revision>
  <dc:subject/>
  <dc:title>PowerPoint 簡報</dc:title>
</cp:coreProperties>
</file>