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68B0-5A34-48EC-B07B-10A3D30DA0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0119-9BA6-4C49-8986-4659D18D9B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8056-A674-4D56-9D22-F2B0E38297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54EE-A946-4278-9F36-9EF544853B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CC9-3411-4340-A8C6-790EDF9E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50C-C223-4664-B437-116B1EE5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6C8-4D1A-4C9B-A261-6DAB54D8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3DF-2CD8-4AE6-AD17-D2F411F4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719-506B-4732-BC0B-429A013C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344-CA02-41A7-87C3-82B28BC4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F8B-EC77-4706-9D93-8F47B1A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204-D0CD-4EA3-A59E-9B55D000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30B-6ED5-42FD-94F4-C9AA9782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961-E0FE-4DFC-BBE8-F6F41593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F7E-E2A5-4ABC-BF00-70BB2A3D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919-BF8A-4FF5-B322-57B8BF2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14600" y="623736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74880" y="6370200"/>
            <a:ext cx="934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B7A8-8559-44B9-B9B1-E8C91FF0937E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3552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&amp;D Meet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F2B-DDE5-4B72-9AEA-DD81711C50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"/>
          <p:cNvSpPr/>
          <p:nvPr/>
        </p:nvSpPr>
        <p:spPr>
          <a:xfrm>
            <a:off x="145728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1040" y="765000"/>
            <a:ext cx="1368360" cy="16560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Ms. 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1040" y="3284640"/>
            <a:ext cx="1368360" cy="28810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1413000"/>
            <a:ext cx="133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1413000"/>
            <a:ext cx="66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99520" y="1413000"/>
            <a:ext cx="72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71720" y="1484280"/>
            <a:ext cx="131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1040" y="2494080"/>
            <a:ext cx="1368360" cy="64764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49400" y="765000"/>
            <a:ext cx="662472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TV responsible within Operations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Ramp up Planning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Dispatch of Variants according sales allocation and variant release progress based on material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availability and production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Hub‘s &amp; Regiosn Sales and Acquistions Samples (master logisitc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Region‘s Approvals (OpCos, Op, Retai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C St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Early Warning system DOS vs. ROF and PP in close cooperation with SCM (air traffic controller)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of dedicated produ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EOL Risk beginning at 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49400" y="2494080"/>
            <a:ext cx="662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ocalisation of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 Pre installe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Application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and Applications for WEB and WAP in all languages </a:t>
            </a:r>
            <a:br>
              <a:rPr sz="1200"/>
            </a:b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(6-17 Applications per Product/45 Langu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49400" y="3284640"/>
            <a:ext cx="662472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, country an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customer variant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in different stati as basis for planning, dispo and p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Lead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Responsibility for variant relevant topics from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新細明體"/>
              </a:rPr>
              <a:t>M0-M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&amp; update Customization Guide and Variant request Temp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Calculation/Dispo/Standard Int &amp; No-ID Vari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nterface between Variantmanagement and Operations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variant releases in accordance together with VM to ramp-up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ion and implementation of variant related  overall product Change Request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untry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Trigger, check  &amp; coordinate Variant Requests according to necessary timel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Variant Specif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the realization of the variants (sap-availability, sw- &amp; hw- realiza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and coordinate release processes (customer &amp; internal quality) for variant specific requiremen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.e. labels, leaflets, settings, printed co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and implement change requests required by customers throughout lifecyc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2F7-BF2D-462A-BD46-A1E6738261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150480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5480" y="2205000"/>
            <a:ext cx="13687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5480" y="2925720"/>
            <a:ext cx="1368720" cy="1438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5480" y="4510080"/>
            <a:ext cx="1328760" cy="1511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5480" y="1341360"/>
            <a:ext cx="1368720" cy="719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4200" y="1341360"/>
            <a:ext cx="6624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BO Interface to PHA Taipe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variants for ODM/BenQ Produc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BO Items for European/LAM Launch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, icl. Ramp up Planning, Variants, Approvals, User Man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24200" y="2203560"/>
            <a:ext cx="6624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EOL for al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amp Down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 activities (Material, Production planning, Sales Allocation) according to timeline and budget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24200" y="2852640"/>
            <a:ext cx="66243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User manuals, CDs, Packag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Define Concepts for User Guide, Packaging,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reate Master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Standard Packaging (Inlet, Box, Lay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CD incl. loc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96920" y="4510080"/>
            <a:ext cx="655164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Technical Interface to Regions/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W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lan regional Sample/Cradle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Approval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Data Sheet/technical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rigger regioanl keypad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Trigger SW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ample distribution to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W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Monitor CQ,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E87-1CBA-4991-BDB9-DBF6B62910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54 Applications in 180 Versions to be translated in 44 Languages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(more than 2300 Miniprojects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4360" y="892080"/>
            <a:ext cx="7775280" cy="25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36160" y="34830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124000" y="3627360"/>
            <a:ext cx="612000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526-64DE-4D4B-B726-7FD0872265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O Complexit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8120" y="692280"/>
            <a:ext cx="8507520" cy="5654520"/>
            <a:chOff x="168120" y="692280"/>
            <a:chExt cx="8507520" cy="5654520"/>
          </a:xfrm>
        </p:grpSpPr>
        <p:sp>
          <p:nvSpPr>
            <p:cNvPr id="315" name=""/>
            <p:cNvSpPr/>
            <p:nvPr/>
          </p:nvSpPr>
          <p:spPr>
            <a:xfrm>
              <a:off x="2916360" y="4533840"/>
              <a:ext cx="47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303720" y="2328840"/>
              <a:ext cx="2736720" cy="3400560"/>
            </a:xfrm>
            <a:prstGeom prst="cube">
              <a:avLst>
                <a:gd name="adj" fmla="val 3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60640" y="1598760"/>
              <a:ext cx="1440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52280" y="1273320"/>
              <a:ext cx="10357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 RU and 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 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9840" y="5613480"/>
              <a:ext cx="105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egion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untrie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usto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851280" y="692280"/>
              <a:ext cx="4824360" cy="1625400"/>
              <a:chOff x="3851280" y="692280"/>
              <a:chExt cx="4824360" cy="1625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51280" y="692280"/>
                <a:ext cx="4824360" cy="16254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99520" y="887040"/>
                <a:ext cx="47754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4.500 active Varian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1.750 active User manual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     55 Applications in 180 Vers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                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and 44 Languages (&gt; 7.00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754440" y="3790800"/>
              <a:ext cx="2746800" cy="12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hanges over Life 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w Requirements from cou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ett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gisit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60440" y="439416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8120" y="4932360"/>
              <a:ext cx="310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</a:t>
              </a: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60 Regions/Countries 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20 Operators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30 Retail Custom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38040" y="242568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1 Pro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1320" y="4562640"/>
              <a:ext cx="109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0 – M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5120" y="2982960"/>
              <a:ext cx="20858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72, ME75, S75, SL75, SXG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estrel, Polaris, Swift, Sw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bsidian, Philippe, Hawk, AX72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F110, Quail, Finch, Pelic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ldfinch, Amber, M75, CX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A70, AX75, A65, A75, CF75, S6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65, M65, A57, SP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52640" y="4449600"/>
              <a:ext cx="129564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C34-F800-4819-B3D1-FD2FE5F2FE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05800" y="3459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ne man can‘t move a mountain, but a team can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8000" y="1068480"/>
            <a:ext cx="8891640" cy="5335560"/>
            <a:chOff x="108000" y="1068480"/>
            <a:chExt cx="8891640" cy="5335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592280" y="1357560"/>
              <a:ext cx="597708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108000" y="1357560"/>
              <a:ext cx="1346040" cy="985680"/>
              <a:chOff x="108000" y="1357560"/>
              <a:chExt cx="1346040" cy="985680"/>
            </a:xfrm>
          </p:grpSpPr>
          <p:sp>
            <p:nvSpPr>
              <p:cNvPr id="334" name="PubTriangle"/>
              <p:cNvSpPr/>
              <p:nvPr/>
            </p:nvSpPr>
            <p:spPr>
              <a:xfrm>
                <a:off x="108000" y="135756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412600">
                <a:off x="413280" y="161604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36440" y="3876840"/>
              <a:ext cx="1346400" cy="986040"/>
              <a:chOff x="136440" y="3876840"/>
              <a:chExt cx="1346400" cy="986040"/>
            </a:xfrm>
          </p:grpSpPr>
          <p:sp>
            <p:nvSpPr>
              <p:cNvPr id="337" name="PubTriangle"/>
              <p:cNvSpPr/>
              <p:nvPr/>
            </p:nvSpPr>
            <p:spPr>
              <a:xfrm>
                <a:off x="136440" y="387684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337000">
                <a:off x="424800" y="413676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&amp;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816360" y="5416920"/>
              <a:ext cx="1346040" cy="985680"/>
              <a:chOff x="3816360" y="5416920"/>
              <a:chExt cx="1346040" cy="985680"/>
            </a:xfrm>
          </p:grpSpPr>
          <p:sp>
            <p:nvSpPr>
              <p:cNvPr id="340" name="PubTriangle"/>
              <p:cNvSpPr/>
              <p:nvPr/>
            </p:nvSpPr>
            <p:spPr>
              <a:xfrm>
                <a:off x="3816360" y="541692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412600">
                <a:off x="4232520" y="56880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940360" y="5418360"/>
              <a:ext cx="1346400" cy="985680"/>
              <a:chOff x="5940360" y="5418360"/>
              <a:chExt cx="1346400" cy="985680"/>
            </a:xfrm>
          </p:grpSpPr>
          <p:sp>
            <p:nvSpPr>
              <p:cNvPr id="343" name="PubTriangle"/>
              <p:cNvSpPr/>
              <p:nvPr/>
            </p:nvSpPr>
            <p:spPr>
              <a:xfrm>
                <a:off x="5940360" y="5418360"/>
                <a:ext cx="134640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412600">
                <a:off x="6254280" y="570528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653240" y="3733920"/>
              <a:ext cx="1346400" cy="986040"/>
              <a:chOff x="7653240" y="3733920"/>
              <a:chExt cx="1346400" cy="986040"/>
            </a:xfrm>
          </p:grpSpPr>
          <p:sp>
            <p:nvSpPr>
              <p:cNvPr id="346" name="PubTriangle"/>
              <p:cNvSpPr/>
              <p:nvPr/>
            </p:nvSpPr>
            <p:spPr>
              <a:xfrm>
                <a:off x="7653240" y="373392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412600">
                <a:off x="7939080" y="4051080"/>
                <a:ext cx="6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Q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596360" y="1068480"/>
              <a:ext cx="1346040" cy="986040"/>
              <a:chOff x="7596360" y="1068480"/>
              <a:chExt cx="1346040" cy="986040"/>
            </a:xfrm>
          </p:grpSpPr>
          <p:sp>
            <p:nvSpPr>
              <p:cNvPr id="349" name="PubTriangle"/>
              <p:cNvSpPr/>
              <p:nvPr/>
            </p:nvSpPr>
            <p:spPr>
              <a:xfrm>
                <a:off x="7596360" y="1068480"/>
                <a:ext cx="134604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412600">
                <a:off x="7921800" y="139356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D54-2E7A-4F71-AA23-3DE8D84EFD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8D1-68CE-4E2C-8490-786867777E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2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esponsible Persons on Interfaces to TPM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30120" y="1052640"/>
            <a:ext cx="842184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087-E2D7-4C18-BF1F-417B6FF3F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627-A2AB-40A2-9EE6-450332D1AA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PM 2 monthl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E58-09FB-4540-A039-F4A58DE7D3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9960" y="1155600"/>
            <a:ext cx="0" cy="512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70720" y="3537000"/>
            <a:ext cx="2143080" cy="7081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0560" y="3286080"/>
            <a:ext cx="3092400" cy="115560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8280" y="3537000"/>
            <a:ext cx="1809720" cy="70812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1120" y="3537000"/>
            <a:ext cx="1862280" cy="70812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3232080"/>
            <a:ext cx="1886040" cy="120672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2600" y="353520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2320" y="3557520"/>
            <a:ext cx="994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Creatio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9040" y="3643200"/>
            <a:ext cx="784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97800" y="4076640"/>
            <a:ext cx="163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Re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3627360"/>
            <a:ext cx="848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2920" y="3129120"/>
            <a:ext cx="43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3a0e66"/>
                </a:solidFill>
                <a:latin typeface="Arial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8560" y="32306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64240" y="3879720"/>
            <a:ext cx="260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75840" y="29257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68200" y="297648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70040" y="31291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8360" y="3500280"/>
            <a:ext cx="492120" cy="70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60760" y="3298680"/>
            <a:ext cx="29098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eparation of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aunch &amp; Market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32040" y="1203480"/>
            <a:ext cx="6997320" cy="717480"/>
            <a:chOff x="1832040" y="1203480"/>
            <a:chExt cx="6997320" cy="717480"/>
          </a:xfrm>
        </p:grpSpPr>
        <p:sp>
          <p:nvSpPr>
            <p:cNvPr id="74" name=""/>
            <p:cNvSpPr/>
            <p:nvPr/>
          </p:nvSpPr>
          <p:spPr>
            <a:xfrm>
              <a:off x="1832040" y="1380960"/>
              <a:ext cx="6227640" cy="3603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8084880" y="117648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8720" y="1436760"/>
              <a:ext cx="291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Category Produc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0920" y="1268280"/>
            <a:ext cx="1434960" cy="66060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Categ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480" y="2046240"/>
            <a:ext cx="2435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75080" y="2046240"/>
            <a:ext cx="221148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Market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046240"/>
            <a:ext cx="1814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Life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4551480"/>
            <a:ext cx="2211120" cy="877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Re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39960" y="5432400"/>
            <a:ext cx="7008480" cy="717480"/>
            <a:chOff x="1839960" y="5432400"/>
            <a:chExt cx="7008480" cy="717480"/>
          </a:xfrm>
        </p:grpSpPr>
        <p:sp>
          <p:nvSpPr>
            <p:cNvPr id="83" name=""/>
            <p:cNvSpPr/>
            <p:nvPr/>
          </p:nvSpPr>
          <p:spPr>
            <a:xfrm>
              <a:off x="1839960" y="5610240"/>
              <a:ext cx="6238800" cy="36036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8103960" y="540540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7920" y="5665680"/>
              <a:ext cx="3038400" cy="30492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Technical Product Manager (TP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5516640"/>
            <a:ext cx="1434960" cy="660240"/>
          </a:xfrm>
          <a:prstGeom prst="rect">
            <a:avLst/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Ho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0280"/>
            <a:ext cx="882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Product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naging the entire lifecycle “from  cradle to grav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849-3229-46A7-AF06-0D1AD0807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2160" y="3430440"/>
            <a:ext cx="174132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Product Innova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5840" y="1544760"/>
            <a:ext cx="19465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Image &amp; Stat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1557360"/>
            <a:ext cx="17701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Fascin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00" y="1544760"/>
            <a:ext cx="1741680" cy="603000"/>
          </a:xfrm>
          <a:prstGeom prst="rect">
            <a:avLst/>
          </a:prstGeom>
          <a:solidFill>
            <a:srgbClr val="800080"/>
          </a:solidFill>
          <a:ln w="1260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Affordable Qua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7760" y="1541520"/>
            <a:ext cx="187020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Perform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429000"/>
            <a:ext cx="2016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Innovation &amp; Portfolio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5080" y="3430440"/>
            <a:ext cx="1872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Smartphones &amp; Convergenc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4000" y="3933720"/>
            <a:ext cx="2015640" cy="2058480"/>
            <a:chOff x="324000" y="3933720"/>
            <a:chExt cx="2015640" cy="2058480"/>
          </a:xfrm>
        </p:grpSpPr>
        <p:sp>
          <p:nvSpPr>
            <p:cNvPr id="96" name=""/>
            <p:cNvSpPr/>
            <p:nvPr/>
          </p:nvSpPr>
          <p:spPr>
            <a:xfrm>
              <a:off x="325440" y="3933720"/>
              <a:ext cx="2012400" cy="183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4000" y="3951720"/>
              <a:ext cx="2015640" cy="20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Innovation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Global Portfolio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hemes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Operator &amp; Regional 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echnology &amp; Platform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56000" y="3933720"/>
            <a:ext cx="1709640" cy="14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pecial E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pplication &amp;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Enhanced offerings (value pa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3933720"/>
            <a:ext cx="1863720" cy="167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mart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VoIP 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Fixed Mobile Convergen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Open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rategic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205000"/>
            <a:ext cx="777744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Busines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cluding portfolio creation, product creation and definition, total product experience manage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 design, market introduction, product launch and lifecycl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429000"/>
            <a:ext cx="172548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Value Add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8960" y="266760"/>
            <a:ext cx="8550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&amp; Technology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in building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933720"/>
            <a:ext cx="1709640" cy="159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eading-edge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novative Product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P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andardization Bac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C10-AE59-46F2-9577-A72F656E29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49400"/>
            <a:ext cx="889344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 2: SGx based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4280" y="774720"/>
            <a:ext cx="8501040" cy="5411880"/>
            <a:chOff x="314280" y="774720"/>
            <a:chExt cx="8501040" cy="5411880"/>
          </a:xfrm>
        </p:grpSpPr>
        <p:sp>
          <p:nvSpPr>
            <p:cNvPr id="106" name=""/>
            <p:cNvSpPr/>
            <p:nvPr/>
          </p:nvSpPr>
          <p:spPr>
            <a:xfrm>
              <a:off x="3392640" y="774720"/>
              <a:ext cx="22032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Program Manager 2.5G/3G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1498680"/>
              <a:ext cx="1470240" cy="5792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 Hard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irk Häns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3800" y="1487520"/>
              <a:ext cx="1468440" cy="6015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Gei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Meyer, 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4800" y="2946240"/>
              <a:ext cx="1469880" cy="551160"/>
            </a:xfrm>
            <a:prstGeom prst="rect">
              <a:avLst/>
            </a:prstGeom>
            <a:solidFill>
              <a:srgbClr val="ccff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ject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cess Support</a:t>
              </a:r>
              <a:br>
                <a:rPr sz="8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ns-Peter Farrenkoth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236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M. Feldhoff, T. Alkäm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6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Diamo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Betting, 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0960" y="3830760"/>
              <a:ext cx="158436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  <a:ea typeface="Arial"/>
                </a:rPr>
                <a:t>Apoxi Lead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R. Kern, Dr. D. Röhri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000" y="5602320"/>
              <a:ext cx="14396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bsidi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Stokholm, O. Rasmus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3400" y="46245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olaris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Neumann, Dr. A. La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52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Chamele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Zimmer, R. Gall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65880" y="5635800"/>
              <a:ext cx="15256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ydra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K. Christi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280" y="5602320"/>
              <a:ext cx="144000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hilip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33920" y="4633920"/>
              <a:ext cx="14698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Swif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J. Kockmann, M. Hohenleit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4800" y="2238480"/>
              <a:ext cx="146988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Wireless Connectiv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san Karaceli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9640" y="2247840"/>
              <a:ext cx="1468440" cy="5367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G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r. R. Hartma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8720" y="5627520"/>
              <a:ext cx="1439640" cy="5511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Jer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L. Bon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2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Min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1560" y="5602320"/>
              <a:ext cx="14414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aw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06" idx="2"/>
            </p:cNvCxnSpPr>
            <p:nvPr/>
          </p:nvCxnSpPr>
          <p:spPr>
            <a:xfrm>
              <a:off x="4493880" y="1325160"/>
              <a:ext cx="3960" cy="249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 flipH="1" flipV="1" rot="5400000">
              <a:off x="2695320" y="2020320"/>
              <a:ext cx="158040" cy="34632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endCxn id="112" idx="0"/>
            </p:cNvCxnSpPr>
            <p:nvPr/>
          </p:nvCxnSpPr>
          <p:spPr>
            <a:xfrm>
              <a:off x="4500360" y="3673080"/>
              <a:ext cx="3523320" cy="1580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1907640" y="3673440"/>
              <a:ext cx="1080" cy="1729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8" name=""/>
            <p:cNvCxnSpPr>
              <a:stCxn id="117" idx="0"/>
            </p:cNvCxnSpPr>
            <p:nvPr/>
          </p:nvCxnSpPr>
          <p:spPr>
            <a:xfrm flipH="1" flipV="1" rot="5400000">
              <a:off x="1368000" y="5061960"/>
              <a:ext cx="207000" cy="87372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1907640" y="5392800"/>
              <a:ext cx="6141240" cy="24048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0" name=""/>
            <p:cNvCxnSpPr>
              <a:endCxn id="114" idx="0"/>
            </p:cNvCxnSpPr>
            <p:nvPr/>
          </p:nvCxnSpPr>
          <p:spPr>
            <a:xfrm flipH="1">
              <a:off x="3623400" y="3673440"/>
              <a:ext cx="2520" cy="951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1" name=""/>
            <p:cNvCxnSpPr>
              <a:endCxn id="118" idx="0"/>
            </p:cNvCxnSpPr>
            <p:nvPr/>
          </p:nvCxnSpPr>
          <p:spPr>
            <a:xfrm>
              <a:off x="5364000" y="3673440"/>
              <a:ext cx="5760" cy="961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2" name=""/>
            <p:cNvCxnSpPr/>
            <p:nvPr/>
          </p:nvCxnSpPr>
          <p:spPr>
            <a:xfrm>
              <a:off x="2771280" y="5392800"/>
              <a:ext cx="2520" cy="2167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3" name=""/>
            <p:cNvCxnSpPr>
              <a:stCxn id="113" idx="0"/>
            </p:cNvCxnSpPr>
            <p:nvPr/>
          </p:nvCxnSpPr>
          <p:spPr>
            <a:xfrm flipV="1">
              <a:off x="4500720" y="5392440"/>
              <a:ext cx="2160" cy="2102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4" name=""/>
            <p:cNvCxnSpPr>
              <a:stCxn id="121" idx="0"/>
            </p:cNvCxnSpPr>
            <p:nvPr/>
          </p:nvCxnSpPr>
          <p:spPr>
            <a:xfrm flipH="1" flipV="1">
              <a:off x="6226920" y="5392440"/>
              <a:ext cx="2520" cy="235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5" name=""/>
            <p:cNvCxnSpPr>
              <a:stCxn id="109" idx="3"/>
            </p:cNvCxnSpPr>
            <p:nvPr/>
          </p:nvCxnSpPr>
          <p:spPr>
            <a:xfrm flipV="1">
              <a:off x="3514320" y="3218760"/>
              <a:ext cx="97236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19" idx="3"/>
              <a:endCxn id="120" idx="1"/>
            </p:cNvCxnSpPr>
            <p:nvPr/>
          </p:nvCxnSpPr>
          <p:spPr>
            <a:xfrm>
              <a:off x="3514680" y="2514600"/>
              <a:ext cx="19756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11" idx="0"/>
            </p:cNvCxnSpPr>
            <p:nvPr/>
          </p:nvCxnSpPr>
          <p:spPr>
            <a:xfrm flipV="1">
              <a:off x="2766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22" idx="0"/>
            </p:cNvCxnSpPr>
            <p:nvPr/>
          </p:nvCxnSpPr>
          <p:spPr>
            <a:xfrm flipV="1">
              <a:off x="6222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07" idx="3"/>
              <a:endCxn id="108" idx="1"/>
            </p:cNvCxnSpPr>
            <p:nvPr/>
          </p:nvCxnSpPr>
          <p:spPr>
            <a:xfrm>
              <a:off x="3513240" y="1788840"/>
              <a:ext cx="19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49C-9600-4BFE-8452-E8C5B30117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10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PM - ‘Inside Minister’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0160" y="404640"/>
            <a:ext cx="7408800" cy="5931000"/>
            <a:chOff x="830160" y="404640"/>
            <a:chExt cx="7408800" cy="59310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30160" y="773280"/>
              <a:ext cx="7408800" cy="51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179800" y="3595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474920" y="5937120"/>
              <a:ext cx="1584360" cy="398520"/>
              <a:chOff x="1474920" y="5937120"/>
              <a:chExt cx="1584360" cy="398520"/>
            </a:xfrm>
          </p:grpSpPr>
          <p:sp>
            <p:nvSpPr>
              <p:cNvPr id="145" name=""/>
              <p:cNvSpPr/>
              <p:nvPr/>
            </p:nvSpPr>
            <p:spPr>
              <a:xfrm>
                <a:off x="1474920" y="5956200"/>
                <a:ext cx="1584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46560" y="5937120"/>
                <a:ext cx="1361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HW    D. Häns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40160" y="5927760"/>
              <a:ext cx="1690560" cy="398520"/>
              <a:chOff x="3440160" y="5927760"/>
              <a:chExt cx="1690560" cy="39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3440160" y="5946840"/>
                <a:ext cx="16905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97120" y="5927760"/>
                <a:ext cx="1368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SW    U. Gei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916360" y="555624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06840" y="555480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427640" y="404640"/>
              <a:ext cx="1512720" cy="550800"/>
              <a:chOff x="4427640" y="404640"/>
              <a:chExt cx="1512720" cy="5508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27640" y="423720"/>
                <a:ext cx="1512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27640" y="404640"/>
                <a:ext cx="1368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TPM PF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    Dr. R.  Hartman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572000" y="789120"/>
              <a:ext cx="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114-23BF-4EFA-B1E1-0FAAF8768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manage a product is much more tha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run a R&amp;D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4720" y="1398600"/>
            <a:ext cx="8406360" cy="4460040"/>
            <a:chOff x="144720" y="1398600"/>
            <a:chExt cx="8406360" cy="4460040"/>
          </a:xfrm>
        </p:grpSpPr>
        <p:sp>
          <p:nvSpPr>
            <p:cNvPr id="158" name=""/>
            <p:cNvSpPr/>
            <p:nvPr/>
          </p:nvSpPr>
          <p:spPr>
            <a:xfrm rot="10800000">
              <a:off x="1058400" y="2997000"/>
              <a:ext cx="7061400" cy="2384280"/>
            </a:xfrm>
            <a:custGeom>
              <a:avLst/>
              <a:gdLst>
                <a:gd name="textAreaLeft" fmla="*/ 826560 w 7061400"/>
                <a:gd name="textAreaRight" fmla="*/ 6234840 w 7061400"/>
                <a:gd name="textAreaTop" fmla="*/ 279000 h 2384280"/>
                <a:gd name="textAreaBottom" fmla="*/ 2105280 h 23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8" y="21600"/>
                  </a:lnTo>
                  <a:lnTo>
                    <a:pt x="1402" y="21600"/>
                  </a:lnTo>
                  <a:close/>
                </a:path>
              </a:pathLst>
            </a:cu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520" y="3424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306440" y="1808280"/>
              <a:ext cx="654120" cy="3671280"/>
              <a:chOff x="1306440" y="1808280"/>
              <a:chExt cx="654120" cy="3671280"/>
            </a:xfrm>
          </p:grpSpPr>
          <p:sp>
            <p:nvSpPr>
              <p:cNvPr id="161" name=""/>
              <p:cNvSpPr/>
              <p:nvPr/>
            </p:nvSpPr>
            <p:spPr>
              <a:xfrm>
                <a:off x="1306440" y="1808280"/>
                <a:ext cx="65412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2936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019240" y="1808280"/>
              <a:ext cx="671400" cy="3671280"/>
              <a:chOff x="2019240" y="1808280"/>
              <a:chExt cx="671400" cy="3671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019240" y="1808280"/>
                <a:ext cx="671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504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41760" y="1808280"/>
              <a:ext cx="676080" cy="3671280"/>
              <a:chOff x="2741760" y="1808280"/>
              <a:chExt cx="676080" cy="3671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741760" y="1808280"/>
                <a:ext cx="67608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7548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454560" y="1817640"/>
              <a:ext cx="641160" cy="3668040"/>
              <a:chOff x="3454560" y="1817640"/>
              <a:chExt cx="641160" cy="3668040"/>
            </a:xfrm>
          </p:grpSpPr>
          <p:sp>
            <p:nvSpPr>
              <p:cNvPr id="170" name=""/>
              <p:cNvSpPr/>
              <p:nvPr/>
            </p:nvSpPr>
            <p:spPr>
              <a:xfrm>
                <a:off x="3454560" y="1817640"/>
                <a:ext cx="64116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71000" y="526536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121520" y="1808280"/>
              <a:ext cx="698400" cy="3671280"/>
              <a:chOff x="7121520" y="1808280"/>
              <a:chExt cx="698400" cy="3671280"/>
            </a:xfrm>
          </p:grpSpPr>
          <p:sp>
            <p:nvSpPr>
              <p:cNvPr id="173" name=""/>
              <p:cNvSpPr/>
              <p:nvPr/>
            </p:nvSpPr>
            <p:spPr>
              <a:xfrm>
                <a:off x="7121520" y="1808280"/>
                <a:ext cx="698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660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906480" y="5384880"/>
              <a:ext cx="73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79560" y="140940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2000" y="55450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86360" y="554184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7080" y="555156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324440" y="41616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ivers, CA, Integr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23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418440" y="1809720"/>
              <a:ext cx="661680" cy="3671640"/>
              <a:chOff x="6418440" y="1809720"/>
              <a:chExt cx="661680" cy="3671640"/>
            </a:xfrm>
          </p:grpSpPr>
          <p:sp>
            <p:nvSpPr>
              <p:cNvPr id="183" name=""/>
              <p:cNvSpPr/>
              <p:nvPr/>
            </p:nvSpPr>
            <p:spPr>
              <a:xfrm>
                <a:off x="6418440" y="1809720"/>
                <a:ext cx="66168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44960" y="52606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525360" y="55515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5418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745200" y="4319280"/>
              <a:ext cx="172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A, RF, dig. HW, L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2104560" y="4221000"/>
              <a:ext cx="191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l., Typ. Appr., IOT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2545920" y="3966480"/>
              <a:ext cx="24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ssy. Concept, Mech. Design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20" y="1398600"/>
              <a:ext cx="82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now H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gn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95800" y="5396040"/>
              <a:ext cx="75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pectrum</a:t>
              </a:r>
              <a:br>
                <a:rPr sz="1000"/>
              </a:b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f det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09760" y="247968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21280" y="1814400"/>
              <a:ext cx="804600" cy="3668040"/>
              <a:chOff x="4121280" y="1814400"/>
              <a:chExt cx="804600" cy="3668040"/>
            </a:xfrm>
          </p:grpSpPr>
          <p:sp>
            <p:nvSpPr>
              <p:cNvPr id="194" name=""/>
              <p:cNvSpPr/>
              <p:nvPr/>
            </p:nvSpPr>
            <p:spPr>
              <a:xfrm>
                <a:off x="4121280" y="1814400"/>
                <a:ext cx="80460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18360" y="526212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246200" y="5538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601040" y="2787480"/>
              <a:ext cx="288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973760" y="1811160"/>
              <a:ext cx="652320" cy="3668040"/>
              <a:chOff x="4973760" y="1811160"/>
              <a:chExt cx="652320" cy="3668040"/>
            </a:xfrm>
          </p:grpSpPr>
          <p:sp>
            <p:nvSpPr>
              <p:cNvPr id="199" name=""/>
              <p:cNvSpPr/>
              <p:nvPr/>
            </p:nvSpPr>
            <p:spPr>
              <a:xfrm>
                <a:off x="4973760" y="1811160"/>
                <a:ext cx="65232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95600" y="525888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003640" y="55450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Q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76840" y="1806480"/>
              <a:ext cx="689040" cy="3671640"/>
              <a:chOff x="5676840" y="1806480"/>
              <a:chExt cx="689040" cy="3671640"/>
            </a:xfrm>
          </p:grpSpPr>
          <p:sp>
            <p:nvSpPr>
              <p:cNvPr id="203" name=""/>
              <p:cNvSpPr/>
              <p:nvPr/>
            </p:nvSpPr>
            <p:spPr>
              <a:xfrm>
                <a:off x="5676840" y="1806480"/>
                <a:ext cx="68904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7040" y="525744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802480" y="55483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800600" y="398196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acts, Price Negoti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5752080" y="4211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tline, Repair Center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6332040" y="4059720"/>
              <a:ext cx="22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ariant Mgmt, Local Appr.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867760" y="3551040"/>
              <a:ext cx="328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d. Tech., Test Tech., Prototype Shop,...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05000" y="3904200"/>
              <a:ext cx="25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terial, Quality, Suppl. Mgmt,..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48000" y="4260960"/>
              <a:ext cx="181080" cy="36360"/>
              <a:chOff x="3348000" y="4260960"/>
              <a:chExt cx="181080" cy="36360"/>
            </a:xfrm>
          </p:grpSpPr>
          <p:sp>
            <p:nvSpPr>
              <p:cNvPr id="212" name=""/>
              <p:cNvSpPr/>
              <p:nvPr/>
            </p:nvSpPr>
            <p:spPr>
              <a:xfrm>
                <a:off x="3348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1964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236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025880" y="4259160"/>
              <a:ext cx="181080" cy="36360"/>
              <a:chOff x="4025880" y="4259160"/>
              <a:chExt cx="181080" cy="36360"/>
            </a:xfrm>
          </p:grpSpPr>
          <p:sp>
            <p:nvSpPr>
              <p:cNvPr id="216" name=""/>
              <p:cNvSpPr/>
              <p:nvPr/>
            </p:nvSpPr>
            <p:spPr>
              <a:xfrm>
                <a:off x="402588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9752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70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830840" y="4264200"/>
              <a:ext cx="180360" cy="36360"/>
              <a:chOff x="4830840" y="4264200"/>
              <a:chExt cx="180360" cy="36360"/>
            </a:xfrm>
          </p:grpSpPr>
          <p:sp>
            <p:nvSpPr>
              <p:cNvPr id="220" name=""/>
              <p:cNvSpPr/>
              <p:nvPr/>
            </p:nvSpPr>
            <p:spPr>
              <a:xfrm>
                <a:off x="4830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212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4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667640" y="4260960"/>
              <a:ext cx="181080" cy="36360"/>
              <a:chOff x="7667640" y="4260960"/>
              <a:chExt cx="181080" cy="36360"/>
            </a:xfrm>
          </p:grpSpPr>
          <p:sp>
            <p:nvSpPr>
              <p:cNvPr id="224" name=""/>
              <p:cNvSpPr/>
              <p:nvPr/>
            </p:nvSpPr>
            <p:spPr>
              <a:xfrm>
                <a:off x="766764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3928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12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000920" y="4264200"/>
              <a:ext cx="181080" cy="36360"/>
              <a:chOff x="7000920" y="4264200"/>
              <a:chExt cx="181080" cy="36360"/>
            </a:xfrm>
          </p:grpSpPr>
          <p:sp>
            <p:nvSpPr>
              <p:cNvPr id="228" name=""/>
              <p:cNvSpPr/>
              <p:nvPr/>
            </p:nvSpPr>
            <p:spPr>
              <a:xfrm>
                <a:off x="700092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725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4528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291360" y="4264200"/>
              <a:ext cx="180360" cy="36360"/>
              <a:chOff x="6291360" y="4264200"/>
              <a:chExt cx="180360" cy="3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6291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6264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35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556240" y="4259160"/>
              <a:ext cx="181080" cy="36360"/>
              <a:chOff x="5556240" y="4259160"/>
              <a:chExt cx="181080" cy="36360"/>
            </a:xfrm>
          </p:grpSpPr>
          <p:sp>
            <p:nvSpPr>
              <p:cNvPr id="236" name=""/>
              <p:cNvSpPr/>
              <p:nvPr/>
            </p:nvSpPr>
            <p:spPr>
              <a:xfrm>
                <a:off x="5556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2788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060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870-F0BE-4EF4-A5E3-FC2D2F3E36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Vision – Mission - Objectiv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814400"/>
            <a:ext cx="86756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to tear-down department boarders (related to products) 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‚Inside Minister‘  to manage all BenQ Mobile inside  technical topic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PM feeling: With TPM I‘m the king (customer) – I get what I wa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„Can – do“ at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manages the product contract with CPM (customer)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64000" y="5445000"/>
            <a:ext cx="3390480" cy="617400"/>
            <a:chOff x="5364000" y="5445000"/>
            <a:chExt cx="3390480" cy="617400"/>
          </a:xfrm>
        </p:grpSpPr>
        <p:sp>
          <p:nvSpPr>
            <p:cNvPr id="243" name=""/>
            <p:cNvSpPr/>
            <p:nvPr/>
          </p:nvSpPr>
          <p:spPr>
            <a:xfrm>
              <a:off x="5364000" y="5473440"/>
              <a:ext cx="3371760" cy="58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406120" y="5511600"/>
              <a:ext cx="3223440" cy="533880"/>
              <a:chOff x="5406120" y="5511600"/>
              <a:chExt cx="3223440" cy="533880"/>
            </a:xfrm>
          </p:grpSpPr>
          <p:sp>
            <p:nvSpPr>
              <p:cNvPr id="245" name=""/>
              <p:cNvSpPr/>
              <p:nvPr/>
            </p:nvSpPr>
            <p:spPr>
              <a:xfrm>
                <a:off x="5406120" y="5514480"/>
                <a:ext cx="18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mpetitiveness</a:t>
                </a:r>
                <a:r>
                  <a:rPr b="0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=</a:t>
                </a: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56440" y="5511600"/>
                <a:ext cx="68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88120" y="573840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5920" y="562104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x Spe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87760" y="578268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653600" y="5445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87000" y="5568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3360" y="5722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6560" y="3978360"/>
            <a:ext cx="8676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M Time to market (DS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V Time to volume (full ru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(return rate)</a:t>
            </a:r>
            <a:br>
              <a:rPr sz="16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: 4,5%  C/M: 9,0%  S/SL: 12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CO Total cost of ownership</a:t>
            </a:r>
            <a:br>
              <a:rPr sz="1600"/>
            </a:b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oM,Conversion cost, Licencees, Make or 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860400"/>
            <a:ext cx="669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„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mply the Best“            People, Processes,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F93-5DAB-4450-B7C8-684F4C2B63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Organisation of BO  01.03.2006</a:t>
            </a:r>
            <a:br>
              <a:rPr sz="3200"/>
            </a:b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6" name=""/>
          <p:cNvSpPr/>
          <p:nvPr/>
        </p:nvSpPr>
        <p:spPr>
          <a:xfrm>
            <a:off x="4362480" y="907920"/>
            <a:ext cx="1149480" cy="592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BM PM BO</a:t>
            </a:r>
            <a:br>
              <a:rPr sz="1200"/>
            </a:b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6984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1160" y="3932280"/>
            <a:ext cx="1028880" cy="44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ndreas-Joachim Merg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13400" y="1684440"/>
            <a:ext cx="88884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168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3480" y="3932280"/>
            <a:ext cx="969840" cy="51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tin Zei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ank Stein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9640" y="981000"/>
            <a:ext cx="968400" cy="493920"/>
          </a:xfrm>
          <a:prstGeom prst="rect">
            <a:avLst/>
          </a:prstGeom>
          <a:solidFill>
            <a:srgbClr val="f9fda1"/>
          </a:solidFill>
          <a:ln w="0">
            <a:noFill/>
          </a:ln>
          <a:effectLst>
            <a:outerShdw dist="17819" dir="2700000" blurRad="0" rotWithShape="0">
              <a:srgbClr val="9497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s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2b5d"/>
                </a:solidFill>
                <a:latin typeface="Arial"/>
              </a:rPr>
              <a:t>Alexandra Mü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24240" y="1628640"/>
            <a:ext cx="122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4480" y="1628640"/>
            <a:ext cx="60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00880" y="1628640"/>
            <a:ext cx="666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3760" y="1700280"/>
            <a:ext cx="120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3256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48560" y="1684440"/>
            <a:ext cx="12114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9840" y="2276640"/>
            <a:ext cx="1081080" cy="647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ristina Nor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Karl Sa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ojing S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nnette Kla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M. F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2760" y="2276640"/>
            <a:ext cx="121140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tefanie Weig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abine Birk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 Der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Doris Kurte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arin Falken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orsten Stoff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ierry Hel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a Lu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tefan Gas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rgarete Walldor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Faulha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k Lukaschi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s Natalie Kaup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076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2600" y="1684440"/>
            <a:ext cx="9702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2920" y="2276640"/>
            <a:ext cx="1030320" cy="288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Yvonne Schul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David Hön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62800" y="2276640"/>
            <a:ext cx="998640" cy="72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Klenner*Mr. W. Leist Gut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Helmut We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nuela Cebulla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8560" y="2268360"/>
            <a:ext cx="1211400" cy="800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gitte  Gegner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Olaf Ep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elson Mendo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xel Wo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Fun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driana Camp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tta Ballha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5160" y="3932280"/>
            <a:ext cx="109080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 Schlus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Christoph Link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9572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B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ebastian Korn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Larissa Banu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Lars Buchweitz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572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iedrich Ho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92880" y="3932280"/>
            <a:ext cx="103032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ichaela Endrizz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Erika Molas-C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92880" y="4508640"/>
            <a:ext cx="118080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ma Ghahremani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4005360"/>
            <a:ext cx="100008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cole Ko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. Maie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5828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Geraldine G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Wolfgang Bran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s. Ren Berger Wey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r. Alexander Fr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5828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dam Mahfoud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4508640"/>
            <a:ext cx="523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Stu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852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4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9800" y="414972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2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001-0ABE-4131-9954-BF7B5E2E57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3-15T16:32:56Z</dcterms:modified>
  <cp:revision>111</cp:revision>
  <dc:subject/>
  <dc:title>PowerPoint 簡報</dc:title>
</cp:coreProperties>
</file>