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833-2902-4C76-B3BE-024634E7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A1B-A57F-4494-9B0A-1DA8AD73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EE8-27EF-4F5A-A977-5640DAE6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385-8805-4D8D-B04E-1244D5A4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C9F-FF9F-4FAC-B56E-EF866D2C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47F-A381-42C5-9803-F5728C50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CB9-9927-4411-B9E0-2E677E72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D7A-EA25-47EC-B825-39D8B732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DDED-65DF-4D33-B284-A53ACABC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07F-DF47-4A0F-AFBF-03B9084A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31D-8DE6-4F49-A8F7-171176DE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BAC-D5D4-4715-99A3-1C1E6AD0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333360"/>
            <a:ext cx="43164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3A11-F708-4DD8-BD13-A1DC14500F15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7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97920"/>
            <a:ext cx="889344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echnical Product Management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 (DRAFT)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199800" y="898560"/>
            <a:ext cx="9032760" cy="5133960"/>
            <a:chOff x="-199800" y="898560"/>
            <a:chExt cx="9032760" cy="5133960"/>
          </a:xfrm>
        </p:grpSpPr>
        <p:sp>
          <p:nvSpPr>
            <p:cNvPr id="46" name=""/>
            <p:cNvSpPr/>
            <p:nvPr/>
          </p:nvSpPr>
          <p:spPr>
            <a:xfrm>
              <a:off x="3165480" y="898560"/>
              <a:ext cx="287964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Head</a:t>
              </a:r>
              <a:br>
                <a:rPr sz="12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olger Asmus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27880" y="898560"/>
              <a:ext cx="1258920" cy="5508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ecret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nke Wol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" name=""/>
            <p:cNvCxnSpPr>
              <a:endCxn id="47" idx="1"/>
            </p:cNvCxnSpPr>
            <p:nvPr/>
          </p:nvCxnSpPr>
          <p:spPr>
            <a:xfrm flipV="1">
              <a:off x="6044760" y="1173960"/>
              <a:ext cx="483480" cy="720"/>
            </a:xfrm>
            <a:prstGeom prst="bentConnector3">
              <a:avLst>
                <a:gd name="adj1" fmla="val 26527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2728800" y="2050920"/>
              <a:ext cx="1333440" cy="319752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MCH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Kock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Neu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 Peter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Schm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Watz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Weiga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Wie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R&amp;D M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Crutziger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T. A. Engelhardt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Hohenleitn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A. Lang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Schwarz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26040" y="2041560"/>
              <a:ext cx="1258920" cy="43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99520" y="2041560"/>
              <a:ext cx="1333440" cy="431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BMG PH TPM 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B. Flier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0"/>
              <a:endCxn id="46" idx="2"/>
            </p:cNvCxnSpPr>
            <p:nvPr/>
          </p:nvCxnSpPr>
          <p:spPr>
            <a:xfrm flipV="1" rot="16200000">
              <a:off x="6089760" y="-35280"/>
              <a:ext cx="592560" cy="3561480"/>
            </a:xfrm>
            <a:prstGeom prst="bentConnector3">
              <a:avLst>
                <a:gd name="adj1" fmla="val 48936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53" name=""/>
            <p:cNvSpPr/>
            <p:nvPr/>
          </p:nvSpPr>
          <p:spPr>
            <a:xfrm>
              <a:off x="5111640" y="2048040"/>
              <a:ext cx="1322640" cy="32004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Bet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Feldhof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Ke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Zim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R&amp;D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Alkämp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U. Barn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Gallos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Röhrig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800" y="3249720"/>
              <a:ext cx="1332000" cy="199872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platfo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O. Fri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Hart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U. Gei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Gö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Häns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 Karaceli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Klo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O. Passau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0360" y="2041560"/>
              <a:ext cx="1332000" cy="102708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Sta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-P. Farrenkot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Schwarpl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. Sp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46" idx="2"/>
              <a:endCxn id="55" idx="1"/>
            </p:cNvCxnSpPr>
            <p:nvPr/>
          </p:nvCxnSpPr>
          <p:spPr>
            <a:xfrm rot="5400000">
              <a:off x="1929600" y="-120240"/>
              <a:ext cx="1105920" cy="4245120"/>
            </a:xfrm>
            <a:prstGeom prst="bentConnector4">
              <a:avLst>
                <a:gd name="adj1" fmla="val 27352"/>
                <a:gd name="adj2" fmla="val 105351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>
              <a:stCxn id="55" idx="1"/>
              <a:endCxn id="54" idx="1"/>
            </p:cNvCxnSpPr>
            <p:nvPr/>
          </p:nvCxnSpPr>
          <p:spPr>
            <a:xfrm flipH="1" flipV="1" rot="10800000">
              <a:off x="360360" y="2554920"/>
              <a:ext cx="1800" cy="1694520"/>
            </a:xfrm>
            <a:prstGeom prst="bentConnector3">
              <a:avLst>
                <a:gd name="adj1" fmla="val -15775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7499520" y="2666880"/>
              <a:ext cx="1333440" cy="336564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P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B. Flierl (act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App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A. Bartelhei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V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E. Lundg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Taipeh Coor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A. Hein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R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T. Janz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C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M. Ru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GP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E. Trage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/>
            <p:nvPr/>
          </p:nvCxnSpPr>
          <p:spPr>
            <a:xfrm flipV="1">
              <a:off x="8165880" y="2482200"/>
              <a:ext cx="1080" cy="183240"/>
            </a:xfrm>
            <a:prstGeom prst="bentConnector2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60" name=""/>
            <p:cNvCxnSpPr>
              <a:endCxn id="49" idx="1"/>
            </p:cNvCxnSpPr>
            <p:nvPr/>
          </p:nvCxnSpPr>
          <p:spPr>
            <a:xfrm flipH="1" flipV="1" rot="10800000">
              <a:off x="2522880" y="1744560"/>
              <a:ext cx="206280" cy="1905480"/>
            </a:xfrm>
            <a:prstGeom prst="bentConnector3">
              <a:avLst>
                <a:gd name="adj1" fmla="val -10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"/>
            <p:cNvCxnSpPr/>
            <p:nvPr/>
          </p:nvCxnSpPr>
          <p:spPr>
            <a:xfrm flipH="1" rot="16200000">
              <a:off x="4055760" y="2594520"/>
              <a:ext cx="1905840" cy="205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"/>
            <p:cNvSpPr/>
            <p:nvPr/>
          </p:nvSpPr>
          <p:spPr>
            <a:xfrm>
              <a:off x="-199800" y="5513400"/>
              <a:ext cx="2538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Report to O. Fri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2)</a:t>
              </a: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Report to R. Hart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eter Farrenkothen</cp:lastModifiedBy>
  <dcterms:modified xsi:type="dcterms:W3CDTF">2006-05-19T06:25:30Z</dcterms:modified>
  <cp:revision>146</cp:revision>
  <dc:subject/>
  <dc:title>PowerPoint 簡報</dc:title>
</cp:coreProperties>
</file>