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745788" cy="80391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2842920" y="533520"/>
            <a:ext cx="34621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move the slide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99E5-2203-4836-BF97-395B201F808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DF0-5850-4E1A-9286-E2C718162DA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512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960" y="3257280"/>
            <a:ext cx="73180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DE4-06D9-4C11-9CD8-EB3D8FE5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026-FB5D-4418-AE6E-5744BC0D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EF3-788D-4CD0-BB12-EDC69344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129-F28A-4936-B062-A828DB95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E5A-29DF-4F48-BBA1-96E29534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139-8A2C-4AB6-99E7-9F81A45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8F4-78DA-4463-8A8D-0ADC9CF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3662-789B-420D-95AF-D3700B5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15A2-22FC-4952-9630-DECB8796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465-93E5-4C48-811E-339C9678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D8A-8B76-4B52-ACD6-BA269C0E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42C-C809-4DAB-B10C-0E42D71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691-1BF4-4996-B5CF-F5E2D350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E8F-0DA6-46CF-BE77-1809F5A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E5AE-BA96-4072-A59F-DF8E135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2612-AD9B-4050-ACE1-AA025D5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71C3-8C4F-4091-9717-9AE7C74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17EC-73FD-4273-A6B3-0FC1DF2A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F8AA-0B3B-49A6-920B-F5A58BD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89A7-2A97-4E6E-9D4C-5CC39A97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5F3D-8811-4AF8-875F-EAAF314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6714-E5F0-459C-8933-DF6F512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080-27AE-4A09-8D77-A11F3AF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83CD-1B94-44A3-9D91-04DBFDD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9328-B200-4206-A0D3-42B9914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A90C-D7B7-4897-B397-0FAFFDE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15E3-195E-43CB-A271-F8A35988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F8F0-E93F-46C8-892F-740A0F5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4CB2-5B69-44B1-AFC5-7FD0B78D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184E-6E59-407A-88AA-30B7C645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E3A8-73B7-4065-A200-52503B2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3219-1B7D-4635-BB15-383C156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623F-DDF9-42C7-9E5B-CDEDDD21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3AD-8B61-429E-8362-B9AC53EC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7A80-2159-4155-B3C2-9A551A79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4488-0A19-431F-AEEA-C6F7EBE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029A-A0CE-4E30-8122-8F5CED0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5F9F-EF9A-41C6-A8EC-2344FEA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85DD-9718-4173-8F59-34C75D6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C631-F205-4539-A5AC-75270E4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7AE7-FF51-4FB2-87A2-0A6A15EA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2BC4-4B83-4F91-9E58-F1053AE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0A63-B40C-4BFF-A02A-8A33BC8E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7581-D04E-4CA1-88C7-E4972DB2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531-A494-4535-9591-EEC4A3B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CEC6-6573-4DBF-A4BC-7DFE967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E59C-F0A4-4916-B1A9-5870570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40C3-B6A1-4ED3-94BD-3B4D3B15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A843-4415-4A9F-A606-5FB63C50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52D7-9487-4D18-AFFC-CA034554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A5B7-8AD1-47B4-A203-27516B3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412E-F358-4195-8D30-684A4BF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7198-1A97-469E-975E-1E59621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3BBA-6501-43A6-ADE7-EF6115F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B564-5468-43D8-81F9-F4E9A319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A63-A71B-4AC4-805D-70F1004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FD65-8C19-4E62-8F5C-CC47ABC0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A95-D8A5-49EA-8B83-2BE5D89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FA3-199F-47B4-9662-84220DC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E39-70A3-4ABA-81B2-5E0DBAF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1749222-7AC8-42D7-BDA4-DE41EB8EDC19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1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6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9C4441DC-0F09-4C7A-BB48-57F3F7698186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78026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/08/26)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E344EFCC-0F3B-4036-89F5-27C3EE828014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93C9DA00-627A-490A-A743-A0DABCAB7488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8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808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0DC696F-A6A9-49F9-85ED-1B07F772B386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9200" y="5634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nion Bold"/>
              </a:rPr>
              <a:t>Feature Commitment vs. Project Du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603576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0" y="214776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214776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40640" y="214740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11200" y="3803760"/>
            <a:ext cx="7416720" cy="1152360"/>
          </a:xfrm>
          <a:custGeom>
            <a:avLst/>
            <a:gdLst/>
            <a:ahLst/>
            <a:rect l="l" t="t" r="r" b="b"/>
            <a:pathLst>
              <a:path w="4672" h="726">
                <a:moveTo>
                  <a:pt x="0" y="726"/>
                </a:moveTo>
                <a:cubicBezTo>
                  <a:pt x="268" y="605"/>
                  <a:pt x="537" y="484"/>
                  <a:pt x="1316" y="363"/>
                </a:cubicBezTo>
                <a:cubicBezTo>
                  <a:pt x="2095" y="242"/>
                  <a:pt x="4135" y="45"/>
                  <a:pt x="46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4280" y="2724120"/>
            <a:ext cx="7343640" cy="1150920"/>
          </a:xfrm>
          <a:custGeom>
            <a:avLst/>
            <a:gdLst/>
            <a:ahLst/>
            <a:rect l="l" t="t" r="r" b="b"/>
            <a:pathLst>
              <a:path w="4626" h="725">
                <a:moveTo>
                  <a:pt x="0" y="0"/>
                </a:moveTo>
                <a:cubicBezTo>
                  <a:pt x="272" y="98"/>
                  <a:pt x="544" y="196"/>
                  <a:pt x="1315" y="317"/>
                </a:cubicBezTo>
                <a:cubicBezTo>
                  <a:pt x="2086" y="438"/>
                  <a:pt x="4089" y="642"/>
                  <a:pt x="4626" y="72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8120" y="6297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67560" y="25066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ull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3920" y="6324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84280" y="2651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7560" y="4235400"/>
            <a:ext cx="288720" cy="2890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6280" y="3659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4240" y="45244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3320" y="308304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@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4240" y="25066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0830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9680" y="63244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7920" y="437976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09104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560" y="40910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400" y="452448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Chang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2:52:45Z</dcterms:created>
  <dc:creator>Apple Zhou</dc:creator>
  <dc:description/>
  <dc:language>en-US</dc:language>
  <cp:lastModifiedBy>Holger Asmussen</cp:lastModifiedBy>
  <dcterms:modified xsi:type="dcterms:W3CDTF">2006-02-01T20:22:31Z</dcterms:modified>
  <cp:revision>1045</cp:revision>
  <dc:subject/>
  <dc:title>PowerPoint 簡報</dc:title>
</cp:coreProperties>
</file>