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771-96B3-42A4-831D-D9729901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81C6-5EA5-4004-828C-2012D53A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27F-6C55-4C85-AE87-32ABD113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3FF-DDE8-44F2-9484-13C83B65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24E-95EF-4E07-9D4C-3CB23568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10E-A415-491A-BC98-92CE8DBA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896-3742-425B-86B5-8581F12F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472-2AC6-4068-BFBE-216569CC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4CC-648A-47CD-B63C-6EE8EDC1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39B-F5E6-4771-BDBE-F5D068E3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394C-002A-4EC0-91EB-A82210A3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07EE-9F8E-45BD-A0E9-65A0F2B0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EFF1-D74F-45BC-9016-73CF4564156A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Worksplit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058760"/>
            <a:ext cx="5760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responsibility for Platform (HW/SW) and Product-Project PV-Plans (schedule &amp; budget), incl. planning coordinato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template responsibility (“what” and “how”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questing new projects in PV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viding content and milestone dat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porting &amp; controlling (e.g. milestones and deviations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riggering of planning / Re-plann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698400"/>
            <a:ext cx="5924520" cy="208764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400" y="6732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PM organization -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156120"/>
            <a:ext cx="597672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67040" indent="-16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ork package planning (components, predev., part projects)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according product clas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ource planning and controlling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y part project leader, aligned with line manager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(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: pre-M0/after-S4: only accounting, no work package pla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art project reporting &amp;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ine specific templates according product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of schedule and effort spent b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ponsible for alignment of planned effort in PV with P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859120"/>
            <a:ext cx="5924520" cy="23763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0240" y="27860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organization -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9080" y="260280"/>
            <a:ext cx="2881080" cy="5400720"/>
          </a:xfrm>
          <a:custGeom>
            <a:avLst/>
            <a:gdLst/>
            <a:ahLst/>
            <a:rect l="l" t="t" r="r" b="b"/>
            <a:pathLst>
              <a:path w="1815" h="3357">
                <a:moveTo>
                  <a:pt x="0" y="0"/>
                </a:moveTo>
                <a:lnTo>
                  <a:pt x="1815" y="0"/>
                </a:lnTo>
                <a:lnTo>
                  <a:pt x="1815" y="3357"/>
                </a:lnTo>
                <a:lnTo>
                  <a:pt x="0" y="3357"/>
                </a:lnTo>
                <a:lnTo>
                  <a:pt x="0" y="3130"/>
                </a:lnTo>
                <a:lnTo>
                  <a:pt x="318" y="3130"/>
                </a:lnTo>
                <a:lnTo>
                  <a:pt x="318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44640" y="8380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ES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494000"/>
            <a:ext cx="20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cepts &amp; 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ol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hour reporting (S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P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rovide reporting &amp; controlling „toolbox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Hotline &amp; 2nd level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raining &amp; co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 &amp; 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734080"/>
            <a:ext cx="80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No booking of normal PV project planning on the Primavera tool account.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Planning support is not an extraordinary task of the lines or TPM and should be part of the normal project efforts/pla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6280" y="5450040"/>
            <a:ext cx="27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Booking guideli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634-FB23-43F8-8E6B-42965B732D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70102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Worksplit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8000" y="549360"/>
          <a:ext cx="8928000" cy="5664240"/>
        </p:xfrm>
        <a:graphic>
          <a:graphicData uri="http://schemas.openxmlformats.org/drawingml/2006/table">
            <a:tbl>
              <a:tblPr/>
              <a:tblGrid>
                <a:gridCol w="1982880"/>
                <a:gridCol w="825480"/>
                <a:gridCol w="703080"/>
                <a:gridCol w="1528920"/>
                <a:gridCol w="1152360"/>
                <a:gridCol w="863640"/>
                <a:gridCol w="647640"/>
                <a:gridCol w="122400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ponsibility f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PM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br>
                        <a:rPr sz="1600"/>
                      </a:b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+</a:t>
                      </a: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L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V-plans for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tform / Prod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 Plat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 / co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verall  w</a:t>
                      </a: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at +h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 , Platform: </a:t>
                      </a: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alization incl. lin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; 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alizeMasterpl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dministr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quest new PV projec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aintain resource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vide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mp., pre-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ent &amp; milest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-pl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ig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PV-PM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with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-plan &amp; al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/method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ilestones and devi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eekly: schedule &amp; eff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U2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ssigned tas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 toolbox;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o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ilest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s (effort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PV-PM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with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ne/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olling toolbox;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ooling PV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+ Interf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otline/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179280" y="6381720"/>
            <a:ext cx="43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s*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:   Part Projects, Components, Pre-develop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8E6-022F-4A8C-A118-3AA868E1E7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feiferB</cp:lastModifiedBy>
  <dcterms:modified xsi:type="dcterms:W3CDTF">2006-03-16T14:01:51Z</dcterms:modified>
  <cp:revision>194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00460100</vt:r8>
  </property>
  <property fmtid="{D5CDD505-2E9C-101B-9397-08002B2CF9AE}" pid="3" name="_AuthorEmail">
    <vt:lpwstr>Barbara.Pfeifer@BenQ.com</vt:lpwstr>
  </property>
  <property fmtid="{D5CDD505-2E9C-101B-9397-08002B2CF9AE}" pid="4" name="_AuthorEmailDisplayName">
    <vt:lpwstr>Barbara Pfeifer</vt:lpwstr>
  </property>
  <property fmtid="{D5CDD505-2E9C-101B-9397-08002B2CF9AE}" pid="5" name="_EmailSubject">
    <vt:lpwstr> Primavera Worksplit</vt:lpwstr>
  </property>
</Properties>
</file>