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BD1-CF0A-4620-9535-AF26D249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E2A-3860-4C99-98D6-C56C3A09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F28-EEA3-4EBC-916B-963F4002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E16-8C4F-46EA-8D0E-8777B3C0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DB7BD-97E7-47AA-9901-EF81933D1E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AB667-E31C-4AC4-A79F-7CC18B7819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0E994-53AE-4D00-9365-750EF7EB90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C928F-34E9-4973-BC40-603E7941DC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BD7EF-4F09-4824-82A2-435FF728B6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EAE80-EF1C-4B5E-8A7F-FE51BAC65C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F149F-967C-4B60-AF4C-E52C6FEB07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D67-AAF2-4EAE-A7A1-A7B881E6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D00BE-12F7-4BE1-9AA3-32731C4127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D755B-323E-4925-B3F2-063A970DFA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136B6-FA56-40A2-9E6A-48F4179FB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2EF82-D8E3-406B-99F5-18B58BE794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7BAA8-2523-487A-8CBC-34FCD5FAB0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18BFF-103A-4187-B666-E8713BC8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35EE8-AAC1-4D83-AD07-968293AF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C6094-6487-4F21-9A37-49C29EC4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BC586-1F91-4C96-8A32-EE6AEE23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DB30A-7A71-4147-A252-A40822DB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B03-DA98-4C84-98DA-D75B9FEC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73002-ADCC-4581-820D-8C34E5E7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55D1C-F818-4913-83EE-A5FD010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6C86A-51C4-4825-841F-E27D5B5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0C8D6-3A5B-4C9E-8E5F-104DEA9D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CF53A-6088-439B-BCFE-C9258D1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C585F-1AE7-4536-A0E4-CCB7382C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6E6C9-B9FD-462F-8701-6BF0A636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48B-7A1E-4551-9A76-6FFF016E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70E-8DAA-4294-9611-C1ABDAD8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987-896A-4230-953E-FE133193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8C7-6D2E-4782-AE7D-A823C21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EA0-A15A-499F-9AF5-18E5E992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BB2-A032-4CA6-B529-8B10445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D9B3-3499-40AF-88F1-C44DED2088A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39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0800" y="-338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06FA4C-689D-4E37-82E2-753F1ABE44A8}" type="slidenum"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896760"/>
            <a:ext cx="7269120" cy="8424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25280" y="1657440"/>
            <a:ext cx="879336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1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2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3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4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5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6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1E2C-6104-4C0E-AF77-E53D0BCC6418}" type="slidenum"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enQ Confidential (20.03.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504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latform and Product planning cont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文鼎中黑"/>
              </a:rPr>
              <a:t>SPC, Hoeckenr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0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4320" y="83664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4160" y="980640"/>
            <a:ext cx="835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Definition of a platform: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29588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Benefit</a:t>
            </a:r>
            <a:r>
              <a:rPr b="1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555920"/>
            <a:ext cx="8281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A platform is a framework where all products which are based on this framework can be derived from. It contains all basic functionality and all common features of the initial produ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[Remark: Features needed </a:t>
            </a:r>
            <a:r>
              <a:rPr b="0" lang="en-US" sz="18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for only one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product are not part of the platform. The individual features have to be accounted to the dedicated product projects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his is valid for all HW, ST, QA, SCM  and SW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MD is not part of the platform development. Mechanics have to be done within the product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7520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ommon platform components are developed only o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esting of platform features is done in only one proje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reation of synergies between th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Q, 2006 05 03, Hoeckenrein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3933720"/>
            <a:ext cx="8280360" cy="15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: Common content shared by all projects 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HW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related re-usable HW components like batteries, displays (plan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        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under predevelopments) and  master-schematic, RF-layouts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W: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getting reference board running (device lay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application framework (user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Testing of platform framework and preparation of initial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51920"/>
            <a:ext cx="8368200" cy="6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Product and platform content </a:t>
            </a:r>
            <a:br>
              <a:rPr sz="2800"/>
            </a:b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Development</a:t>
            </a:r>
            <a:r>
              <a:rPr b="1" lang="zh-TW" sz="1600" spc="-1" strike="noStrike">
                <a:solidFill>
                  <a:srgbClr val="3a0e66"/>
                </a:solidFill>
                <a:latin typeface="Arial"/>
              </a:rPr>
              <a:t> with external platform suppliers (e.g. APOXI, QCT Brew)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516640"/>
            <a:ext cx="8280360" cy="7207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uppl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vides HW reference board and SW 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052640"/>
            <a:ext cx="5616720" cy="1944720"/>
          </a:xfrm>
          <a:prstGeom prst="rect">
            <a:avLst/>
          </a:prstGeom>
          <a:solidFill>
            <a:srgbClr val="800080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…..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1557360"/>
            <a:ext cx="5830920" cy="194472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6337440" cy="187308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HW, SW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Integration of generic platform components, adap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and enhancement for special product needs</a:t>
            </a:r>
            <a:r>
              <a:rPr b="0" lang="de-DE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ertification and  product specific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D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Providing of housing and product specific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981000"/>
            <a:ext cx="683604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Hard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248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71628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55736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action with platform supplier including setup of change request hand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platform schematic and baseband pin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documentation and testing templates (Circuit Description, Master Action Pla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every feature/component used in more than one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maintenance support until last product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mark: Development of batteries, displays and cameras planned under components/predevelop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292640"/>
            <a:ext cx="8569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gration of platform and HW components into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product specific/unique components/features which are not covered by the   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and testing of the PCB(s) incl. equipped functions (e.g. RF, BB, B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of HW approvals and documentation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coustics, Antenna and EMC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mass production qu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oft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2181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711440"/>
            <a:ext cx="763416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ll activities for the deliveries of the supplier (basic package), provisioning of the platform frame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sion of features used in more than one product (including licens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integrity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nning support for all products based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General operator variant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865760"/>
            <a:ext cx="7993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Feature/component development used for only one dedicated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integration (incl. Build and Integration manageme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W product project l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ustom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ystem Test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700280"/>
            <a:ext cx="763416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OTs for new platform 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ing of platform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Providing test capabilities for new technologies (e.g. HSDPA) are handled within predevelopment projects, as they are platform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292640"/>
            <a:ext cx="799308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Operator acceptance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pproval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ertification/Approval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fforts for project coordination, reporting, error track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CM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76341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latform component (reuse &gt;=2, i.e. BB chipse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of test boards (breadboards etc.) in the prototype sh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general framework for production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StackUp issues are handled in the stack up te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292640"/>
            <a:ext cx="7993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roject specific  component (i.e. barometer chip or hous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ing, test concept, assembly concept, adapter built, production process qualification and ver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amp up, logistics and supplier quality assu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and maintenance after S4 milestone (currently not planned in Primaver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4320" y="765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Quality Assuranc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7160" y="83664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1417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268280"/>
            <a:ext cx="8785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porting work, product quality and process adherence support for components/sub-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and monitoring of Q-targets for suppliers and sub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upport of TAMs by audits and acceptance proced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ect prognosis, driving resolution of quality risks and non complianc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Management of 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807000"/>
            <a:ext cx="8424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ject attended quality assurance for each product from M0 to M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of Q-targets, crisis management, defect classification, return rate progno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lease of core-software and customization/vari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UAT (End User Acceptance Test); GCF-Field-T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ventive quality assurance (FMEA, Review, Audit, Release of QA Milestones,...) and product safety (Risk Potential Analysis, EN60950,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product quality (environmental testing, failure tracking, .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ans-Peter Hoeckenreiner</cp:lastModifiedBy>
  <dcterms:modified xsi:type="dcterms:W3CDTF">2006-05-03T09:46:06Z</dcterms:modified>
  <cp:revision>136</cp:revision>
  <dc:subject/>
  <dc:title>PowerPoint 簡報</dc:title>
</cp:coreProperties>
</file>