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E5371-E0AE-4D3F-A310-0DC64864AB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F37D2-3D7A-45C7-8514-323F5D31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89AA9-47FE-4682-9169-7E86C4DC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7F0EE-7102-4D67-8354-28D5DC06C3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BB9C-E1F6-43AA-8E7B-B044B46E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37C8C-666B-4461-9012-4DD15307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BC3A9-1344-469F-9301-020D62DB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7843E-A4C6-43F7-8BDD-5657D972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876BF-1E02-4856-9040-34F13227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A5975-334F-4C7B-AC48-2EA2690E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B236A-7CF2-4CFB-BD48-48BE10F1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ECBA5-0DB6-4C2D-A8FF-66EA4A7B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07A4-90B5-4427-B136-9F8F690BDED4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&lt;Product&gt;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approach slogan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&lt;Milestone&gt;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Presenter’s 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681360"/>
            <a:ext cx="83185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Team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93752-5AC5-41F1-BDBB-A9D730FC65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3571920" cy="360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56000" y="831960"/>
            <a:ext cx="4467240" cy="20973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ealisation vs.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3122640"/>
            <a:ext cx="4467240" cy="20422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volu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5334120"/>
            <a:ext cx="4467240" cy="6159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PRODUCT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MILESTONE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D85BB-742B-495B-8929-2F0F65B1D2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357192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56000" y="1265400"/>
            <a:ext cx="4537080" cy="23086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PRODUCT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MILESTONE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4076640"/>
            <a:ext cx="4467240" cy="176652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u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2F5CA-A3D6-4713-859A-6A9A8C3223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6524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49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Measures, Responsibles and Due Date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047600"/>
            <a:ext cx="8785440" cy="5189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08000" y="3135240"/>
            <a:ext cx="6120000" cy="1803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se of an non-green Q-Gates it’s up to the team to define during the Q-Gate process adequate measures, responsibles and due dates to reach a green Q-Gate ra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ou can find this sheet here: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s://www.benqmobile.siemens.com/livelink/livelink.exe/open/3360479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672CE-E943-4C31-A98F-E8F7EFA57F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Decisions, resources, etc.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concrete actions only, e.g. not „higher  management attention“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Dr. Eickhol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8952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6371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CFC5C-7349-42E6-9028-EB46BAD25E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9C97D-C571-43EB-9C34-56C22BB8B7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27320" y="374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04640"/>
            <a:ext cx="2960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TA &lt;Product&gt;</a:t>
            </a: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tus &lt;Milest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61280" y="2065320"/>
            <a:ext cx="12301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nclude Schedu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(from S0 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9440" y="1628640"/>
          <a:ext cx="5722920" cy="38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628640"/>
                    <a:ext cx="572292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 flipV="1">
            <a:off x="1074600" y="2050560"/>
            <a:ext cx="4857840" cy="30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5E9C9-013F-498A-A0F3-A7DAD82838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65240" y="396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04640"/>
            <a:ext cx="42958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&amp;D Spending &lt;Product&gt;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Product Approach Sloga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9960" y="773280"/>
          <a:ext cx="6477120" cy="460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773280"/>
                    <a:ext cx="647712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838080" y="5391000"/>
          <a:ext cx="3468960" cy="91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5391000"/>
                    <a:ext cx="34689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589800" y="1454040"/>
            <a:ext cx="259056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up to Mrz 02 were spent under predevelopment-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 opened Mrz 0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declared Mrz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cast after M3: 1‘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ince last month (also in M1-Plan): Higher hourly rate for FY 02/03: 0‘8 Mio EURO; NRE-Costs: 0‘5 Mio Eu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5600" y="5423040"/>
            <a:ext cx="2314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5d"/>
                </a:solidFill>
                <a:latin typeface="Arial"/>
              </a:rPr>
              <a:t>Costs of devi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2613A-185D-4A02-B31F-7C83600982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09D15-8262-46A7-A0DD-C20F4A2FA8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ssanm</cp:lastModifiedBy>
  <dcterms:modified xsi:type="dcterms:W3CDTF">2006-01-13T14:52:04Z</dcterms:modified>
  <cp:revision>99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55684188</vt:r8>
  </property>
  <property fmtid="{D5CDD505-2E9C-101B-9397-08002B2CF9AE}" pid="3" name="_AuthorEmail">
    <vt:lpwstr>Marcell.Assan@BenQ.com</vt:lpwstr>
  </property>
  <property fmtid="{D5CDD505-2E9C-101B-9397-08002B2CF9AE}" pid="4" name="_AuthorEmailDisplayName">
    <vt:lpwstr>Marcell Assan</vt:lpwstr>
  </property>
  <property fmtid="{D5CDD505-2E9C-101B-9397-08002B2CF9AE}" pid="5" name="_EmailSubject">
    <vt:lpwstr>TPM / TPM BA jf am 9.1.</vt:lpwstr>
  </property>
</Properties>
</file>