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C1F-BBC8-49B5-B3A4-A8BD1824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35A-9BF7-46E7-B42B-E8931FAD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9DD-D1D4-4D36-B197-D40ACD78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93B-AB96-4074-A807-69007B6D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721-B4AE-4E6D-95E5-C1C29D8C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4B5-08DC-42DF-82CF-C7F5F368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03B-8852-4DA7-9A74-BFE683FA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388-8DCC-48B5-9B11-A22DB37C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A46-279E-4DE2-BF41-480829D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1EE-0CBB-46E6-8DD7-244C406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C0F-C77A-4036-9FCF-C28B94B8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E3F-74FB-49D0-B3F9-005D9C4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89CC-D1DD-4B29-A46D-6EE2625109D0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arrenkothen, Gallner, 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Minion"/>
              </a:rPr>
              <a:t>Procedure for update of Primavera MS Reporting for OPC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101268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868320"/>
            <a:ext cx="237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0516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5464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34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24880" y="359424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9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95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56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605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60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34920" y="35910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7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8800" y="35910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3346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2120" y="357516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7416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852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6144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8120" y="360360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0700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148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71960" y="360036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720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4520" y="33717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6404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7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040" y="343692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2240" y="4191120"/>
            <a:ext cx="19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Minion"/>
                <a:ea typeface="文鼎中黑"/>
              </a:rPr>
              <a:t>TPM to judge / modify / change (if necessary) and commit to the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20760" y="3605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157720"/>
            <a:ext cx="2201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cal Primavera support to create  extract of Primavera MS planning 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Primavera 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8960" y="329256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72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28680" y="358452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6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33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99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63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2080" y="3600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198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3872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836640"/>
            <a:ext cx="259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2852640"/>
            <a:ext cx="50328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2852640"/>
            <a:ext cx="5029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78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933720"/>
            <a:ext cx="2449800" cy="216000"/>
          </a:xfrm>
          <a:custGeom>
            <a:avLst/>
            <a:gdLst>
              <a:gd name="textAreaLeft" fmla="*/ 428760 w 2449800"/>
              <a:gd name="textAreaRight" fmla="*/ 1776240 w 24498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tefan Gallner</cp:lastModifiedBy>
  <dcterms:modified xsi:type="dcterms:W3CDTF">2006-02-16T08:56:42Z</dcterms:modified>
  <cp:revision>82</cp:revision>
  <dc:subject/>
  <dc:title>PowerPoint 簡報</dc:title>
</cp:coreProperties>
</file>