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wmf" ContentType="image/x-wmf"/>
  <Override PartName="/ppt/media/image7.jpeg" ContentType="image/jpeg"/>
  <Override PartName="/ppt/media/image6.wmf" ContentType="image/x-wmf"/>
  <Override PartName="/ppt/media/image9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20880" y="74268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move the slid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7175A-CB64-4B4D-81E0-0E79B716DDE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DC965-2AAF-4AA4-BD21-8610AC69C24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917640" y="74124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93360" y="4704840"/>
            <a:ext cx="538812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7E907-9E14-4C2E-AB44-AB4C6A84537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917640" y="74124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93360" y="4704840"/>
            <a:ext cx="538812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47835-06CB-4707-8B85-8B8A029B052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917640" y="74124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93360" y="4704840"/>
            <a:ext cx="538812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2AA8-5FE1-44FB-A666-B0D48D741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9602-5ADE-4FCE-B837-6933C8534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2296-183A-4EE8-B3DE-F8C2AD41E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9FE9-607C-4E37-A7E4-21D774280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F549-B1EE-43CF-81C9-6685E41CD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8163-9837-4E3F-A509-FC8CBA843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B881-4013-4FC3-9F7E-C555DA235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B206-068F-47FB-ABE9-2131A7ADC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6C2F-982B-4B6B-9E6B-FC34B9378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C3FF-74E8-480A-9EA6-1B251BB80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28F3-9AF4-499E-ADC8-425CC2404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1DCD-AE92-44B5-B079-8460289C7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514600" y="623736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3674880" y="6370200"/>
            <a:ext cx="9349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C3D02-EF37-4BAF-A987-D96CD3C4AC40}" type="slidenum">
              <a:rPr b="0" lang="en-US" sz="10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355284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6/03/15) </a:t>
            </a:r>
            <a:r>
              <a:rPr b="0" lang="zh-TW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6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701064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inion"/>
              </a:rPr>
              <a:t>R&amp;D Meeting</a:t>
            </a:r>
            <a:endParaRPr b="1" lang="en-US" sz="4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1" name=""/>
          <p:cNvSpPr/>
          <p:nvPr/>
        </p:nvSpPr>
        <p:spPr>
          <a:xfrm>
            <a:off x="409680" y="4981680"/>
            <a:ext cx="4572000" cy="13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Holger Asmu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BMG PHE TPM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2006-03-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D904-F0DA-4987-9043-AAB9696EB93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a0e66"/>
                </a:solidFill>
                <a:latin typeface="Minion"/>
              </a:rPr>
              <a:t>Key Tasks of BO Team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8" name=""/>
          <p:cNvSpPr/>
          <p:nvPr/>
        </p:nvSpPr>
        <p:spPr>
          <a:xfrm>
            <a:off x="1457280" y="5332320"/>
            <a:ext cx="360" cy="244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81040" y="765000"/>
            <a:ext cx="1368360" cy="1656000"/>
          </a:xfrm>
          <a:prstGeom prst="rect">
            <a:avLst/>
          </a:prstGeom>
          <a:gradFill rotWithShape="0">
            <a:gsLst>
              <a:gs pos="0">
                <a:srgbClr val="bad1e8"/>
              </a:gs>
              <a:gs pos="100000">
                <a:srgbClr val="cfdfee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6f7c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TPM B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2b5d"/>
                </a:solidFill>
                <a:latin typeface="Arial"/>
              </a:rPr>
              <a:t>Ms. Brigitte Flier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81040" y="3284640"/>
            <a:ext cx="1368360" cy="2881080"/>
          </a:xfrm>
          <a:prstGeom prst="rect">
            <a:avLst/>
          </a:prstGeom>
          <a:gradFill rotWithShape="0">
            <a:gsLst>
              <a:gs pos="0">
                <a:srgbClr val="bad1e8"/>
              </a:gs>
              <a:gs pos="100000">
                <a:srgbClr val="cfdfee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6f7c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BO 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2b5d"/>
                </a:solidFill>
                <a:latin typeface="Arial"/>
              </a:rPr>
              <a:t>Ms. Eva Lundgr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038320" y="1413000"/>
            <a:ext cx="13356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626080" y="1413000"/>
            <a:ext cx="666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499520" y="1413000"/>
            <a:ext cx="727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971720" y="1484280"/>
            <a:ext cx="13176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81040" y="2494080"/>
            <a:ext cx="1368360" cy="647640"/>
          </a:xfrm>
          <a:prstGeom prst="rect">
            <a:avLst/>
          </a:prstGeom>
          <a:gradFill rotWithShape="0">
            <a:gsLst>
              <a:gs pos="0">
                <a:srgbClr val="bad1e8"/>
              </a:gs>
              <a:gs pos="100000">
                <a:srgbClr val="cfdfee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6f7c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2b5d"/>
                </a:solidFill>
                <a:latin typeface="Arial"/>
              </a:rPr>
              <a:t>Ms. Anke Bartelheim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949400" y="765000"/>
            <a:ext cx="6624720" cy="1656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 marL="88920" indent="-8892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2b5d"/>
                </a:solidFill>
                <a:latin typeface="Arial"/>
              </a:rPr>
              <a:t>TTV responsible within Operations 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85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0000"/>
                </a:solidFill>
                <a:latin typeface="Arial"/>
              </a:rPr>
              <a:t>Ramp up Planning</a:t>
            </a:r>
            <a:r>
              <a:rPr b="0" lang="de-DE" sz="1200" spc="-1" strike="noStrike">
                <a:solidFill>
                  <a:srgbClr val="002b5d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2b5d"/>
                </a:solidFill>
                <a:latin typeface="Arial"/>
                <a:ea typeface="新細明體"/>
              </a:rPr>
              <a:t>Dispatch of Variants according sales allocation and variant release progress based on material</a:t>
            </a:r>
            <a:br>
              <a:rPr sz="1100"/>
            </a:br>
            <a:r>
              <a:rPr b="0" lang="de-DE" sz="1100" spc="-1" strike="noStrike">
                <a:solidFill>
                  <a:srgbClr val="002b5d"/>
                </a:solidFill>
                <a:latin typeface="Arial"/>
                <a:ea typeface="新細明體"/>
              </a:rPr>
              <a:t> availability and production capacit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2b5d"/>
                </a:solidFill>
                <a:latin typeface="Arial"/>
                <a:ea typeface="新細明體"/>
              </a:rPr>
              <a:t>Manage Hub‘s &amp; Regiosn Sales and Acquistions Samples (master logisitc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2b5d"/>
                </a:solidFill>
                <a:latin typeface="Arial"/>
                <a:ea typeface="新細明體"/>
              </a:rPr>
              <a:t>Manage Region‘s Approvals (OpCos, Op, Retail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85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0000"/>
                </a:solidFill>
                <a:latin typeface="Arial"/>
              </a:rPr>
              <a:t>LC Stee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2b5d"/>
                </a:solidFill>
                <a:latin typeface="Arial"/>
                <a:ea typeface="新細明體"/>
              </a:rPr>
              <a:t>Early Warning system DOS vs. ROF and PP in close cooperation with SCM (air traffic controller)</a:t>
            </a:r>
            <a:br>
              <a:rPr sz="1100"/>
            </a:br>
            <a:r>
              <a:rPr b="0" lang="de-DE" sz="1100" spc="-1" strike="noStrike">
                <a:solidFill>
                  <a:srgbClr val="002b5d"/>
                </a:solidFill>
                <a:latin typeface="Arial"/>
                <a:ea typeface="新細明體"/>
              </a:rPr>
              <a:t> of dedicated product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2b5d"/>
                </a:solidFill>
                <a:latin typeface="Arial"/>
                <a:ea typeface="新細明體"/>
              </a:rPr>
              <a:t>Manage EOL Risk beginning at D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85000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949400" y="2494080"/>
            <a:ext cx="6624720" cy="6476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 marL="88920" indent="-8892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0000"/>
                </a:solidFill>
                <a:latin typeface="Arial"/>
              </a:rPr>
              <a:t>Localisation of</a:t>
            </a:r>
            <a:r>
              <a:rPr b="0" lang="de-DE" sz="1200" spc="-1" strike="noStrike">
                <a:solidFill>
                  <a:srgbClr val="002b5d"/>
                </a:solidFill>
                <a:latin typeface="Arial"/>
              </a:rPr>
              <a:t>  Pre installed </a:t>
            </a:r>
            <a:r>
              <a:rPr b="0" lang="de-DE" sz="1200" spc="-1" strike="noStrike">
                <a:solidFill>
                  <a:srgbClr val="ff0000"/>
                </a:solidFill>
                <a:latin typeface="Arial"/>
              </a:rPr>
              <a:t>Applications</a:t>
            </a:r>
            <a:r>
              <a:rPr b="0" lang="de-DE" sz="1200" spc="-1" strike="noStrike">
                <a:solidFill>
                  <a:srgbClr val="002b5d"/>
                </a:solidFill>
                <a:latin typeface="Arial"/>
              </a:rPr>
              <a:t> and Applications for WEB and WAP in all languages </a:t>
            </a:r>
            <a:br>
              <a:rPr sz="1200"/>
            </a:br>
            <a:r>
              <a:rPr b="0" lang="de-DE" sz="1200" spc="-1" strike="noStrike">
                <a:solidFill>
                  <a:srgbClr val="002b5d"/>
                </a:solidFill>
                <a:latin typeface="Arial"/>
              </a:rPr>
              <a:t>(6-17 Applications per Product/45 Languag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949400" y="3284640"/>
            <a:ext cx="6624720" cy="2881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 marL="88920" indent="-8892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2b5d"/>
                </a:solidFill>
                <a:latin typeface="Arial"/>
              </a:rPr>
              <a:t>Dispo, country and </a:t>
            </a:r>
            <a:r>
              <a:rPr b="0" lang="de-DE" sz="1200" spc="-1" strike="noStrike">
                <a:solidFill>
                  <a:srgbClr val="ff0000"/>
                </a:solidFill>
                <a:latin typeface="Arial"/>
              </a:rPr>
              <a:t>customer variants</a:t>
            </a:r>
            <a:r>
              <a:rPr b="0" lang="de-DE" sz="1200" spc="-1" strike="noStrike">
                <a:solidFill>
                  <a:srgbClr val="002b5d"/>
                </a:solidFill>
                <a:latin typeface="Arial"/>
              </a:rPr>
              <a:t> in different stati as basis for planning, dispo and produ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85000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2b5d"/>
                </a:solidFill>
                <a:latin typeface="Arial"/>
              </a:rPr>
              <a:t>Lead 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2b5d"/>
                </a:solidFill>
                <a:latin typeface="Arial"/>
                <a:ea typeface="新細明體"/>
              </a:rPr>
              <a:t>Responsibility for variant relevant topics from </a:t>
            </a:r>
            <a:r>
              <a:rPr b="1" lang="en-US" sz="1100" spc="-1" strike="noStrike">
                <a:solidFill>
                  <a:srgbClr val="ff0000"/>
                </a:solidFill>
                <a:latin typeface="Arial"/>
                <a:ea typeface="新細明體"/>
              </a:rPr>
              <a:t>M0-M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2b5d"/>
                </a:solidFill>
                <a:latin typeface="Arial"/>
                <a:ea typeface="新細明體"/>
              </a:rPr>
              <a:t>Create &amp; update Customization Guide and Variant request Templa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2b5d"/>
                </a:solidFill>
                <a:latin typeface="Arial"/>
                <a:ea typeface="新細明體"/>
              </a:rPr>
              <a:t>Create Calculation/Dispo/Standard Int &amp; No-ID Varia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2b5d"/>
                </a:solidFill>
                <a:latin typeface="Arial"/>
                <a:ea typeface="新細明體"/>
              </a:rPr>
              <a:t>Interface between Variantmanagement and Operations Tea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2b5d"/>
                </a:solidFill>
                <a:latin typeface="Arial"/>
                <a:ea typeface="新細明體"/>
              </a:rPr>
              <a:t>Coordinate variant releases in accordance together with VM to ramp-up pla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2b5d"/>
                </a:solidFill>
                <a:latin typeface="Arial"/>
                <a:ea typeface="新細明體"/>
              </a:rPr>
              <a:t>Coordination and implementation of variant related  overall product Change Request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Country 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2b5d"/>
                </a:solidFill>
                <a:latin typeface="Arial"/>
                <a:ea typeface="新細明體"/>
              </a:rPr>
              <a:t>Trigger, check  &amp; coordinate Variant Requests according to necessary timelin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2b5d"/>
                </a:solidFill>
                <a:latin typeface="Arial"/>
                <a:ea typeface="新細明體"/>
              </a:rPr>
              <a:t>Create Variant Specifica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2b5d"/>
                </a:solidFill>
                <a:latin typeface="Arial"/>
                <a:ea typeface="新細明體"/>
              </a:rPr>
              <a:t>Monitor the realization of the variants (sap-availability, sw- &amp; hw- realization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2b5d"/>
                </a:solidFill>
                <a:latin typeface="Arial"/>
                <a:ea typeface="新細明體"/>
              </a:rPr>
              <a:t>Monitor and coordinate release processes (customer &amp; internal quality) for variant specific requirement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2b5d"/>
                </a:solidFill>
                <a:latin typeface="Arial"/>
                <a:ea typeface="新細明體"/>
              </a:rPr>
              <a:t>i.e. labels, leaflets, settings, printed cover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2b5d"/>
                </a:solidFill>
                <a:latin typeface="Arial"/>
                <a:ea typeface="新細明體"/>
              </a:rPr>
              <a:t>Coordinate and implement change requests required by customers throughout lifecycl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2b5d"/>
                </a:solidFill>
                <a:latin typeface="Arial"/>
                <a:ea typeface="新細明體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85000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063A-A46F-42EF-9310-81B6216921D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560" y="404280"/>
            <a:ext cx="7391160" cy="762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a0e66"/>
                </a:solidFill>
                <a:latin typeface="Minion"/>
              </a:rPr>
              <a:t>Key Tasks of BO Team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0" name=""/>
          <p:cNvSpPr/>
          <p:nvPr/>
        </p:nvSpPr>
        <p:spPr>
          <a:xfrm>
            <a:off x="1504800" y="5332320"/>
            <a:ext cx="360" cy="244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5480" y="2205000"/>
            <a:ext cx="1368720" cy="503280"/>
          </a:xfrm>
          <a:prstGeom prst="rect">
            <a:avLst/>
          </a:prstGeom>
          <a:gradFill rotWithShape="0">
            <a:gsLst>
              <a:gs pos="0">
                <a:srgbClr val="bad1e8"/>
              </a:gs>
              <a:gs pos="100000">
                <a:srgbClr val="cfdfee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6f7c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BO 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2b5d"/>
                </a:solidFill>
                <a:latin typeface="Arial"/>
              </a:rPr>
              <a:t>Mr. Thomas Janz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55480" y="2925720"/>
            <a:ext cx="1368720" cy="1438200"/>
          </a:xfrm>
          <a:prstGeom prst="rect">
            <a:avLst/>
          </a:prstGeom>
          <a:gradFill rotWithShape="0">
            <a:gsLst>
              <a:gs pos="0">
                <a:srgbClr val="bad1e8"/>
              </a:gs>
              <a:gs pos="100000">
                <a:srgbClr val="cfdfee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6f7c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BO 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2b5d"/>
                </a:solidFill>
                <a:latin typeface="Arial"/>
              </a:rPr>
              <a:t>Mr. Michael Ru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55480" y="4510080"/>
            <a:ext cx="1328760" cy="1511280"/>
          </a:xfrm>
          <a:prstGeom prst="rect">
            <a:avLst/>
          </a:prstGeom>
          <a:gradFill rotWithShape="0">
            <a:gsLst>
              <a:gs pos="0">
                <a:srgbClr val="bad1e8"/>
              </a:gs>
              <a:gs pos="100000">
                <a:srgbClr val="cfdfee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6f7c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GP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2b5d"/>
                </a:solidFill>
                <a:latin typeface="Arial"/>
              </a:rPr>
              <a:t>Mr. Edmund Trage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55480" y="1341360"/>
            <a:ext cx="1368720" cy="719280"/>
          </a:xfrm>
          <a:prstGeom prst="rect">
            <a:avLst/>
          </a:prstGeom>
          <a:gradFill rotWithShape="0">
            <a:gsLst>
              <a:gs pos="0">
                <a:srgbClr val="bad1e8"/>
              </a:gs>
              <a:gs pos="100000">
                <a:srgbClr val="cfdfee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6f7c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BO PHA 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2b5d"/>
                </a:solidFill>
                <a:latin typeface="Arial"/>
              </a:rPr>
              <a:t>Ms. Andrea Hein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924200" y="1341360"/>
            <a:ext cx="6624360" cy="719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 marL="88920" indent="-8892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2b5d"/>
                </a:solidFill>
                <a:latin typeface="Arial"/>
              </a:rPr>
              <a:t>BO Interface to PHA Taipe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85000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2b5d"/>
                </a:solidFill>
                <a:latin typeface="Arial"/>
              </a:rPr>
              <a:t>Dispovariants for ODM/BenQ Product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85000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2b5d"/>
                </a:solidFill>
                <a:latin typeface="Arial"/>
              </a:rPr>
              <a:t>Co-ordination of all </a:t>
            </a:r>
            <a:r>
              <a:rPr b="0" lang="de-DE" sz="1200" spc="-1" strike="noStrike">
                <a:solidFill>
                  <a:srgbClr val="ff0000"/>
                </a:solidFill>
                <a:latin typeface="Arial"/>
              </a:rPr>
              <a:t>BO Items for European/LAM Launch</a:t>
            </a:r>
            <a:r>
              <a:rPr b="0" lang="de-DE" sz="1200" spc="-1" strike="noStrike">
                <a:solidFill>
                  <a:srgbClr val="002b5d"/>
                </a:solidFill>
                <a:latin typeface="Arial"/>
              </a:rPr>
              <a:t>, icl. Ramp up Planning, Variants, Approvals, User Manu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924200" y="2203560"/>
            <a:ext cx="6624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 marL="88920" indent="-8892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2b5d"/>
                </a:solidFill>
                <a:latin typeface="Arial"/>
              </a:rPr>
              <a:t>EOL for all Produ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85000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b5d"/>
                </a:solidFill>
                <a:latin typeface="Arial"/>
              </a:rPr>
              <a:t>Co-ordination of all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Ramp Down</a:t>
            </a:r>
            <a:r>
              <a:rPr b="0" lang="en-US" sz="1200" spc="-1" strike="noStrike">
                <a:solidFill>
                  <a:srgbClr val="002b5d"/>
                </a:solidFill>
                <a:latin typeface="Arial"/>
              </a:rPr>
              <a:t> activities (Material, Production planning, Sales Allocation) according to timeline and budget targ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924200" y="2852640"/>
            <a:ext cx="662436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 marL="88920" indent="-8892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0000"/>
                </a:solidFill>
                <a:latin typeface="Arial"/>
              </a:rPr>
              <a:t>User manuals, CDs, Packag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85000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b5d"/>
                </a:solidFill>
                <a:latin typeface="Arial"/>
              </a:rPr>
              <a:t>Define Concepts for User Guide, Packaging, C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85000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2b5d"/>
                </a:solidFill>
                <a:latin typeface="Arial"/>
              </a:rPr>
              <a:t>Create Master User Gu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85000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b5d"/>
                </a:solidFill>
                <a:latin typeface="Arial"/>
              </a:rPr>
              <a:t>Localisation / Customisation of master user guides (translation, customer/country specific adaption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85000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b5d"/>
                </a:solidFill>
                <a:latin typeface="Arial"/>
              </a:rPr>
              <a:t>Coordinate Realisation of Standard Packaging (Inlet, Box, Layou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85000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b5d"/>
                </a:solidFill>
                <a:latin typeface="Arial"/>
              </a:rPr>
              <a:t>Localisation / Customisation of master user guides (translation, customer/country specific adaptio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85000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b5d"/>
                </a:solidFill>
                <a:latin typeface="Arial"/>
              </a:rPr>
              <a:t>Coordinate Realisation of CD incl. local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96920" y="4510080"/>
            <a:ext cx="655164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 marL="88920" indent="-8892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2b5d"/>
                </a:solidFill>
                <a:latin typeface="Arial"/>
              </a:rPr>
              <a:t>Technical Interface to Regions/</a:t>
            </a:r>
            <a:r>
              <a:rPr b="0" lang="de-DE" sz="1400" spc="-1" strike="noStrike">
                <a:solidFill>
                  <a:srgbClr val="ff0000"/>
                </a:solidFill>
                <a:latin typeface="Arial"/>
              </a:rPr>
              <a:t>SW Approv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85000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2b5d"/>
                </a:solidFill>
                <a:latin typeface="Arial"/>
              </a:rPr>
              <a:t>Plan regional Sample/Cradle Dem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85000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2b5d"/>
                </a:solidFill>
                <a:latin typeface="Arial"/>
              </a:rPr>
              <a:t>Provide Approval Time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85000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2b5d"/>
                </a:solidFill>
                <a:latin typeface="Arial"/>
              </a:rPr>
              <a:t>Provide Data Sheet/technical Spec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85000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2b5d"/>
                </a:solidFill>
                <a:latin typeface="Arial"/>
              </a:rPr>
              <a:t>Trigger regioanl keypad appro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85000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b5d"/>
                </a:solidFill>
                <a:latin typeface="Arial"/>
              </a:rPr>
              <a:t>Trigger SW Appro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b5d"/>
                </a:solidFill>
                <a:latin typeface="Arial"/>
                <a:ea typeface="新細明體"/>
              </a:rPr>
              <a:t>- coordinate sample distribution to reg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b5d"/>
                </a:solidFill>
                <a:latin typeface="Arial"/>
                <a:ea typeface="新細明體"/>
              </a:rPr>
              <a:t>- coordinate SW dis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b5d"/>
                </a:solidFill>
                <a:latin typeface="Arial"/>
                <a:ea typeface="新細明體"/>
              </a:rPr>
              <a:t>- Monitor CQ,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29F6-ECB7-420F-A3EE-AF09568CC6D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</a:rPr>
              <a:t>54 Applications in 180 Versions to be translated in 44 Languages</a:t>
            </a:r>
            <a:br>
              <a:rPr sz="2000"/>
            </a:br>
            <a:r>
              <a:rPr b="1" lang="de-DE" sz="2000" spc="-1" strike="noStrike">
                <a:solidFill>
                  <a:srgbClr val="3a0e66"/>
                </a:solidFill>
                <a:latin typeface="Minion"/>
              </a:rPr>
              <a:t>(more than 2300 Miniprojects)</a:t>
            </a:r>
            <a:endParaRPr b="1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684360" y="892080"/>
            <a:ext cx="7775280" cy="254952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236160" y="3483000"/>
            <a:ext cx="16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Arial"/>
                <a:ea typeface="文鼎中黑"/>
              </a:rPr>
              <a:t>Langu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2124000" y="3627360"/>
            <a:ext cx="6120000" cy="253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1BF7-ADFB-4C6F-80B6-E8695BEE78F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BO Complexity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168120" y="692280"/>
            <a:ext cx="8507520" cy="5654520"/>
            <a:chOff x="168120" y="692280"/>
            <a:chExt cx="8507520" cy="5654520"/>
          </a:xfrm>
        </p:grpSpPr>
        <p:sp>
          <p:nvSpPr>
            <p:cNvPr id="315" name=""/>
            <p:cNvSpPr/>
            <p:nvPr/>
          </p:nvSpPr>
          <p:spPr>
            <a:xfrm>
              <a:off x="2916360" y="4533840"/>
              <a:ext cx="475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16200000">
              <a:off x="3303720" y="2328840"/>
              <a:ext cx="2736720" cy="3400560"/>
            </a:xfrm>
            <a:prstGeom prst="cube">
              <a:avLst>
                <a:gd name="adj" fmla="val 30203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2960640" y="1598760"/>
              <a:ext cx="14400" cy="308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952280" y="1273320"/>
              <a:ext cx="1035720" cy="6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Produc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in RU and </a:t>
              </a:r>
              <a:br>
                <a:rPr sz="1400"/>
              </a:br>
              <a:r>
                <a:rPr b="0" lang="de-DE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Life Cyc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119840" y="5613480"/>
              <a:ext cx="10584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Regions/</a:t>
              </a:r>
              <a:br>
                <a:rPr sz="1400"/>
              </a:br>
              <a:r>
                <a:rPr b="0" lang="de-DE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countries/</a:t>
              </a:r>
              <a:br>
                <a:rPr sz="1400"/>
              </a:br>
              <a:r>
                <a:rPr b="0" lang="de-DE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custome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3851280" y="692280"/>
              <a:ext cx="4824360" cy="1625400"/>
              <a:chOff x="3851280" y="692280"/>
              <a:chExt cx="4824360" cy="1625400"/>
            </a:xfrm>
          </p:grpSpPr>
          <p:sp>
            <p:nvSpPr>
              <p:cNvPr id="321" name=""/>
              <p:cNvSpPr/>
              <p:nvPr/>
            </p:nvSpPr>
            <p:spPr>
              <a:xfrm>
                <a:off x="3851280" y="692280"/>
                <a:ext cx="4824360" cy="1625400"/>
              </a:xfrm>
              <a:prstGeom prst="roundRect">
                <a:avLst>
                  <a:gd name="adj" fmla="val 16667"/>
                </a:avLst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899520" y="887040"/>
                <a:ext cx="4775400" cy="131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6666"/>
                    </a:solidFill>
                    <a:latin typeface="Wingdings"/>
                    <a:ea typeface="Wingdings"/>
                  </a:rPr>
                  <a:t></a:t>
                </a:r>
                <a:r>
                  <a:rPr b="0" lang="de-DE" sz="2000" spc="-1" strike="noStrike">
                    <a:solidFill>
                      <a:srgbClr val="006666"/>
                    </a:solidFill>
                    <a:latin typeface="Minion"/>
                    <a:ea typeface="文鼎中黑"/>
                  </a:rPr>
                  <a:t> </a:t>
                </a:r>
                <a:r>
                  <a:rPr b="0" lang="de-DE" sz="2000" spc="-1" strike="noStrike">
                    <a:solidFill>
                      <a:srgbClr val="006666"/>
                    </a:solidFill>
                    <a:latin typeface="Minion"/>
                    <a:ea typeface="文鼎中黑"/>
                  </a:rPr>
                  <a:t>&gt; 4.500 active Variants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6666"/>
                    </a:solidFill>
                    <a:latin typeface="Wingdings"/>
                    <a:ea typeface="Wingdings"/>
                  </a:rPr>
                  <a:t></a:t>
                </a:r>
                <a:r>
                  <a:rPr b="0" lang="de-DE" sz="2000" spc="-1" strike="noStrike">
                    <a:solidFill>
                      <a:srgbClr val="006666"/>
                    </a:solidFill>
                    <a:latin typeface="Minion"/>
                    <a:ea typeface="文鼎中黑"/>
                  </a:rPr>
                  <a:t> </a:t>
                </a:r>
                <a:r>
                  <a:rPr b="0" lang="de-DE" sz="2000" spc="-1" strike="noStrike">
                    <a:solidFill>
                      <a:srgbClr val="006666"/>
                    </a:solidFill>
                    <a:latin typeface="Minion"/>
                    <a:ea typeface="文鼎中黑"/>
                  </a:rPr>
                  <a:t>&gt; 1.750 active User manuals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6666"/>
                    </a:solidFill>
                    <a:latin typeface="Wingdings"/>
                    <a:ea typeface="Wingdings"/>
                  </a:rPr>
                  <a:t></a:t>
                </a:r>
                <a:r>
                  <a:rPr b="0" lang="de-DE" sz="2000" spc="-1" strike="noStrike">
                    <a:solidFill>
                      <a:srgbClr val="006666"/>
                    </a:solidFill>
                    <a:latin typeface="Minion"/>
                    <a:ea typeface="文鼎中黑"/>
                  </a:rPr>
                  <a:t> </a:t>
                </a:r>
                <a:r>
                  <a:rPr b="0" lang="de-DE" sz="2000" spc="-1" strike="noStrike">
                    <a:solidFill>
                      <a:srgbClr val="006666"/>
                    </a:solidFill>
                    <a:latin typeface="Minion"/>
                    <a:ea typeface="文鼎中黑"/>
                  </a:rPr>
                  <a:t>&gt;      55 Applications in 180 Versions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6666"/>
                    </a:solidFill>
                    <a:latin typeface="Minion"/>
                    <a:ea typeface="文鼎中黑"/>
                  </a:rPr>
                  <a:t>                  </a:t>
                </a:r>
                <a:r>
                  <a:rPr b="0" lang="de-DE" sz="2000" spc="-1" strike="noStrike">
                    <a:solidFill>
                      <a:srgbClr val="006666"/>
                    </a:solidFill>
                    <a:latin typeface="Minion"/>
                    <a:ea typeface="文鼎中黑"/>
                  </a:rPr>
                  <a:t>and 44 Languages (&gt; 7.000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3" name=""/>
            <p:cNvSpPr/>
            <p:nvPr/>
          </p:nvSpPr>
          <p:spPr>
            <a:xfrm>
              <a:off x="3754440" y="3790800"/>
              <a:ext cx="2746800" cy="124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Changes over Life Cyc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 </a:t>
              </a:r>
              <a:r>
                <a:rPr b="0" lang="de-DE" sz="12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Colou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 </a:t>
              </a:r>
              <a:r>
                <a:rPr b="0" lang="de-DE" sz="12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Dt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 </a:t>
              </a:r>
              <a:r>
                <a:rPr b="0" lang="de-DE" sz="12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New Requirements from countr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 </a:t>
              </a:r>
              <a:r>
                <a:rPr b="0" lang="de-DE" sz="12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Setting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 </a:t>
              </a:r>
              <a:r>
                <a:rPr b="0" lang="de-DE" sz="12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Logisit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660440" y="4394160"/>
              <a:ext cx="88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Lifecyc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68120" y="4932360"/>
              <a:ext cx="31086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  </a:t>
              </a:r>
              <a:r>
                <a:rPr b="0" lang="de-DE" sz="20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60 Regions/Countries  </a:t>
              </a:r>
              <a:br>
                <a:rPr sz="2000"/>
              </a:br>
              <a:r>
                <a:rPr b="0" lang="de-DE" sz="20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120 Operators </a:t>
              </a:r>
              <a:br>
                <a:rPr sz="2000"/>
              </a:br>
              <a:r>
                <a:rPr b="0" lang="de-DE" sz="20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  30 Retail Custom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38040" y="2425680"/>
              <a:ext cx="149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31 Projec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511320" y="4562640"/>
              <a:ext cx="109044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M0 – M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915120" y="2982960"/>
              <a:ext cx="2085840" cy="11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C72, ME75, S75, SL75, SXG75,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Kestrel, Polaris, Swift, Swan,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Obsidian, Philippe, Hawk, AX72,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CF110, Quail, Finch, Pelican,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Goldfinch, Amber, M75, CX75,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A70, AX75, A65, A75, CF75, S65,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SL65, M65, A57, SP6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852640" y="4449600"/>
              <a:ext cx="1295640" cy="12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45CD-E843-4278-A41C-7B186EBAC48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505800" y="345960"/>
            <a:ext cx="814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One man can‘t move a mountain, but a team can d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108000" y="1068480"/>
            <a:ext cx="8891640" cy="5335560"/>
            <a:chOff x="108000" y="1068480"/>
            <a:chExt cx="8891640" cy="5335560"/>
          </a:xfrm>
        </p:grpSpPr>
        <p:pic>
          <p:nvPicPr>
            <p:cNvPr id="332" name="" descr=""/>
            <p:cNvPicPr/>
            <p:nvPr/>
          </p:nvPicPr>
          <p:blipFill>
            <a:blip r:embed="rId1"/>
            <a:stretch/>
          </p:blipFill>
          <p:spPr>
            <a:xfrm>
              <a:off x="1592280" y="1357560"/>
              <a:ext cx="5977080" cy="4024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3" name=""/>
            <p:cNvGrpSpPr/>
            <p:nvPr/>
          </p:nvGrpSpPr>
          <p:grpSpPr>
            <a:xfrm>
              <a:off x="108000" y="1357560"/>
              <a:ext cx="1346040" cy="985680"/>
              <a:chOff x="108000" y="1357560"/>
              <a:chExt cx="1346040" cy="985680"/>
            </a:xfrm>
          </p:grpSpPr>
          <p:sp>
            <p:nvSpPr>
              <p:cNvPr id="334" name="PubTriangle"/>
              <p:cNvSpPr/>
              <p:nvPr/>
            </p:nvSpPr>
            <p:spPr>
              <a:xfrm>
                <a:off x="108000" y="1357560"/>
                <a:ext cx="1346040" cy="985680"/>
              </a:xfrm>
              <a:solidFill>
                <a:srgbClr val="d8ebb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20412600">
                <a:off x="413280" y="1616040"/>
                <a:ext cx="81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TP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136440" y="3876840"/>
              <a:ext cx="1346400" cy="986040"/>
              <a:chOff x="136440" y="3876840"/>
              <a:chExt cx="1346400" cy="986040"/>
            </a:xfrm>
          </p:grpSpPr>
          <p:sp>
            <p:nvSpPr>
              <p:cNvPr id="337" name="PubTriangle"/>
              <p:cNvSpPr/>
              <p:nvPr/>
            </p:nvSpPr>
            <p:spPr>
              <a:xfrm>
                <a:off x="136440" y="3876840"/>
                <a:ext cx="1346400" cy="986040"/>
              </a:xfrm>
              <a:solidFill>
                <a:srgbClr val="d8ebb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20337000">
                <a:off x="424800" y="4136760"/>
                <a:ext cx="814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R&amp;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3816360" y="5416920"/>
              <a:ext cx="1346040" cy="985680"/>
              <a:chOff x="3816360" y="5416920"/>
              <a:chExt cx="1346040" cy="985680"/>
            </a:xfrm>
          </p:grpSpPr>
          <p:sp>
            <p:nvSpPr>
              <p:cNvPr id="340" name="PubTriangle"/>
              <p:cNvSpPr/>
              <p:nvPr/>
            </p:nvSpPr>
            <p:spPr>
              <a:xfrm>
                <a:off x="3816360" y="5416920"/>
                <a:ext cx="1346040" cy="985680"/>
              </a:xfrm>
              <a:solidFill>
                <a:srgbClr val="d8ebb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rot="20412600">
                <a:off x="4232520" y="5688000"/>
                <a:ext cx="532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S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2" name=""/>
            <p:cNvGrpSpPr/>
            <p:nvPr/>
          </p:nvGrpSpPr>
          <p:grpSpPr>
            <a:xfrm>
              <a:off x="5940360" y="5418360"/>
              <a:ext cx="1346400" cy="985680"/>
              <a:chOff x="5940360" y="5418360"/>
              <a:chExt cx="1346400" cy="985680"/>
            </a:xfrm>
          </p:grpSpPr>
          <p:sp>
            <p:nvSpPr>
              <p:cNvPr id="343" name="PubTriangle"/>
              <p:cNvSpPr/>
              <p:nvPr/>
            </p:nvSpPr>
            <p:spPr>
              <a:xfrm>
                <a:off x="5940360" y="5418360"/>
                <a:ext cx="1346400" cy="985680"/>
              </a:xfrm>
              <a:solidFill>
                <a:srgbClr val="d8ebb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rot="20412600">
                <a:off x="6254280" y="5705280"/>
                <a:ext cx="816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SC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5" name=""/>
            <p:cNvGrpSpPr/>
            <p:nvPr/>
          </p:nvGrpSpPr>
          <p:grpSpPr>
            <a:xfrm>
              <a:off x="7653240" y="3733920"/>
              <a:ext cx="1346400" cy="986040"/>
              <a:chOff x="7653240" y="3733920"/>
              <a:chExt cx="1346400" cy="986040"/>
            </a:xfrm>
          </p:grpSpPr>
          <p:sp>
            <p:nvSpPr>
              <p:cNvPr id="346" name="PubTriangle"/>
              <p:cNvSpPr/>
              <p:nvPr/>
            </p:nvSpPr>
            <p:spPr>
              <a:xfrm>
                <a:off x="7653240" y="3733920"/>
                <a:ext cx="1346400" cy="986040"/>
              </a:xfrm>
              <a:solidFill>
                <a:srgbClr val="d8ebb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rot="20412600">
                <a:off x="7939080" y="4051080"/>
                <a:ext cx="69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Q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8" name=""/>
            <p:cNvGrpSpPr/>
            <p:nvPr/>
          </p:nvGrpSpPr>
          <p:grpSpPr>
            <a:xfrm>
              <a:off x="7596360" y="1068480"/>
              <a:ext cx="1346040" cy="986040"/>
              <a:chOff x="7596360" y="1068480"/>
              <a:chExt cx="1346040" cy="986040"/>
            </a:xfrm>
          </p:grpSpPr>
          <p:sp>
            <p:nvSpPr>
              <p:cNvPr id="349" name="PubTriangle"/>
              <p:cNvSpPr/>
              <p:nvPr/>
            </p:nvSpPr>
            <p:spPr>
              <a:xfrm>
                <a:off x="7596360" y="1068480"/>
                <a:ext cx="1346040" cy="986040"/>
              </a:xfrm>
              <a:solidFill>
                <a:srgbClr val="d8ebb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rot="20412600">
                <a:off x="7921800" y="1393560"/>
                <a:ext cx="56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C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1865-9061-4E16-A30F-C4072794B19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a0e66"/>
                </a:solidFill>
                <a:latin typeface="Minion"/>
              </a:rPr>
              <a:t>Backup</a:t>
            </a:r>
            <a:endParaRPr b="1" lang="en-US" sz="4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AB3E-A988-4567-9992-5C751E70371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720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Responsible Persons on Interfaces to TPM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330120" y="1052640"/>
            <a:ext cx="8421840" cy="4029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98CE-0EF5-4E01-874B-0A87343EAD6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6CD8-AA50-4FE0-B416-45BCFC097CC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701064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inion"/>
              </a:rPr>
              <a:t>TPM 2 monthly</a:t>
            </a:r>
            <a:endParaRPr b="1" lang="en-US" sz="4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3" name=""/>
          <p:cNvSpPr/>
          <p:nvPr/>
        </p:nvSpPr>
        <p:spPr>
          <a:xfrm>
            <a:off x="409680" y="4981680"/>
            <a:ext cx="4572000" cy="13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Holger Asmu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BMG PHE TPM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2006-03-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84D9-5670-4320-9D9C-46FAE36DA4E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839960" y="1155600"/>
            <a:ext cx="0" cy="5129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570720" y="3537000"/>
            <a:ext cx="2143080" cy="708120"/>
          </a:xfrm>
          <a:custGeom>
            <a:avLst/>
            <a:gdLst>
              <a:gd name="textAreaLeft" fmla="*/ 0 w 2143080"/>
              <a:gd name="textAreaRight" fmla="*/ 2143440 w 2143080"/>
              <a:gd name="textAreaTop" fmla="*/ 0 h 708120"/>
              <a:gd name="textAreaBottom" fmla="*/ 708480 h 708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198" y="0"/>
                </a:lnTo>
                <a:lnTo>
                  <a:pt x="21600" y="10800"/>
                </a:lnTo>
                <a:lnTo>
                  <a:pt x="1619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00560" y="3286080"/>
            <a:ext cx="3092400" cy="1155600"/>
          </a:xfrm>
          <a:custGeom>
            <a:avLst/>
            <a:gdLst>
              <a:gd name="textAreaLeft" fmla="*/ 0 w 3092400"/>
              <a:gd name="textAreaRight" fmla="*/ 3092760 w 3092400"/>
              <a:gd name="textAreaTop" fmla="*/ 0 h 1155600"/>
              <a:gd name="textAreaBottom" fmla="*/ 115596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198" y="0"/>
                </a:lnTo>
                <a:lnTo>
                  <a:pt x="21600" y="10800"/>
                </a:lnTo>
                <a:lnTo>
                  <a:pt x="1619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8280" y="3537000"/>
            <a:ext cx="1809720" cy="708120"/>
          </a:xfrm>
          <a:custGeom>
            <a:avLst/>
            <a:gdLst>
              <a:gd name="textAreaLeft" fmla="*/ 0 w 1809720"/>
              <a:gd name="textAreaRight" fmla="*/ 1810080 w 1809720"/>
              <a:gd name="textAreaTop" fmla="*/ 0 h 708120"/>
              <a:gd name="textAreaBottom" fmla="*/ 708480 h 708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198" y="0"/>
                </a:lnTo>
                <a:lnTo>
                  <a:pt x="21600" y="10800"/>
                </a:lnTo>
                <a:lnTo>
                  <a:pt x="1619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81120" y="3537000"/>
            <a:ext cx="1862280" cy="708120"/>
          </a:xfrm>
          <a:custGeom>
            <a:avLst/>
            <a:gdLst>
              <a:gd name="textAreaLeft" fmla="*/ 0 w 1862280"/>
              <a:gd name="textAreaRight" fmla="*/ 1862640 w 1862280"/>
              <a:gd name="textAreaTop" fmla="*/ 0 h 708120"/>
              <a:gd name="textAreaBottom" fmla="*/ 708480 h 708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198" y="0"/>
                </a:lnTo>
                <a:lnTo>
                  <a:pt x="21600" y="10800"/>
                </a:lnTo>
                <a:lnTo>
                  <a:pt x="1619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2920" y="3232080"/>
            <a:ext cx="1886040" cy="1206720"/>
          </a:xfrm>
          <a:custGeom>
            <a:avLst/>
            <a:gdLst>
              <a:gd name="textAreaLeft" fmla="*/ 0 w 1886040"/>
              <a:gd name="textAreaRight" fmla="*/ 1886400 w 1886040"/>
              <a:gd name="textAreaTop" fmla="*/ 0 h 1206720"/>
              <a:gd name="textAreaBottom" fmla="*/ 1206720 h 120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198" y="0"/>
                </a:lnTo>
                <a:lnTo>
                  <a:pt x="21600" y="10800"/>
                </a:lnTo>
                <a:lnTo>
                  <a:pt x="1619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2600" y="3535200"/>
            <a:ext cx="9622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</a:rPr>
              <a:t>Portfol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</a:rPr>
              <a:t>Cre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02320" y="3557520"/>
            <a:ext cx="99432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Creatio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79040" y="3643200"/>
            <a:ext cx="784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97800" y="4076640"/>
            <a:ext cx="1634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ProductRea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16720" y="3627360"/>
            <a:ext cx="8481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Life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762920" y="3129120"/>
            <a:ext cx="43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Arial"/>
              </a:rPr>
              <a:t>M</a:t>
            </a:r>
            <a:r>
              <a:rPr b="0" lang="de-DE" sz="1400" spc="-1" strike="noStrike">
                <a:solidFill>
                  <a:srgbClr val="3a0e66"/>
                </a:solidFill>
                <a:latin typeface="Arial"/>
              </a:rPr>
              <a:t>α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88560" y="3230640"/>
            <a:ext cx="432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Arial"/>
              </a:rPr>
              <a:t>M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64240" y="3879720"/>
            <a:ext cx="26049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75840" y="2925720"/>
            <a:ext cx="432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Arial"/>
              </a:rPr>
              <a:t>M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568200" y="2976480"/>
            <a:ext cx="432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Arial"/>
              </a:rPr>
              <a:t>M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970040" y="3129120"/>
            <a:ext cx="432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Arial"/>
              </a:rPr>
              <a:t>M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388360" y="3500280"/>
            <a:ext cx="492120" cy="708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</a:rPr>
              <a:t>E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460760" y="3298680"/>
            <a:ext cx="2909880" cy="5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Preparation of 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Launch &amp; Market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1832040" y="1203480"/>
            <a:ext cx="6997320" cy="717480"/>
            <a:chOff x="1832040" y="1203480"/>
            <a:chExt cx="6997320" cy="717480"/>
          </a:xfrm>
        </p:grpSpPr>
        <p:sp>
          <p:nvSpPr>
            <p:cNvPr id="74" name=""/>
            <p:cNvSpPr/>
            <p:nvPr/>
          </p:nvSpPr>
          <p:spPr>
            <a:xfrm>
              <a:off x="1832040" y="1380960"/>
              <a:ext cx="6227640" cy="36036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rot="5400000">
              <a:off x="8084880" y="1176480"/>
              <a:ext cx="717480" cy="771480"/>
            </a:xfrm>
            <a:prstGeom prst="triangle">
              <a:avLst>
                <a:gd name="adj" fmla="val 49991"/>
              </a:avLst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438720" y="1436760"/>
              <a:ext cx="29160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Minion"/>
                </a:rPr>
                <a:t>Category Product Manag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250920" y="1268280"/>
            <a:ext cx="1434960" cy="660600"/>
          </a:xfrm>
          <a:prstGeom prst="rect">
            <a:avLst/>
          </a:prstGeom>
          <a:solidFill>
            <a:srgbClr val="66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Minion"/>
              </a:rPr>
              <a:t>Categor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Minion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833480" y="2046240"/>
            <a:ext cx="2435400" cy="87804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</a:rPr>
              <a:t>Product Defin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</a:rPr>
              <a:t>Te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75080" y="2046240"/>
            <a:ext cx="2211480" cy="87804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</a:rPr>
              <a:t>Market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</a:rPr>
              <a:t>Te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32720" y="2046240"/>
            <a:ext cx="1814400" cy="87804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</a:rPr>
              <a:t>Product Lifecy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</a:rPr>
              <a:t>Te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4551480"/>
            <a:ext cx="2211120" cy="87768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</a:rPr>
              <a:t>Product Real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</a:rPr>
              <a:t>Te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839960" y="5432400"/>
            <a:ext cx="7008480" cy="717480"/>
            <a:chOff x="1839960" y="5432400"/>
            <a:chExt cx="7008480" cy="717480"/>
          </a:xfrm>
        </p:grpSpPr>
        <p:sp>
          <p:nvSpPr>
            <p:cNvPr id="83" name=""/>
            <p:cNvSpPr/>
            <p:nvPr/>
          </p:nvSpPr>
          <p:spPr>
            <a:xfrm>
              <a:off x="1839960" y="5610240"/>
              <a:ext cx="6238800" cy="360360"/>
            </a:xfrm>
            <a:prstGeom prst="rect">
              <a:avLst/>
            </a:prstGeom>
            <a:solidFill>
              <a:srgbClr val="755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5400000">
              <a:off x="8103960" y="5405400"/>
              <a:ext cx="717480" cy="771480"/>
            </a:xfrm>
            <a:prstGeom prst="triangle">
              <a:avLst>
                <a:gd name="adj" fmla="val 49991"/>
              </a:avLst>
            </a:prstGeom>
            <a:solidFill>
              <a:srgbClr val="755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17920" y="5665680"/>
              <a:ext cx="3038400" cy="304920"/>
            </a:xfrm>
            <a:prstGeom prst="rect">
              <a:avLst/>
            </a:prstGeom>
            <a:solidFill>
              <a:srgbClr val="755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Minion"/>
                </a:rPr>
                <a:t>Technical Product Manager (TPM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250920" y="5516640"/>
            <a:ext cx="1434960" cy="660240"/>
          </a:xfrm>
          <a:prstGeom prst="rect">
            <a:avLst/>
          </a:prstGeom>
          <a:solidFill>
            <a:srgbClr val="755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Minion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Minion"/>
              </a:rPr>
              <a:t>Hou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24000" y="260280"/>
            <a:ext cx="8820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Category Product Management</a:t>
            </a:r>
            <a:r>
              <a:rPr b="1" lang="en-US" sz="40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br>
              <a:rPr sz="4000"/>
            </a:br>
            <a:r>
              <a:rPr b="1" i="1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managing the entire lifecycle “from  cradle to grave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73EF-9AE6-4368-9A68-407AB26A6A9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502160" y="3430440"/>
            <a:ext cx="1741320" cy="447840"/>
          </a:xfrm>
          <a:prstGeom prst="rect">
            <a:avLst/>
          </a:prstGeom>
          <a:solidFill>
            <a:srgbClr val="800080"/>
          </a:solidFill>
          <a:ln w="12600">
            <a:solidFill>
              <a:srgbClr val="8c94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Minion"/>
              </a:rPr>
              <a:t>Product Innovation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25840" y="1544760"/>
            <a:ext cx="1946520" cy="606240"/>
          </a:xfrm>
          <a:prstGeom prst="rect">
            <a:avLst/>
          </a:prstGeom>
          <a:solidFill>
            <a:srgbClr val="800080"/>
          </a:solidFill>
          <a:ln w="12600">
            <a:solidFill>
              <a:srgbClr val="8c94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Minion"/>
              </a:rPr>
              <a:t>Category 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Minion"/>
              </a:rPr>
              <a:t>“</a:t>
            </a:r>
            <a:r>
              <a:rPr b="1" lang="de-DE" sz="1200" spc="-1" strike="noStrike">
                <a:solidFill>
                  <a:srgbClr val="ffffff"/>
                </a:solidFill>
                <a:latin typeface="Minion"/>
              </a:rPr>
              <a:t>Explore Image &amp; Statu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516720" y="1557360"/>
            <a:ext cx="1770120" cy="606240"/>
          </a:xfrm>
          <a:prstGeom prst="rect">
            <a:avLst/>
          </a:prstGeom>
          <a:solidFill>
            <a:srgbClr val="800080"/>
          </a:solidFill>
          <a:ln w="12600">
            <a:solidFill>
              <a:srgbClr val="8c94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Minion"/>
              </a:rPr>
              <a:t>Category 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Minion"/>
              </a:rPr>
              <a:t>“</a:t>
            </a:r>
            <a:r>
              <a:rPr b="1" lang="de-DE" sz="1200" spc="-1" strike="noStrike">
                <a:solidFill>
                  <a:srgbClr val="ffffff"/>
                </a:solidFill>
                <a:latin typeface="Minion"/>
              </a:rPr>
              <a:t>Explore Fascina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50800" y="1544760"/>
            <a:ext cx="1741680" cy="603000"/>
          </a:xfrm>
          <a:prstGeom prst="rect">
            <a:avLst/>
          </a:prstGeom>
          <a:solidFill>
            <a:srgbClr val="800080"/>
          </a:solidFill>
          <a:ln w="12600">
            <a:solidFill>
              <a:srgbClr val="a6a0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Minion"/>
              </a:rPr>
              <a:t>Category 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Minion"/>
              </a:rPr>
              <a:t>“</a:t>
            </a:r>
            <a:r>
              <a:rPr b="1" lang="de-DE" sz="1200" spc="-1" strike="noStrike">
                <a:solidFill>
                  <a:srgbClr val="ffffff"/>
                </a:solidFill>
                <a:latin typeface="Minion"/>
              </a:rPr>
              <a:t>Affordable Quality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417760" y="1541520"/>
            <a:ext cx="1870200" cy="606240"/>
          </a:xfrm>
          <a:prstGeom prst="rect">
            <a:avLst/>
          </a:prstGeom>
          <a:solidFill>
            <a:srgbClr val="800080"/>
          </a:solidFill>
          <a:ln w="12600">
            <a:solidFill>
              <a:srgbClr val="8c94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Minion"/>
              </a:rPr>
              <a:t>Category 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Minion"/>
              </a:rPr>
              <a:t>“</a:t>
            </a:r>
            <a:r>
              <a:rPr b="1" lang="de-DE" sz="1200" spc="-1" strike="noStrike">
                <a:solidFill>
                  <a:srgbClr val="ffffff"/>
                </a:solidFill>
                <a:latin typeface="Minion"/>
              </a:rPr>
              <a:t>Explore Performanc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3429000"/>
            <a:ext cx="2016000" cy="447840"/>
          </a:xfrm>
          <a:prstGeom prst="rect">
            <a:avLst/>
          </a:prstGeom>
          <a:solidFill>
            <a:srgbClr val="800080"/>
          </a:solidFill>
          <a:ln w="12600">
            <a:solidFill>
              <a:srgbClr val="8c94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Minion"/>
              </a:rPr>
              <a:t>Innovation &amp; Portfolio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445080" y="3430440"/>
            <a:ext cx="1872000" cy="447840"/>
          </a:xfrm>
          <a:prstGeom prst="rect">
            <a:avLst/>
          </a:prstGeom>
          <a:solidFill>
            <a:srgbClr val="80008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Minion"/>
              </a:rPr>
              <a:t>Smartphones &amp; Convergence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324000" y="3933720"/>
            <a:ext cx="2015640" cy="2058480"/>
            <a:chOff x="324000" y="3933720"/>
            <a:chExt cx="2015640" cy="2058480"/>
          </a:xfrm>
        </p:grpSpPr>
        <p:sp>
          <p:nvSpPr>
            <p:cNvPr id="96" name=""/>
            <p:cNvSpPr/>
            <p:nvPr/>
          </p:nvSpPr>
          <p:spPr>
            <a:xfrm>
              <a:off x="325440" y="3933720"/>
              <a:ext cx="2012400" cy="1838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24000" y="3951720"/>
              <a:ext cx="2015640" cy="204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a0e66"/>
                  </a:solidFill>
                  <a:latin typeface="Minion"/>
                </a:rPr>
                <a:t>Innovation Manage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a0e66"/>
                  </a:solidFill>
                  <a:latin typeface="Minion"/>
                </a:rPr>
                <a:t>Global Portfolio Strateg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a0e66"/>
                  </a:solidFill>
                  <a:latin typeface="Minion"/>
                </a:rPr>
                <a:t>Themes Defini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a0e66"/>
                  </a:solidFill>
                  <a:latin typeface="Minion"/>
                </a:rPr>
                <a:t>Operator &amp; Regional </a:t>
              </a:r>
              <a:br>
                <a:rPr sz="1200"/>
              </a:br>
              <a:r>
                <a:rPr b="1" lang="de-DE" sz="1200" spc="-1" strike="noStrike">
                  <a:solidFill>
                    <a:srgbClr val="3a0e66"/>
                  </a:solidFill>
                  <a:latin typeface="Minion"/>
                </a:rPr>
                <a:t>Requireme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a0e66"/>
                  </a:solidFill>
                  <a:latin typeface="Minion"/>
                </a:rPr>
                <a:t>Technology &amp; Platform</a:t>
              </a:r>
              <a:br>
                <a:rPr sz="1200"/>
              </a:br>
              <a:r>
                <a:rPr b="1" lang="de-DE" sz="1200" spc="-1" strike="noStrike">
                  <a:solidFill>
                    <a:srgbClr val="3a0e66"/>
                  </a:solidFill>
                  <a:latin typeface="Minion"/>
                </a:rPr>
                <a:t>Strateg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2556000" y="3933720"/>
            <a:ext cx="1709640" cy="141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Accessory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Special Ed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Application &amp;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Enhanced offerings (value pack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453360" y="3933720"/>
            <a:ext cx="1863720" cy="1675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Smartph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VoIP Ph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Fixed Mobile Convergenc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Open 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Strategic Partners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9640" y="2205000"/>
            <a:ext cx="7777440" cy="79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spcAft>
                <a:spcPts val="524"/>
              </a:spcAft>
              <a:tabLst>
                <a:tab algn="l" pos="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e-DE" sz="1400" spc="-1" strike="noStrike">
                <a:solidFill>
                  <a:srgbClr val="3a0e66"/>
                </a:solidFill>
                <a:latin typeface="Minion"/>
              </a:rPr>
              <a:t>Business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including portfolio creation, product creation and definition, total product experience management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product design, market introduction, product launch and lifecycle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56000" y="3429000"/>
            <a:ext cx="1725480" cy="447840"/>
          </a:xfrm>
          <a:prstGeom prst="rect">
            <a:avLst/>
          </a:prstGeom>
          <a:solidFill>
            <a:srgbClr val="800080"/>
          </a:solidFill>
          <a:ln w="12600">
            <a:solidFill>
              <a:srgbClr val="8c94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Minion"/>
              </a:rPr>
              <a:t>Value Added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8960" y="266760"/>
            <a:ext cx="855036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Category &amp; Technology Management</a:t>
            </a:r>
            <a:r>
              <a:rPr b="1" lang="en-US" sz="40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br>
              <a:rPr sz="4000"/>
            </a:br>
            <a:r>
              <a:rPr b="1" i="1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main building bl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00720" y="3933720"/>
            <a:ext cx="1709640" cy="1599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Leading-edge Techn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Innovative Product Concep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IPR Gen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Standardization Back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F633-94A1-44A2-9436-933F55154B5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149400"/>
            <a:ext cx="889344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Technical Product Management 2: SGx based</a:t>
            </a:r>
            <a:br>
              <a:rPr sz="2000"/>
            </a:b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Organizational Overview</a:t>
            </a:r>
            <a:endParaRPr b="1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14280" y="774720"/>
            <a:ext cx="8501040" cy="5411880"/>
            <a:chOff x="314280" y="774720"/>
            <a:chExt cx="8501040" cy="5411880"/>
          </a:xfrm>
        </p:grpSpPr>
        <p:sp>
          <p:nvSpPr>
            <p:cNvPr id="106" name=""/>
            <p:cNvSpPr/>
            <p:nvPr/>
          </p:nvSpPr>
          <p:spPr>
            <a:xfrm>
              <a:off x="3392640" y="774720"/>
              <a:ext cx="2203200" cy="550800"/>
            </a:xfrm>
            <a:prstGeom prst="rect">
              <a:avLst/>
            </a:prstGeom>
            <a:solidFill>
              <a:srgbClr val="ccc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2b5d"/>
                  </a:solidFill>
                  <a:latin typeface="Arial"/>
                </a:rPr>
                <a:t>Program Manager 2.5G/3G KL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Holger Asmuss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043000" y="1498680"/>
              <a:ext cx="1470240" cy="579240"/>
            </a:xfrm>
            <a:prstGeom prst="rect">
              <a:avLst/>
            </a:prstGeom>
            <a:solidFill>
              <a:srgbClr val="cce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8d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Program Management Hardwa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800" spc="-1" strike="noStrike">
                  <a:solidFill>
                    <a:srgbClr val="002b5d"/>
                  </a:solidFill>
                  <a:latin typeface="Arial"/>
                </a:rPr>
                <a:t>Dirk Hänse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800" spc="-1" strike="noStrike">
                  <a:solidFill>
                    <a:srgbClr val="002b5d"/>
                  </a:solidFill>
                  <a:latin typeface="Arial"/>
                </a:rPr>
                <a:t>N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473800" y="1487520"/>
              <a:ext cx="1468440" cy="601560"/>
            </a:xfrm>
            <a:prstGeom prst="rect">
              <a:avLst/>
            </a:prstGeom>
            <a:solidFill>
              <a:srgbClr val="cce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8d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Program Manage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Softwa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800" spc="-1" strike="noStrike">
                  <a:solidFill>
                    <a:srgbClr val="002b5d"/>
                  </a:solidFill>
                  <a:latin typeface="Arial"/>
                </a:rPr>
                <a:t>Ulrich Geig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800" spc="-1" strike="noStrike">
                  <a:solidFill>
                    <a:srgbClr val="002b5d"/>
                  </a:solidFill>
                  <a:latin typeface="Arial"/>
                </a:rPr>
                <a:t>Ulrich Meyer, N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044800" y="2946240"/>
              <a:ext cx="1469880" cy="551160"/>
            </a:xfrm>
            <a:prstGeom prst="rect">
              <a:avLst/>
            </a:prstGeom>
            <a:solidFill>
              <a:srgbClr val="ccffcc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98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Project &amp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Process Support</a:t>
              </a:r>
              <a:br>
                <a:rPr sz="800"/>
              </a:br>
              <a:r>
                <a:rPr b="1" lang="en-US" sz="800" spc="-1" strike="noStrike">
                  <a:solidFill>
                    <a:srgbClr val="002b5d"/>
                  </a:solidFill>
                  <a:latin typeface="Arial"/>
                </a:rPr>
                <a:t>Hans-Peter Farrenkothe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762360" y="3830760"/>
              <a:ext cx="1440000" cy="550800"/>
            </a:xfrm>
            <a:prstGeom prst="rect">
              <a:avLst/>
            </a:prstGeom>
            <a:solidFill>
              <a:srgbClr val="ccc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TPM Ony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800" spc="-1" strike="noStrike">
                  <a:solidFill>
                    <a:srgbClr val="002b5d"/>
                  </a:solidFill>
                  <a:latin typeface="Arial"/>
                </a:rPr>
                <a:t>M. Feldhoff, T. Alkämp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46240" y="3830760"/>
              <a:ext cx="1440000" cy="550800"/>
            </a:xfrm>
            <a:prstGeom prst="rect">
              <a:avLst/>
            </a:prstGeom>
            <a:solidFill>
              <a:srgbClr val="ccc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TPM Diamon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800" spc="-1" strike="noStrike">
                  <a:solidFill>
                    <a:srgbClr val="002b5d"/>
                  </a:solidFill>
                  <a:latin typeface="Arial"/>
                </a:rPr>
                <a:t>A. Betting, U. Barn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230960" y="3830760"/>
              <a:ext cx="1584360" cy="550800"/>
            </a:xfrm>
            <a:prstGeom prst="rect">
              <a:avLst/>
            </a:prstGeom>
            <a:solidFill>
              <a:srgbClr val="ccc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de-DE" sz="1000" spc="-1" strike="noStrike">
                  <a:solidFill>
                    <a:srgbClr val="002b5d"/>
                  </a:solidFill>
                  <a:latin typeface="Arial"/>
                  <a:ea typeface="Arial"/>
                </a:rPr>
                <a:t>Apoxi Lead Proje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800" spc="-1" strike="noStrike">
                  <a:solidFill>
                    <a:srgbClr val="002b5d"/>
                  </a:solidFill>
                  <a:latin typeface="Arial"/>
                </a:rPr>
                <a:t>R. Kern, Dr. D. Röhri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780000" y="5602320"/>
              <a:ext cx="1439640" cy="576360"/>
            </a:xfrm>
            <a:prstGeom prst="rect">
              <a:avLst/>
            </a:prstGeom>
            <a:solidFill>
              <a:srgbClr val="ccc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TPM Obsidia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800" spc="-1" strike="noStrike">
                  <a:solidFill>
                    <a:srgbClr val="002b5d"/>
                  </a:solidFill>
                  <a:latin typeface="Arial"/>
                </a:rPr>
                <a:t>T. Stokholm, O. Rasmusse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903400" y="4624560"/>
              <a:ext cx="1440000" cy="550800"/>
            </a:xfrm>
            <a:prstGeom prst="rect">
              <a:avLst/>
            </a:prstGeom>
            <a:solidFill>
              <a:srgbClr val="ccc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TPM Polaris</a:t>
              </a:r>
              <a:br>
                <a:rPr sz="1000"/>
              </a:br>
              <a:r>
                <a:rPr b="1" lang="en-US" sz="800" spc="-1" strike="noStrike">
                  <a:solidFill>
                    <a:srgbClr val="002b5d"/>
                  </a:solidFill>
                  <a:latin typeface="Arial"/>
                </a:rPr>
                <a:t>T. Neumann, Dr. A. La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17520" y="3830760"/>
              <a:ext cx="1440000" cy="550800"/>
            </a:xfrm>
            <a:prstGeom prst="rect">
              <a:avLst/>
            </a:prstGeom>
            <a:solidFill>
              <a:srgbClr val="ccc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TPM Chamele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800" spc="-1" strike="noStrike">
                  <a:solidFill>
                    <a:srgbClr val="002b5d"/>
                  </a:solidFill>
                  <a:latin typeface="Arial"/>
                </a:rPr>
                <a:t>A. Zimmer, R. Gallo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265880" y="5635800"/>
              <a:ext cx="1525680" cy="550800"/>
            </a:xfrm>
            <a:prstGeom prst="rect">
              <a:avLst/>
            </a:prstGeom>
            <a:solidFill>
              <a:srgbClr val="ccc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TPM Hydra</a:t>
              </a:r>
              <a:br>
                <a:rPr sz="1000"/>
              </a:br>
              <a:r>
                <a:rPr b="1" lang="en-US" sz="800" spc="-1" strike="noStrike">
                  <a:solidFill>
                    <a:srgbClr val="002b5d"/>
                  </a:solidFill>
                  <a:latin typeface="Arial"/>
                </a:rPr>
                <a:t>K. Christianse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14280" y="5602320"/>
              <a:ext cx="1440000" cy="576360"/>
            </a:xfrm>
            <a:prstGeom prst="rect">
              <a:avLst/>
            </a:prstGeom>
            <a:solidFill>
              <a:srgbClr val="ccc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TPM Philipp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800" spc="-1" strike="noStrike">
                  <a:solidFill>
                    <a:srgbClr val="002b5d"/>
                  </a:solidFill>
                  <a:latin typeface="Arial"/>
                </a:rPr>
                <a:t>C. Dalmose, O. Byrd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633920" y="4633920"/>
              <a:ext cx="1469880" cy="550800"/>
            </a:xfrm>
            <a:prstGeom prst="rect">
              <a:avLst/>
            </a:prstGeom>
            <a:solidFill>
              <a:srgbClr val="ccc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TPM Swift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800" spc="-1" strike="noStrike">
                  <a:solidFill>
                    <a:srgbClr val="002b5d"/>
                  </a:solidFill>
                  <a:latin typeface="Arial"/>
                </a:rPr>
                <a:t>J. Kockmann, M. Hohenleitn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044800" y="2238480"/>
              <a:ext cx="1469880" cy="550800"/>
            </a:xfrm>
            <a:prstGeom prst="rect">
              <a:avLst/>
            </a:prstGeom>
            <a:solidFill>
              <a:srgbClr val="cce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8d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Program Manage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Wireless Connectivit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800" spc="-1" strike="noStrike">
                  <a:solidFill>
                    <a:srgbClr val="002b5d"/>
                  </a:solidFill>
                  <a:latin typeface="Arial"/>
                </a:rPr>
                <a:t>Hasan Karaceli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489640" y="2247840"/>
              <a:ext cx="1468440" cy="536760"/>
            </a:xfrm>
            <a:prstGeom prst="rect">
              <a:avLst/>
            </a:prstGeom>
            <a:solidFill>
              <a:srgbClr val="cce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8d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TPM Platfor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SG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800" spc="-1" strike="noStrike">
                  <a:solidFill>
                    <a:srgbClr val="002b5d"/>
                  </a:solidFill>
                  <a:latin typeface="Arial"/>
                </a:rPr>
                <a:t>Dr. R. Hartman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508720" y="5627520"/>
              <a:ext cx="1439640" cy="551160"/>
            </a:xfrm>
            <a:prstGeom prst="rect">
              <a:avLst/>
            </a:prstGeom>
            <a:solidFill>
              <a:srgbClr val="ccc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TPM Jer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800" spc="-1" strike="noStrike">
                  <a:solidFill>
                    <a:srgbClr val="002b5d"/>
                  </a:solidFill>
                  <a:latin typeface="Arial"/>
                </a:rPr>
                <a:t>L. Bon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502240" y="3830760"/>
              <a:ext cx="1440000" cy="550800"/>
            </a:xfrm>
            <a:prstGeom prst="rect">
              <a:avLst/>
            </a:prstGeom>
            <a:solidFill>
              <a:srgbClr val="ccc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TPM Min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800" spc="-1" strike="noStrike">
                  <a:solidFill>
                    <a:srgbClr val="002b5d"/>
                  </a:solidFill>
                  <a:latin typeface="Arial"/>
                </a:rPr>
                <a:t>U. Barn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041560" y="5602320"/>
              <a:ext cx="1441440" cy="576360"/>
            </a:xfrm>
            <a:prstGeom prst="rect">
              <a:avLst/>
            </a:prstGeom>
            <a:solidFill>
              <a:srgbClr val="ccc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TPM Haw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800" spc="-1" strike="noStrike">
                  <a:solidFill>
                    <a:srgbClr val="002b5d"/>
                  </a:solidFill>
                  <a:latin typeface="Arial"/>
                </a:rPr>
                <a:t>C. Dalmose, O. Byrd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4" name=""/>
            <p:cNvCxnSpPr>
              <a:stCxn id="106" idx="2"/>
            </p:cNvCxnSpPr>
            <p:nvPr/>
          </p:nvCxnSpPr>
          <p:spPr>
            <a:xfrm>
              <a:off x="4493880" y="1325160"/>
              <a:ext cx="3960" cy="24930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125" name=""/>
            <p:cNvCxnSpPr/>
            <p:nvPr/>
          </p:nvCxnSpPr>
          <p:spPr>
            <a:xfrm flipH="1" flipV="1" rot="5400000">
              <a:off x="2695320" y="2020320"/>
              <a:ext cx="158040" cy="3463200"/>
            </a:xfrm>
            <a:prstGeom prst="bentConnector2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126" name=""/>
            <p:cNvCxnSpPr>
              <a:endCxn id="112" idx="0"/>
            </p:cNvCxnSpPr>
            <p:nvPr/>
          </p:nvCxnSpPr>
          <p:spPr>
            <a:xfrm>
              <a:off x="4500360" y="3673080"/>
              <a:ext cx="3523320" cy="158040"/>
            </a:xfrm>
            <a:prstGeom prst="bentConnector2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127" name=""/>
            <p:cNvCxnSpPr/>
            <p:nvPr/>
          </p:nvCxnSpPr>
          <p:spPr>
            <a:xfrm>
              <a:off x="1907640" y="3673440"/>
              <a:ext cx="1080" cy="172944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128" name=""/>
            <p:cNvCxnSpPr>
              <a:stCxn id="117" idx="0"/>
            </p:cNvCxnSpPr>
            <p:nvPr/>
          </p:nvCxnSpPr>
          <p:spPr>
            <a:xfrm flipH="1" flipV="1" rot="5400000">
              <a:off x="1368000" y="5061960"/>
              <a:ext cx="207000" cy="873720"/>
            </a:xfrm>
            <a:prstGeom prst="bentConnector2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129" name=""/>
            <p:cNvCxnSpPr/>
            <p:nvPr/>
          </p:nvCxnSpPr>
          <p:spPr>
            <a:xfrm>
              <a:off x="1907640" y="5392800"/>
              <a:ext cx="6141240" cy="240480"/>
            </a:xfrm>
            <a:prstGeom prst="bentConnector2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130" name=""/>
            <p:cNvCxnSpPr>
              <a:endCxn id="114" idx="0"/>
            </p:cNvCxnSpPr>
            <p:nvPr/>
          </p:nvCxnSpPr>
          <p:spPr>
            <a:xfrm flipH="1">
              <a:off x="3623400" y="3673440"/>
              <a:ext cx="2520" cy="95184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131" name=""/>
            <p:cNvCxnSpPr>
              <a:endCxn id="118" idx="0"/>
            </p:cNvCxnSpPr>
            <p:nvPr/>
          </p:nvCxnSpPr>
          <p:spPr>
            <a:xfrm>
              <a:off x="5364000" y="3673440"/>
              <a:ext cx="5760" cy="96120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132" name=""/>
            <p:cNvCxnSpPr/>
            <p:nvPr/>
          </p:nvCxnSpPr>
          <p:spPr>
            <a:xfrm>
              <a:off x="2771280" y="5392800"/>
              <a:ext cx="2520" cy="21672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133" name=""/>
            <p:cNvCxnSpPr>
              <a:stCxn id="113" idx="0"/>
            </p:cNvCxnSpPr>
            <p:nvPr/>
          </p:nvCxnSpPr>
          <p:spPr>
            <a:xfrm flipV="1">
              <a:off x="4500720" y="5392440"/>
              <a:ext cx="2160" cy="21024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134" name=""/>
            <p:cNvCxnSpPr>
              <a:stCxn id="121" idx="0"/>
            </p:cNvCxnSpPr>
            <p:nvPr/>
          </p:nvCxnSpPr>
          <p:spPr>
            <a:xfrm flipH="1" flipV="1">
              <a:off x="6226920" y="5392440"/>
              <a:ext cx="2520" cy="23544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135" name=""/>
            <p:cNvCxnSpPr>
              <a:stCxn id="109" idx="3"/>
            </p:cNvCxnSpPr>
            <p:nvPr/>
          </p:nvCxnSpPr>
          <p:spPr>
            <a:xfrm flipV="1">
              <a:off x="3514320" y="3218760"/>
              <a:ext cx="972360" cy="3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136" name=""/>
            <p:cNvCxnSpPr>
              <a:stCxn id="119" idx="3"/>
              <a:endCxn id="120" idx="1"/>
            </p:cNvCxnSpPr>
            <p:nvPr/>
          </p:nvCxnSpPr>
          <p:spPr>
            <a:xfrm>
              <a:off x="3514680" y="2514600"/>
              <a:ext cx="1975680" cy="21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137" name=""/>
            <p:cNvCxnSpPr>
              <a:stCxn id="111" idx="0"/>
            </p:cNvCxnSpPr>
            <p:nvPr/>
          </p:nvCxnSpPr>
          <p:spPr>
            <a:xfrm flipV="1">
              <a:off x="2766600" y="3676320"/>
              <a:ext cx="2520" cy="1548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138" name=""/>
            <p:cNvCxnSpPr>
              <a:stCxn id="122" idx="0"/>
            </p:cNvCxnSpPr>
            <p:nvPr/>
          </p:nvCxnSpPr>
          <p:spPr>
            <a:xfrm flipV="1">
              <a:off x="6222600" y="3676320"/>
              <a:ext cx="2520" cy="1548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139" name=""/>
            <p:cNvCxnSpPr>
              <a:stCxn id="107" idx="3"/>
              <a:endCxn id="108" idx="1"/>
            </p:cNvCxnSpPr>
            <p:nvPr/>
          </p:nvCxnSpPr>
          <p:spPr>
            <a:xfrm>
              <a:off x="3513240" y="1788840"/>
              <a:ext cx="19612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8C5F-DC4F-4805-A082-9BBD6E41B7F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70102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TPM - ‘Inside Minister’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830160" y="404640"/>
            <a:ext cx="7408800" cy="5931000"/>
            <a:chOff x="830160" y="404640"/>
            <a:chExt cx="7408800" cy="5931000"/>
          </a:xfrm>
        </p:grpSpPr>
        <p:pic>
          <p:nvPicPr>
            <p:cNvPr id="142" name="" descr=""/>
            <p:cNvPicPr/>
            <p:nvPr/>
          </p:nvPicPr>
          <p:blipFill>
            <a:blip r:embed="rId1"/>
            <a:stretch/>
          </p:blipFill>
          <p:spPr>
            <a:xfrm>
              <a:off x="830160" y="773280"/>
              <a:ext cx="7408800" cy="517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2179800" y="359568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1474920" y="5937120"/>
              <a:ext cx="1584360" cy="398520"/>
              <a:chOff x="1474920" y="5937120"/>
              <a:chExt cx="1584360" cy="398520"/>
            </a:xfrm>
          </p:grpSpPr>
          <p:sp>
            <p:nvSpPr>
              <p:cNvPr id="145" name=""/>
              <p:cNvSpPr/>
              <p:nvPr/>
            </p:nvSpPr>
            <p:spPr>
              <a:xfrm>
                <a:off x="1474920" y="5956200"/>
                <a:ext cx="1584360" cy="360360"/>
              </a:xfrm>
              <a:prstGeom prst="roundRect">
                <a:avLst>
                  <a:gd name="adj" fmla="val 16667"/>
                </a:avLst>
              </a:prstGeom>
              <a:solidFill>
                <a:srgbClr val="cce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546560" y="5937120"/>
                <a:ext cx="136188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0000"/>
                    </a:solidFill>
                    <a:latin typeface="Minion"/>
                    <a:ea typeface="文鼎中黑"/>
                  </a:rPr>
                  <a:t>Program Mgmt HW    D. Hänse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3440160" y="5927760"/>
              <a:ext cx="1690560" cy="398520"/>
              <a:chOff x="3440160" y="5927760"/>
              <a:chExt cx="1690560" cy="398520"/>
            </a:xfrm>
          </p:grpSpPr>
          <p:sp>
            <p:nvSpPr>
              <p:cNvPr id="148" name=""/>
              <p:cNvSpPr/>
              <p:nvPr/>
            </p:nvSpPr>
            <p:spPr>
              <a:xfrm>
                <a:off x="3440160" y="5946840"/>
                <a:ext cx="1690560" cy="360360"/>
              </a:xfrm>
              <a:prstGeom prst="roundRect">
                <a:avLst>
                  <a:gd name="adj" fmla="val 16667"/>
                </a:avLst>
              </a:prstGeom>
              <a:solidFill>
                <a:srgbClr val="cce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597120" y="5927760"/>
                <a:ext cx="13683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0000"/>
                    </a:solidFill>
                    <a:latin typeface="Minion"/>
                    <a:ea typeface="文鼎中黑"/>
                  </a:rPr>
                  <a:t>Program Mgmt SW    U. Geig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" name=""/>
            <p:cNvSpPr/>
            <p:nvPr/>
          </p:nvSpPr>
          <p:spPr>
            <a:xfrm>
              <a:off x="2916360" y="5556240"/>
              <a:ext cx="0" cy="388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606840" y="5554800"/>
              <a:ext cx="0" cy="388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4427640" y="404640"/>
              <a:ext cx="1512720" cy="550800"/>
              <a:chOff x="4427640" y="404640"/>
              <a:chExt cx="1512720" cy="550800"/>
            </a:xfrm>
          </p:grpSpPr>
          <p:sp>
            <p:nvSpPr>
              <p:cNvPr id="153" name=""/>
              <p:cNvSpPr/>
              <p:nvPr/>
            </p:nvSpPr>
            <p:spPr>
              <a:xfrm>
                <a:off x="4427640" y="423720"/>
                <a:ext cx="1512720" cy="360360"/>
              </a:xfrm>
              <a:prstGeom prst="roundRect">
                <a:avLst>
                  <a:gd name="adj" fmla="val 16667"/>
                </a:avLst>
              </a:prstGeom>
              <a:solidFill>
                <a:srgbClr val="cce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427640" y="404640"/>
                <a:ext cx="13683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0000"/>
                    </a:solidFill>
                    <a:latin typeface="Minion"/>
                    <a:ea typeface="文鼎中黑"/>
                  </a:rPr>
                  <a:t>TPM PF</a:t>
                </a:r>
                <a:br>
                  <a:rPr sz="1000"/>
                </a:br>
                <a:r>
                  <a:rPr b="1" lang="de-DE" sz="1000" spc="-1" strike="noStrike">
                    <a:solidFill>
                      <a:srgbClr val="000000"/>
                    </a:solidFill>
                    <a:latin typeface="Minion"/>
                    <a:ea typeface="文鼎中黑"/>
                  </a:rPr>
                  <a:t>    Dr. R.  Hartman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4572000" y="789120"/>
              <a:ext cx="0" cy="504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8DFE-5410-4720-9CBD-870CB3FC9E9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439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To manage a product is much more than</a:t>
            </a:r>
            <a:br>
              <a:rPr sz="2800"/>
            </a:b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to run a R&amp;D 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44720" y="1398600"/>
            <a:ext cx="8406360" cy="4460040"/>
            <a:chOff x="144720" y="1398600"/>
            <a:chExt cx="8406360" cy="4460040"/>
          </a:xfrm>
        </p:grpSpPr>
        <p:sp>
          <p:nvSpPr>
            <p:cNvPr id="158" name=""/>
            <p:cNvSpPr/>
            <p:nvPr/>
          </p:nvSpPr>
          <p:spPr>
            <a:xfrm rot="10800000">
              <a:off x="1058400" y="2997000"/>
              <a:ext cx="7061400" cy="2384280"/>
            </a:xfrm>
            <a:custGeom>
              <a:avLst/>
              <a:gdLst>
                <a:gd name="textAreaLeft" fmla="*/ 826560 w 7061400"/>
                <a:gd name="textAreaRight" fmla="*/ 6234840 w 7061400"/>
                <a:gd name="textAreaTop" fmla="*/ 279000 h 2384280"/>
                <a:gd name="textAreaBottom" fmla="*/ 2105280 h 2384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198" y="21600"/>
                  </a:lnTo>
                  <a:lnTo>
                    <a:pt x="1402" y="21600"/>
                  </a:lnTo>
                  <a:close/>
                </a:path>
              </a:pathLst>
            </a:custGeom>
            <a:solidFill>
              <a:srgbClr val="eaeaea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460520" y="342432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1306440" y="1808280"/>
              <a:ext cx="654120" cy="3671280"/>
              <a:chOff x="1306440" y="1808280"/>
              <a:chExt cx="654120" cy="3671280"/>
            </a:xfrm>
          </p:grpSpPr>
          <p:sp>
            <p:nvSpPr>
              <p:cNvPr id="161" name=""/>
              <p:cNvSpPr/>
              <p:nvPr/>
            </p:nvSpPr>
            <p:spPr>
              <a:xfrm>
                <a:off x="1306440" y="1808280"/>
                <a:ext cx="654120" cy="3580200"/>
              </a:xfrm>
              <a:custGeom>
                <a:avLst/>
                <a:gdLst/>
                <a:ahLst/>
                <a:rect l="l" t="t" r="r" b="b"/>
                <a:pathLst>
                  <a:path w="545" h="1142">
                    <a:moveTo>
                      <a:pt x="0" y="1134"/>
                    </a:moveTo>
                    <a:cubicBezTo>
                      <a:pt x="45" y="1138"/>
                      <a:pt x="91" y="1142"/>
                      <a:pt x="136" y="953"/>
                    </a:cubicBezTo>
                    <a:cubicBezTo>
                      <a:pt x="181" y="764"/>
                      <a:pt x="227" y="0"/>
                      <a:pt x="272" y="0"/>
                    </a:cubicBezTo>
                    <a:cubicBezTo>
                      <a:pt x="317" y="0"/>
                      <a:pt x="364" y="764"/>
                      <a:pt x="409" y="953"/>
                    </a:cubicBezTo>
                    <a:cubicBezTo>
                      <a:pt x="454" y="1142"/>
                      <a:pt x="499" y="1138"/>
                      <a:pt x="545" y="113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629360" y="5258880"/>
                <a:ext cx="0" cy="220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019240" y="1808280"/>
              <a:ext cx="671400" cy="3671280"/>
              <a:chOff x="2019240" y="1808280"/>
              <a:chExt cx="671400" cy="3671280"/>
            </a:xfrm>
          </p:grpSpPr>
          <p:sp>
            <p:nvSpPr>
              <p:cNvPr id="164" name=""/>
              <p:cNvSpPr/>
              <p:nvPr/>
            </p:nvSpPr>
            <p:spPr>
              <a:xfrm>
                <a:off x="2019240" y="1808280"/>
                <a:ext cx="671400" cy="3580200"/>
              </a:xfrm>
              <a:custGeom>
                <a:avLst/>
                <a:gdLst/>
                <a:ahLst/>
                <a:rect l="l" t="t" r="r" b="b"/>
                <a:pathLst>
                  <a:path w="545" h="1142">
                    <a:moveTo>
                      <a:pt x="0" y="1134"/>
                    </a:moveTo>
                    <a:cubicBezTo>
                      <a:pt x="45" y="1138"/>
                      <a:pt x="91" y="1142"/>
                      <a:pt x="136" y="953"/>
                    </a:cubicBezTo>
                    <a:cubicBezTo>
                      <a:pt x="181" y="764"/>
                      <a:pt x="227" y="0"/>
                      <a:pt x="272" y="0"/>
                    </a:cubicBezTo>
                    <a:cubicBezTo>
                      <a:pt x="317" y="0"/>
                      <a:pt x="364" y="764"/>
                      <a:pt x="409" y="953"/>
                    </a:cubicBezTo>
                    <a:cubicBezTo>
                      <a:pt x="454" y="1142"/>
                      <a:pt x="499" y="1138"/>
                      <a:pt x="545" y="113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350440" y="5258880"/>
                <a:ext cx="0" cy="220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2741760" y="1808280"/>
              <a:ext cx="676080" cy="3671280"/>
              <a:chOff x="2741760" y="1808280"/>
              <a:chExt cx="676080" cy="3671280"/>
            </a:xfrm>
          </p:grpSpPr>
          <p:sp>
            <p:nvSpPr>
              <p:cNvPr id="167" name=""/>
              <p:cNvSpPr/>
              <p:nvPr/>
            </p:nvSpPr>
            <p:spPr>
              <a:xfrm>
                <a:off x="2741760" y="1808280"/>
                <a:ext cx="676080" cy="3580200"/>
              </a:xfrm>
              <a:custGeom>
                <a:avLst/>
                <a:gdLst/>
                <a:ahLst/>
                <a:rect l="l" t="t" r="r" b="b"/>
                <a:pathLst>
                  <a:path w="545" h="1142">
                    <a:moveTo>
                      <a:pt x="0" y="1134"/>
                    </a:moveTo>
                    <a:cubicBezTo>
                      <a:pt x="45" y="1138"/>
                      <a:pt x="91" y="1142"/>
                      <a:pt x="136" y="953"/>
                    </a:cubicBezTo>
                    <a:cubicBezTo>
                      <a:pt x="181" y="764"/>
                      <a:pt x="227" y="0"/>
                      <a:pt x="272" y="0"/>
                    </a:cubicBezTo>
                    <a:cubicBezTo>
                      <a:pt x="317" y="0"/>
                      <a:pt x="364" y="764"/>
                      <a:pt x="409" y="953"/>
                    </a:cubicBezTo>
                    <a:cubicBezTo>
                      <a:pt x="454" y="1142"/>
                      <a:pt x="499" y="1138"/>
                      <a:pt x="545" y="113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075480" y="5258880"/>
                <a:ext cx="0" cy="220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3454560" y="1817640"/>
              <a:ext cx="641160" cy="3668040"/>
              <a:chOff x="3454560" y="1817640"/>
              <a:chExt cx="641160" cy="3668040"/>
            </a:xfrm>
          </p:grpSpPr>
          <p:sp>
            <p:nvSpPr>
              <p:cNvPr id="170" name=""/>
              <p:cNvSpPr/>
              <p:nvPr/>
            </p:nvSpPr>
            <p:spPr>
              <a:xfrm>
                <a:off x="3454560" y="1817640"/>
                <a:ext cx="641160" cy="3577320"/>
              </a:xfrm>
              <a:custGeom>
                <a:avLst/>
                <a:gdLst/>
                <a:ahLst/>
                <a:rect l="l" t="t" r="r" b="b"/>
                <a:pathLst>
                  <a:path w="545" h="1142">
                    <a:moveTo>
                      <a:pt x="0" y="1134"/>
                    </a:moveTo>
                    <a:cubicBezTo>
                      <a:pt x="45" y="1138"/>
                      <a:pt x="91" y="1142"/>
                      <a:pt x="136" y="953"/>
                    </a:cubicBezTo>
                    <a:cubicBezTo>
                      <a:pt x="181" y="764"/>
                      <a:pt x="227" y="0"/>
                      <a:pt x="272" y="0"/>
                    </a:cubicBezTo>
                    <a:cubicBezTo>
                      <a:pt x="317" y="0"/>
                      <a:pt x="364" y="764"/>
                      <a:pt x="409" y="953"/>
                    </a:cubicBezTo>
                    <a:cubicBezTo>
                      <a:pt x="454" y="1142"/>
                      <a:pt x="499" y="1138"/>
                      <a:pt x="545" y="113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771000" y="5265360"/>
                <a:ext cx="0" cy="22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7121520" y="1808280"/>
              <a:ext cx="698400" cy="3671280"/>
              <a:chOff x="7121520" y="1808280"/>
              <a:chExt cx="698400" cy="3671280"/>
            </a:xfrm>
          </p:grpSpPr>
          <p:sp>
            <p:nvSpPr>
              <p:cNvPr id="173" name=""/>
              <p:cNvSpPr/>
              <p:nvPr/>
            </p:nvSpPr>
            <p:spPr>
              <a:xfrm>
                <a:off x="7121520" y="1808280"/>
                <a:ext cx="698400" cy="3580200"/>
              </a:xfrm>
              <a:custGeom>
                <a:avLst/>
                <a:gdLst/>
                <a:ahLst/>
                <a:rect l="l" t="t" r="r" b="b"/>
                <a:pathLst>
                  <a:path w="545" h="1142">
                    <a:moveTo>
                      <a:pt x="0" y="1134"/>
                    </a:moveTo>
                    <a:cubicBezTo>
                      <a:pt x="45" y="1138"/>
                      <a:pt x="91" y="1142"/>
                      <a:pt x="136" y="953"/>
                    </a:cubicBezTo>
                    <a:cubicBezTo>
                      <a:pt x="181" y="764"/>
                      <a:pt x="227" y="0"/>
                      <a:pt x="272" y="0"/>
                    </a:cubicBezTo>
                    <a:cubicBezTo>
                      <a:pt x="317" y="0"/>
                      <a:pt x="364" y="764"/>
                      <a:pt x="409" y="953"/>
                    </a:cubicBezTo>
                    <a:cubicBezTo>
                      <a:pt x="454" y="1142"/>
                      <a:pt x="499" y="1138"/>
                      <a:pt x="545" y="113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466040" y="5258880"/>
                <a:ext cx="0" cy="220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906480" y="5384880"/>
              <a:ext cx="734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979560" y="1409400"/>
              <a:ext cx="0" cy="403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862000" y="5545080"/>
              <a:ext cx="4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386360" y="5541840"/>
              <a:ext cx="47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H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107080" y="5551560"/>
              <a:ext cx="46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16200000">
              <a:off x="1324440" y="4161600"/>
              <a:ext cx="205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Drivers, CA, Integration,..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532320" y="5541840"/>
              <a:ext cx="45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M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6418440" y="1809720"/>
              <a:ext cx="661680" cy="3671640"/>
              <a:chOff x="6418440" y="1809720"/>
              <a:chExt cx="661680" cy="3671640"/>
            </a:xfrm>
          </p:grpSpPr>
          <p:sp>
            <p:nvSpPr>
              <p:cNvPr id="183" name=""/>
              <p:cNvSpPr/>
              <p:nvPr/>
            </p:nvSpPr>
            <p:spPr>
              <a:xfrm>
                <a:off x="6418440" y="1809720"/>
                <a:ext cx="661680" cy="3580560"/>
              </a:xfrm>
              <a:custGeom>
                <a:avLst/>
                <a:gdLst/>
                <a:ahLst/>
                <a:rect l="l" t="t" r="r" b="b"/>
                <a:pathLst>
                  <a:path w="545" h="1142">
                    <a:moveTo>
                      <a:pt x="0" y="1134"/>
                    </a:moveTo>
                    <a:cubicBezTo>
                      <a:pt x="45" y="1138"/>
                      <a:pt x="91" y="1142"/>
                      <a:pt x="136" y="953"/>
                    </a:cubicBezTo>
                    <a:cubicBezTo>
                      <a:pt x="181" y="764"/>
                      <a:pt x="227" y="0"/>
                      <a:pt x="272" y="0"/>
                    </a:cubicBezTo>
                    <a:cubicBezTo>
                      <a:pt x="317" y="0"/>
                      <a:pt x="364" y="764"/>
                      <a:pt x="409" y="953"/>
                    </a:cubicBezTo>
                    <a:cubicBezTo>
                      <a:pt x="454" y="1142"/>
                      <a:pt x="499" y="1138"/>
                      <a:pt x="545" y="113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744960" y="5260680"/>
                <a:ext cx="0" cy="220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6525360" y="5551560"/>
              <a:ext cx="43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C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039080" y="554184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Reg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16200000">
              <a:off x="745200" y="4319280"/>
              <a:ext cx="172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EA, RF, dig. HW, LP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16200000">
              <a:off x="2104560" y="4221000"/>
              <a:ext cx="191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Appl., Typ. Appr., IOT,..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16200000">
              <a:off x="2545920" y="3966480"/>
              <a:ext cx="243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Assy. Concept, Mech. Design..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44720" y="1398600"/>
              <a:ext cx="8269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Know How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Magnitud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795800" y="5396040"/>
              <a:ext cx="7552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Spectrum</a:t>
              </a:r>
              <a:br>
                <a:rPr sz="1000"/>
              </a:br>
              <a:r>
                <a:rPr b="0" lang="de-DE" sz="10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of detail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709760" y="2479680"/>
              <a:ext cx="67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TP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4121280" y="1814400"/>
              <a:ext cx="804600" cy="3668040"/>
              <a:chOff x="4121280" y="1814400"/>
              <a:chExt cx="804600" cy="3668040"/>
            </a:xfrm>
          </p:grpSpPr>
          <p:sp>
            <p:nvSpPr>
              <p:cNvPr id="194" name=""/>
              <p:cNvSpPr/>
              <p:nvPr/>
            </p:nvSpPr>
            <p:spPr>
              <a:xfrm>
                <a:off x="4121280" y="1814400"/>
                <a:ext cx="804600" cy="3577320"/>
              </a:xfrm>
              <a:custGeom>
                <a:avLst/>
                <a:gdLst/>
                <a:ahLst/>
                <a:rect l="l" t="t" r="r" b="b"/>
                <a:pathLst>
                  <a:path w="545" h="1142">
                    <a:moveTo>
                      <a:pt x="0" y="1134"/>
                    </a:moveTo>
                    <a:cubicBezTo>
                      <a:pt x="45" y="1138"/>
                      <a:pt x="91" y="1142"/>
                      <a:pt x="136" y="953"/>
                    </a:cubicBezTo>
                    <a:cubicBezTo>
                      <a:pt x="181" y="764"/>
                      <a:pt x="227" y="0"/>
                      <a:pt x="272" y="0"/>
                    </a:cubicBezTo>
                    <a:cubicBezTo>
                      <a:pt x="317" y="0"/>
                      <a:pt x="364" y="764"/>
                      <a:pt x="409" y="953"/>
                    </a:cubicBezTo>
                    <a:cubicBezTo>
                      <a:pt x="454" y="1142"/>
                      <a:pt x="499" y="1138"/>
                      <a:pt x="545" y="113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518360" y="5262120"/>
                <a:ext cx="0" cy="22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6" name=""/>
            <p:cNvSpPr/>
            <p:nvPr/>
          </p:nvSpPr>
          <p:spPr>
            <a:xfrm>
              <a:off x="4246200" y="553896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TL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7601040" y="2787480"/>
              <a:ext cx="28872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" name=""/>
            <p:cNvGrpSpPr/>
            <p:nvPr/>
          </p:nvGrpSpPr>
          <p:grpSpPr>
            <a:xfrm>
              <a:off x="4973760" y="1811160"/>
              <a:ext cx="652320" cy="3668040"/>
              <a:chOff x="4973760" y="1811160"/>
              <a:chExt cx="652320" cy="3668040"/>
            </a:xfrm>
          </p:grpSpPr>
          <p:sp>
            <p:nvSpPr>
              <p:cNvPr id="199" name=""/>
              <p:cNvSpPr/>
              <p:nvPr/>
            </p:nvSpPr>
            <p:spPr>
              <a:xfrm>
                <a:off x="4973760" y="1811160"/>
                <a:ext cx="652320" cy="3577320"/>
              </a:xfrm>
              <a:custGeom>
                <a:avLst/>
                <a:gdLst/>
                <a:ahLst/>
                <a:rect l="l" t="t" r="r" b="b"/>
                <a:pathLst>
                  <a:path w="545" h="1142">
                    <a:moveTo>
                      <a:pt x="0" y="1134"/>
                    </a:moveTo>
                    <a:cubicBezTo>
                      <a:pt x="45" y="1138"/>
                      <a:pt x="91" y="1142"/>
                      <a:pt x="136" y="953"/>
                    </a:cubicBezTo>
                    <a:cubicBezTo>
                      <a:pt x="181" y="764"/>
                      <a:pt x="227" y="0"/>
                      <a:pt x="272" y="0"/>
                    </a:cubicBezTo>
                    <a:cubicBezTo>
                      <a:pt x="317" y="0"/>
                      <a:pt x="364" y="764"/>
                      <a:pt x="409" y="953"/>
                    </a:cubicBezTo>
                    <a:cubicBezTo>
                      <a:pt x="454" y="1142"/>
                      <a:pt x="499" y="1138"/>
                      <a:pt x="545" y="113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95600" y="5258880"/>
                <a:ext cx="0" cy="22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5003640" y="5545080"/>
              <a:ext cx="58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Q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2" name=""/>
            <p:cNvGrpSpPr/>
            <p:nvPr/>
          </p:nvGrpSpPr>
          <p:grpSpPr>
            <a:xfrm>
              <a:off x="5676840" y="1806480"/>
              <a:ext cx="689040" cy="3671640"/>
              <a:chOff x="5676840" y="1806480"/>
              <a:chExt cx="689040" cy="3671640"/>
            </a:xfrm>
          </p:grpSpPr>
          <p:sp>
            <p:nvSpPr>
              <p:cNvPr id="203" name=""/>
              <p:cNvSpPr/>
              <p:nvPr/>
            </p:nvSpPr>
            <p:spPr>
              <a:xfrm>
                <a:off x="5676840" y="1806480"/>
                <a:ext cx="689040" cy="3580560"/>
              </a:xfrm>
              <a:custGeom>
                <a:avLst/>
                <a:gdLst/>
                <a:ahLst/>
                <a:rect l="l" t="t" r="r" b="b"/>
                <a:pathLst>
                  <a:path w="545" h="1142">
                    <a:moveTo>
                      <a:pt x="0" y="1134"/>
                    </a:moveTo>
                    <a:cubicBezTo>
                      <a:pt x="45" y="1138"/>
                      <a:pt x="91" y="1142"/>
                      <a:pt x="136" y="953"/>
                    </a:cubicBezTo>
                    <a:cubicBezTo>
                      <a:pt x="181" y="764"/>
                      <a:pt x="227" y="0"/>
                      <a:pt x="272" y="0"/>
                    </a:cubicBezTo>
                    <a:cubicBezTo>
                      <a:pt x="317" y="0"/>
                      <a:pt x="364" y="764"/>
                      <a:pt x="409" y="953"/>
                    </a:cubicBezTo>
                    <a:cubicBezTo>
                      <a:pt x="454" y="1142"/>
                      <a:pt x="499" y="1138"/>
                      <a:pt x="545" y="113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017040" y="5257440"/>
                <a:ext cx="0" cy="220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5" name=""/>
            <p:cNvSpPr/>
            <p:nvPr/>
          </p:nvSpPr>
          <p:spPr>
            <a:xfrm>
              <a:off x="5802480" y="5548320"/>
              <a:ext cx="41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16200000">
              <a:off x="4800600" y="3981960"/>
              <a:ext cx="240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Contracts, Price Negotiation,..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rot="16200000">
              <a:off x="5752080" y="4211280"/>
              <a:ext cx="1954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Hotline, Repair Center,..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rot="16200000">
              <a:off x="6332040" y="4059720"/>
              <a:ext cx="2242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Variant Mgmt, Local Appr.,..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rot="16200000">
              <a:off x="2867760" y="3551040"/>
              <a:ext cx="3288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Prod. Tech., Test Tech., Prototype Shop,...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6200000">
              <a:off x="4005000" y="3904200"/>
              <a:ext cx="2575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Material, Quality, Suppl. Mgmt,..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3348000" y="4260960"/>
              <a:ext cx="181080" cy="36360"/>
              <a:chOff x="3348000" y="4260960"/>
              <a:chExt cx="181080" cy="36360"/>
            </a:xfrm>
          </p:grpSpPr>
          <p:sp>
            <p:nvSpPr>
              <p:cNvPr id="212" name=""/>
              <p:cNvSpPr/>
              <p:nvPr/>
            </p:nvSpPr>
            <p:spPr>
              <a:xfrm>
                <a:off x="3348000" y="4260960"/>
                <a:ext cx="36720" cy="36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419640" y="426096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492360" y="4260960"/>
                <a:ext cx="36720" cy="36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4025880" y="4259160"/>
              <a:ext cx="181080" cy="36360"/>
              <a:chOff x="4025880" y="4259160"/>
              <a:chExt cx="181080" cy="36360"/>
            </a:xfrm>
          </p:grpSpPr>
          <p:sp>
            <p:nvSpPr>
              <p:cNvPr id="216" name=""/>
              <p:cNvSpPr/>
              <p:nvPr/>
            </p:nvSpPr>
            <p:spPr>
              <a:xfrm>
                <a:off x="4025880" y="4259160"/>
                <a:ext cx="36720" cy="36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097520" y="425916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170240" y="4259160"/>
                <a:ext cx="36720" cy="36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4830840" y="4264200"/>
              <a:ext cx="180360" cy="36360"/>
              <a:chOff x="4830840" y="4264200"/>
              <a:chExt cx="180360" cy="36360"/>
            </a:xfrm>
          </p:grpSpPr>
          <p:sp>
            <p:nvSpPr>
              <p:cNvPr id="220" name=""/>
              <p:cNvSpPr/>
              <p:nvPr/>
            </p:nvSpPr>
            <p:spPr>
              <a:xfrm>
                <a:off x="4830840" y="426420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902120" y="426420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974840" y="426420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7667640" y="4260960"/>
              <a:ext cx="181080" cy="36360"/>
              <a:chOff x="7667640" y="4260960"/>
              <a:chExt cx="181080" cy="36360"/>
            </a:xfrm>
          </p:grpSpPr>
          <p:sp>
            <p:nvSpPr>
              <p:cNvPr id="224" name=""/>
              <p:cNvSpPr/>
              <p:nvPr/>
            </p:nvSpPr>
            <p:spPr>
              <a:xfrm>
                <a:off x="7667640" y="4260960"/>
                <a:ext cx="36720" cy="36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739280" y="426096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7812000" y="4260960"/>
                <a:ext cx="36720" cy="36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7000920" y="4264200"/>
              <a:ext cx="181080" cy="36360"/>
              <a:chOff x="7000920" y="4264200"/>
              <a:chExt cx="181080" cy="36360"/>
            </a:xfrm>
          </p:grpSpPr>
          <p:sp>
            <p:nvSpPr>
              <p:cNvPr id="228" name=""/>
              <p:cNvSpPr/>
              <p:nvPr/>
            </p:nvSpPr>
            <p:spPr>
              <a:xfrm>
                <a:off x="7000920" y="4264200"/>
                <a:ext cx="36720" cy="36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7072560" y="426420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145280" y="4264200"/>
                <a:ext cx="36720" cy="36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6291360" y="4264200"/>
              <a:ext cx="180360" cy="36360"/>
              <a:chOff x="6291360" y="4264200"/>
              <a:chExt cx="180360" cy="36360"/>
            </a:xfrm>
          </p:grpSpPr>
          <p:sp>
            <p:nvSpPr>
              <p:cNvPr id="232" name=""/>
              <p:cNvSpPr/>
              <p:nvPr/>
            </p:nvSpPr>
            <p:spPr>
              <a:xfrm>
                <a:off x="6291360" y="426420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362640" y="426420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435360" y="426420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5556240" y="4259160"/>
              <a:ext cx="181080" cy="36360"/>
              <a:chOff x="5556240" y="4259160"/>
              <a:chExt cx="181080" cy="36360"/>
            </a:xfrm>
          </p:grpSpPr>
          <p:sp>
            <p:nvSpPr>
              <p:cNvPr id="236" name=""/>
              <p:cNvSpPr/>
              <p:nvPr/>
            </p:nvSpPr>
            <p:spPr>
              <a:xfrm>
                <a:off x="5556240" y="4259160"/>
                <a:ext cx="36720" cy="36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627880" y="425916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700600" y="4259160"/>
                <a:ext cx="36720" cy="36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3FC3-BB50-47F1-809F-582CD84B485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Vision – Mission - Objective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0" name=""/>
          <p:cNvSpPr/>
          <p:nvPr/>
        </p:nvSpPr>
        <p:spPr>
          <a:xfrm>
            <a:off x="196524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68360" y="1814400"/>
            <a:ext cx="8675640" cy="22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Wingdings"/>
                <a:ea typeface="Wingdings"/>
              </a:rPr>
              <a:t></a:t>
            </a: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TPM to tear-down department boarders (related to products) !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Wingdings"/>
                <a:ea typeface="Wingdings"/>
              </a:rPr>
              <a:t></a:t>
            </a: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TPM: ‚Inside Minister‘  to manage all BenQ Mobile inside  technical topics 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Wingdings"/>
                <a:ea typeface="Wingdings"/>
              </a:rPr>
              <a:t></a:t>
            </a: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CPM feeling: With TPM I‘m the king (customer) – I get what I want 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Wingdings"/>
                <a:ea typeface="Wingdings"/>
              </a:rPr>
              <a:t></a:t>
            </a: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TPM: „Can – do“ attitu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Wingdings"/>
                <a:ea typeface="Wingdings"/>
              </a:rPr>
              <a:t></a:t>
            </a: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TPM manages the product contract with CPM (customer) 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364000" y="5445000"/>
            <a:ext cx="3390480" cy="617400"/>
            <a:chOff x="5364000" y="5445000"/>
            <a:chExt cx="3390480" cy="617400"/>
          </a:xfrm>
        </p:grpSpPr>
        <p:sp>
          <p:nvSpPr>
            <p:cNvPr id="243" name=""/>
            <p:cNvSpPr/>
            <p:nvPr/>
          </p:nvSpPr>
          <p:spPr>
            <a:xfrm>
              <a:off x="5364000" y="5473440"/>
              <a:ext cx="3371760" cy="588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5406120" y="5511600"/>
              <a:ext cx="3223440" cy="533880"/>
              <a:chOff x="5406120" y="5511600"/>
              <a:chExt cx="3223440" cy="533880"/>
            </a:xfrm>
          </p:grpSpPr>
          <p:sp>
            <p:nvSpPr>
              <p:cNvPr id="245" name=""/>
              <p:cNvSpPr/>
              <p:nvPr/>
            </p:nvSpPr>
            <p:spPr>
              <a:xfrm>
                <a:off x="5406120" y="5514480"/>
                <a:ext cx="189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4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Competitiveness</a:t>
                </a:r>
                <a:r>
                  <a:rPr b="0" lang="de-DE" sz="14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 =</a:t>
                </a:r>
                <a:r>
                  <a:rPr b="0" lang="de-DE" sz="24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156440" y="5511600"/>
                <a:ext cx="682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4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Valu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188120" y="5738400"/>
                <a:ext cx="570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4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Cos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765920" y="5621040"/>
                <a:ext cx="863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4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x Spee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187760" y="5782680"/>
                <a:ext cx="576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7653600" y="544500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487000" y="5568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623360" y="57225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466560" y="3978360"/>
            <a:ext cx="8676000" cy="22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Wingdings"/>
                <a:ea typeface="Wingdings"/>
              </a:rPr>
              <a:t></a:t>
            </a: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TTM Time to market (DS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Wingdings"/>
                <a:ea typeface="Wingdings"/>
              </a:rPr>
              <a:t></a:t>
            </a: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TTV Time to volume (full ru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Wingdings"/>
                <a:ea typeface="Wingdings"/>
              </a:rPr>
              <a:t></a:t>
            </a: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Quality (return rate)</a:t>
            </a:r>
            <a:br>
              <a:rPr sz="1600"/>
            </a:b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   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: 4,5%  C/M: 9,0%  S/SL: 12,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Wingdings"/>
                <a:ea typeface="Wingdings"/>
              </a:rPr>
              <a:t></a:t>
            </a: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TCO Total cost of ownership</a:t>
            </a:r>
            <a:br>
              <a:rPr sz="1600"/>
            </a:b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     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BoM,Conversion cost, Licencees, Make or bu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69800" y="860400"/>
            <a:ext cx="66978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Wingdings"/>
                <a:ea typeface="Wingdings"/>
              </a:rPr>
              <a:t></a:t>
            </a: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 „</a:t>
            </a: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Simply the Best“            People, Processes, Produ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5851-8449-4E3B-967B-5EB2EEE6121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4560" y="404280"/>
            <a:ext cx="7391160" cy="762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a0e66"/>
                </a:solidFill>
                <a:latin typeface="Minion"/>
              </a:rPr>
              <a:t>Organisation of BO  01.03.2006</a:t>
            </a:r>
            <a:br>
              <a:rPr sz="3200"/>
            </a:b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6" name=""/>
          <p:cNvSpPr/>
          <p:nvPr/>
        </p:nvSpPr>
        <p:spPr>
          <a:xfrm>
            <a:off x="4362480" y="907920"/>
            <a:ext cx="1149480" cy="592200"/>
          </a:xfrm>
          <a:prstGeom prst="rect">
            <a:avLst/>
          </a:prstGeom>
          <a:gradFill rotWithShape="0">
            <a:gsLst>
              <a:gs pos="0">
                <a:srgbClr val="bad1e8"/>
              </a:gs>
              <a:gs pos="100000">
                <a:srgbClr val="cfdfee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6f7c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PBM PM BO</a:t>
            </a:r>
            <a:br>
              <a:rPr sz="1200"/>
            </a:br>
            <a:r>
              <a:rPr b="0" i="1" lang="de-DE" sz="1000" spc="-1" strike="noStrike">
                <a:solidFill>
                  <a:srgbClr val="002b5d"/>
                </a:solidFill>
                <a:latin typeface="Arial"/>
              </a:rPr>
              <a:t>Brigitte Flier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969840" y="1684440"/>
            <a:ext cx="1030320" cy="503280"/>
          </a:xfrm>
          <a:prstGeom prst="rect">
            <a:avLst/>
          </a:prstGeom>
          <a:gradFill rotWithShape="0">
            <a:gsLst>
              <a:gs pos="0">
                <a:srgbClr val="bad1e8"/>
              </a:gs>
              <a:gs pos="100000">
                <a:srgbClr val="cfdfee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6f7c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      </a:t>
            </a: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TPM BO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2b5d"/>
                </a:solidFill>
                <a:latin typeface="Arial"/>
              </a:rPr>
              <a:t>Brigitte Flier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081160" y="3932280"/>
            <a:ext cx="1028880" cy="444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. Andreas-Joachim Mergn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513400" y="1684440"/>
            <a:ext cx="888840" cy="503280"/>
          </a:xfrm>
          <a:prstGeom prst="rect">
            <a:avLst/>
          </a:prstGeom>
          <a:gradFill rotWithShape="0">
            <a:gsLst>
              <a:gs pos="0">
                <a:srgbClr val="bad1e8"/>
              </a:gs>
              <a:gs pos="100000">
                <a:srgbClr val="cfdfee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6f7c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BO 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2b5d"/>
                </a:solidFill>
                <a:latin typeface="Arial"/>
              </a:rPr>
              <a:t>Thomas Janz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271680" y="1684440"/>
            <a:ext cx="1028880" cy="503280"/>
          </a:xfrm>
          <a:prstGeom prst="rect">
            <a:avLst/>
          </a:prstGeom>
          <a:gradFill rotWithShape="0">
            <a:gsLst>
              <a:gs pos="0">
                <a:srgbClr val="bad1e8"/>
              </a:gs>
              <a:gs pos="100000">
                <a:srgbClr val="cfdfee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6f7c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BO 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2b5d"/>
                </a:solidFill>
                <a:latin typeface="Arial"/>
              </a:rPr>
              <a:t>Eva Lundgr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443480" y="3932280"/>
            <a:ext cx="969840" cy="5191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. Martin Zeisn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. Frank Steinkoh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119640" y="981000"/>
            <a:ext cx="968400" cy="493920"/>
          </a:xfrm>
          <a:prstGeom prst="rect">
            <a:avLst/>
          </a:prstGeom>
          <a:solidFill>
            <a:srgbClr val="f9fda1"/>
          </a:solidFill>
          <a:ln w="0">
            <a:noFill/>
          </a:ln>
          <a:effectLst>
            <a:outerShdw dist="17819" dir="2700000" blurRad="0" rotWithShape="0">
              <a:srgbClr val="94976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Assis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800" spc="-1" strike="noStrike">
                <a:solidFill>
                  <a:srgbClr val="002b5d"/>
                </a:solidFill>
                <a:latin typeface="Arial"/>
              </a:rPr>
              <a:t>Alexandra Müll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424240" y="1628640"/>
            <a:ext cx="12204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694480" y="1628640"/>
            <a:ext cx="601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400880" y="1628640"/>
            <a:ext cx="6660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363760" y="1700280"/>
            <a:ext cx="1206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532560" y="1684440"/>
            <a:ext cx="1028880" cy="503280"/>
          </a:xfrm>
          <a:prstGeom prst="rect">
            <a:avLst/>
          </a:prstGeom>
          <a:gradFill rotWithShape="0">
            <a:gsLst>
              <a:gs pos="0">
                <a:srgbClr val="bad1e8"/>
              </a:gs>
              <a:gs pos="100000">
                <a:srgbClr val="cfdfee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6f7c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BO 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2b5d"/>
                </a:solidFill>
                <a:latin typeface="Arial"/>
              </a:rPr>
              <a:t>Michael Ru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648560" y="1684440"/>
            <a:ext cx="1211400" cy="503280"/>
          </a:xfrm>
          <a:prstGeom prst="rect">
            <a:avLst/>
          </a:prstGeom>
          <a:gradFill rotWithShape="0">
            <a:gsLst>
              <a:gs pos="0">
                <a:srgbClr val="bad1e8"/>
              </a:gs>
              <a:gs pos="100000">
                <a:srgbClr val="cfdfee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6f7c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GP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2b5d"/>
                </a:solidFill>
                <a:latin typeface="Arial"/>
              </a:rPr>
              <a:t>Edmund Trage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969840" y="2276640"/>
            <a:ext cx="1081080" cy="647640"/>
          </a:xfrm>
          <a:prstGeom prst="rect">
            <a:avLst/>
          </a:prstGeom>
          <a:solidFill>
            <a:srgbClr val="ccecff"/>
          </a:solidFill>
          <a:ln w="0">
            <a:noFill/>
          </a:ln>
          <a:effectLst>
            <a:outerShdw dist="17819" dir="2700000" blurRad="0" rotWithShape="0">
              <a:srgbClr val="798d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s. Kristina Norman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. Karl Sattl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s. Bojing Sh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s. Annette Klau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s M. Fernande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182760" y="2276640"/>
            <a:ext cx="1211400" cy="1439640"/>
          </a:xfrm>
          <a:prstGeom prst="rect">
            <a:avLst/>
          </a:prstGeom>
          <a:solidFill>
            <a:srgbClr val="ccecff"/>
          </a:solidFill>
          <a:ln w="0">
            <a:noFill/>
          </a:ln>
          <a:effectLst>
            <a:outerShdw dist="17819" dir="2700000" blurRad="0" rotWithShape="0">
              <a:srgbClr val="798d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s. Stefanie Weig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s. Sabine Birkmei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. Michael Dernba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s. Doris Kurtenba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s. Karin Falkenberg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. Thorsten Stoff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. Thierry Hel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. Michaela Lut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. Stefan Gassn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s. Margarete Walldorf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s. Nicole Faulhab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. Mark Lukaschi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s Natalie Kaupe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120760" y="1684440"/>
            <a:ext cx="1030320" cy="503280"/>
          </a:xfrm>
          <a:prstGeom prst="rect">
            <a:avLst/>
          </a:prstGeom>
          <a:gradFill rotWithShape="0">
            <a:gsLst>
              <a:gs pos="0">
                <a:srgbClr val="bad1e8"/>
              </a:gs>
              <a:gs pos="100000">
                <a:srgbClr val="cfdfee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6f7c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Applic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2b5d"/>
                </a:solidFill>
                <a:latin typeface="Arial"/>
              </a:rPr>
              <a:t>Anke Bartelheim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422600" y="1684440"/>
            <a:ext cx="970200" cy="503280"/>
          </a:xfrm>
          <a:prstGeom prst="rect">
            <a:avLst/>
          </a:prstGeom>
          <a:gradFill rotWithShape="0">
            <a:gsLst>
              <a:gs pos="0">
                <a:srgbClr val="bad1e8"/>
              </a:gs>
              <a:gs pos="100000">
                <a:srgbClr val="cfdfee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6f7c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PHA 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2b5d"/>
                </a:solidFill>
                <a:latin typeface="Arial"/>
              </a:rPr>
              <a:t>Andrea Hein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452920" y="2276640"/>
            <a:ext cx="1030320" cy="288720"/>
          </a:xfrm>
          <a:prstGeom prst="rect">
            <a:avLst/>
          </a:prstGeom>
          <a:solidFill>
            <a:srgbClr val="ccecff"/>
          </a:solidFill>
          <a:ln w="0">
            <a:noFill/>
          </a:ln>
          <a:effectLst>
            <a:outerShdw dist="17819" dir="2700000" blurRad="0" rotWithShape="0">
              <a:srgbClr val="798d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s. Yvonne Schulz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. David Hön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562800" y="2276640"/>
            <a:ext cx="998640" cy="720720"/>
          </a:xfrm>
          <a:prstGeom prst="rect">
            <a:avLst/>
          </a:prstGeom>
          <a:solidFill>
            <a:srgbClr val="ccecff"/>
          </a:solidFill>
          <a:ln w="0">
            <a:noFill/>
          </a:ln>
          <a:effectLst>
            <a:outerShdw dist="17819" dir="2700000" blurRad="0" rotWithShape="0">
              <a:srgbClr val="798d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s. Olga Klenner*Mr. W. Leist Gutman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. Helmut Wern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s. Manuela Cebulla *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648560" y="2268360"/>
            <a:ext cx="1211400" cy="800280"/>
          </a:xfrm>
          <a:prstGeom prst="rect">
            <a:avLst/>
          </a:prstGeom>
          <a:solidFill>
            <a:srgbClr val="ccecff"/>
          </a:solidFill>
          <a:ln w="0">
            <a:noFill/>
          </a:ln>
          <a:effectLst>
            <a:outerShdw dist="17819" dir="2700000" blurRad="0" rotWithShape="0">
              <a:srgbClr val="798d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s. Brigitte  Gegner *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. Olaf Epd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. Nelson Mendoz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. Axel Wol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s. Olga Funk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s. Adriana Campo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s. Britta Ballhau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965160" y="3932280"/>
            <a:ext cx="1090800" cy="4334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s. S Schlusch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. Christoph Link </a:t>
            </a: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195720" y="3932280"/>
            <a:ext cx="1211040" cy="504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s. Nicole Bl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. Sebastian Korna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s. Larissa Banus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. Lars Buchweitz</a:t>
            </a: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195720" y="4508640"/>
            <a:ext cx="1211040" cy="21564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7819" dir="2700000" blurRad="0" rotWithShape="0">
              <a:srgbClr val="7998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. Friedrich Hor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92880" y="3932280"/>
            <a:ext cx="1030320" cy="504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s. Michaela Endrizz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s Erika Molas-Co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92880" y="4508640"/>
            <a:ext cx="1180800" cy="21564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7819" dir="2700000" blurRad="0" rotWithShape="0">
              <a:srgbClr val="7998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. Nima Ghahremani </a:t>
            </a: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588000" y="4005360"/>
            <a:ext cx="1000080" cy="4334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. Nicole Kohl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. A. Maiel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658280" y="3932280"/>
            <a:ext cx="1211040" cy="504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s. Geraldine Grein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. Wolfgang Brand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  <a:ea typeface="文鼎中黑"/>
              </a:rPr>
              <a:t>Ms. Ren Berger Wey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  <a:ea typeface="文鼎中黑"/>
              </a:rPr>
              <a:t>Mr. Alexander Fran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658280" y="4508640"/>
            <a:ext cx="1211040" cy="21564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7819" dir="2700000" blurRad="0" rotWithShape="0">
              <a:srgbClr val="7998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. Adam Mahfoud </a:t>
            </a: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24000" y="4508640"/>
            <a:ext cx="5238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Stud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84360" y="285264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Arial"/>
                <a:ea typeface="文鼎中黑"/>
              </a:rPr>
              <a:t> 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+ 4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509800" y="4149720"/>
            <a:ext cx="61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+ 2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79F4-A262-47B0-A017-22CBF3FDEF9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Peter Farrenkothen</cp:lastModifiedBy>
  <dcterms:modified xsi:type="dcterms:W3CDTF">2006-03-15T16:32:56Z</dcterms:modified>
  <cp:revision>111</cp:revision>
  <dc:subject/>
  <dc:title>PowerPoint 簡報</dc:title>
</cp:coreProperties>
</file>