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F9D-EF6E-4100-B515-340DFE1C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E31-42B0-47B6-A0A8-F3749941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033-3F37-482E-B9BA-B6AAABBF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E9B-157B-433C-B342-92936BFD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B90-7B4F-4631-BD86-C1BF6CA1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F05-9D84-424D-9AB5-18788041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E9A-57DB-40DE-91AD-C004097E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EA4-8A7F-472E-A948-0C2453C4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7DC-91AF-489C-BEE5-C9AFB30D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7CE-3ACA-4628-8A19-339E4134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D0A-77CA-474A-A46D-9C5399AA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AF5-2900-48E3-9AC1-544B59FD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195A-35D3-4C7D-A4D8-490513FE587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7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97920"/>
            <a:ext cx="889344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 (DRAFT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199800" y="898560"/>
            <a:ext cx="9032760" cy="5133960"/>
            <a:chOff x="-199800" y="898560"/>
            <a:chExt cx="9032760" cy="5133960"/>
          </a:xfrm>
        </p:grpSpPr>
        <p:sp>
          <p:nvSpPr>
            <p:cNvPr id="46" name=""/>
            <p:cNvSpPr/>
            <p:nvPr/>
          </p:nvSpPr>
          <p:spPr>
            <a:xfrm>
              <a:off x="3165480" y="898560"/>
              <a:ext cx="287964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Head</a:t>
              </a:r>
              <a:br>
                <a:rPr sz="12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27880" y="898560"/>
              <a:ext cx="125892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ecret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nke Wol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" name=""/>
            <p:cNvCxnSpPr>
              <a:endCxn id="47" idx="1"/>
            </p:cNvCxnSpPr>
            <p:nvPr/>
          </p:nvCxnSpPr>
          <p:spPr>
            <a:xfrm flipV="1">
              <a:off x="6044760" y="1173960"/>
              <a:ext cx="483480" cy="720"/>
            </a:xfrm>
            <a:prstGeom prst="bentConnector3">
              <a:avLst>
                <a:gd name="adj1" fmla="val 26527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2728800" y="2050920"/>
              <a:ext cx="1333440" cy="31975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MCH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Kock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Neu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Peter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m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Watz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Weiga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Wie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M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Crutziger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T. A. Engelhardt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Hohenleit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A. Lan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Schwarz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26040" y="2041560"/>
              <a:ext cx="1258920" cy="43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99520" y="2041560"/>
              <a:ext cx="1333440" cy="431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MG PH TPM 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. Flier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0"/>
              <a:endCxn id="46" idx="2"/>
            </p:cNvCxnSpPr>
            <p:nvPr/>
          </p:nvCxnSpPr>
          <p:spPr>
            <a:xfrm flipV="1" rot="16200000">
              <a:off x="6089760" y="-35280"/>
              <a:ext cx="592560" cy="3561480"/>
            </a:xfrm>
            <a:prstGeom prst="bentConnector3">
              <a:avLst>
                <a:gd name="adj1" fmla="val 48936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3" name=""/>
            <p:cNvSpPr/>
            <p:nvPr/>
          </p:nvSpPr>
          <p:spPr>
            <a:xfrm>
              <a:off x="5111640" y="2048040"/>
              <a:ext cx="1322640" cy="32004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Bet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Feldhof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Ke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Zim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Alkämp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Gallos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Röhri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800" y="3249720"/>
              <a:ext cx="1332000" cy="19987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platf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Gei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Gö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Häns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Karaceli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Klo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O. Passau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0360" y="2041560"/>
              <a:ext cx="1332000" cy="102708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-P. Farrenkot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warpl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. Sp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6" idx="2"/>
              <a:endCxn id="55" idx="1"/>
            </p:cNvCxnSpPr>
            <p:nvPr/>
          </p:nvCxnSpPr>
          <p:spPr>
            <a:xfrm rot="5400000">
              <a:off x="1929600" y="-120240"/>
              <a:ext cx="1105920" cy="4245120"/>
            </a:xfrm>
            <a:prstGeom prst="bentConnector4">
              <a:avLst>
                <a:gd name="adj1" fmla="val 27352"/>
                <a:gd name="adj2" fmla="val 105351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55" idx="1"/>
              <a:endCxn id="54" idx="1"/>
            </p:cNvCxnSpPr>
            <p:nvPr/>
          </p:nvCxnSpPr>
          <p:spPr>
            <a:xfrm flipH="1" flipV="1" rot="10800000">
              <a:off x="360360" y="2554920"/>
              <a:ext cx="1800" cy="1694520"/>
            </a:xfrm>
            <a:prstGeom prst="bentConnector3">
              <a:avLst>
                <a:gd name="adj1" fmla="val -15775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7499520" y="2666880"/>
              <a:ext cx="1333440" cy="33656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P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B. Flierl (act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App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Bartelhei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V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Lundg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Taipeh Coor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Hein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R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T. Jan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C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M. Ru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GP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Trage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/>
            <p:nvPr/>
          </p:nvCxnSpPr>
          <p:spPr>
            <a:xfrm flipV="1">
              <a:off x="8165880" y="2482200"/>
              <a:ext cx="1080" cy="183240"/>
            </a:xfrm>
            <a:prstGeom prst="bentConnector2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60" name=""/>
            <p:cNvCxnSpPr>
              <a:endCxn id="49" idx="1"/>
            </p:cNvCxnSpPr>
            <p:nvPr/>
          </p:nvCxnSpPr>
          <p:spPr>
            <a:xfrm flipH="1" flipV="1" rot="10800000">
              <a:off x="2522880" y="1744560"/>
              <a:ext cx="206280" cy="1905480"/>
            </a:xfrm>
            <a:prstGeom prst="bentConnector3">
              <a:avLst>
                <a:gd name="adj1" fmla="val -10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/>
            <p:nvPr/>
          </p:nvCxnSpPr>
          <p:spPr>
            <a:xfrm flipH="1" rot="16200000">
              <a:off x="4055760" y="2594520"/>
              <a:ext cx="1905840" cy="205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-199800" y="5513400"/>
              <a:ext cx="253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2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5-19T06:25:30Z</dcterms:modified>
  <cp:revision>146</cp:revision>
  <dc:subject/>
  <dc:title>PowerPoint 簡報</dc:title>
</cp:coreProperties>
</file>