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10745788" cy="80391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2842920" y="533520"/>
            <a:ext cx="34621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move the slide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7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8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8F0F-B7C2-47F0-95FE-E4AB0355A7C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42C3-D1F2-40A2-B0D0-4D57F9D830E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3512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2960" y="3257280"/>
            <a:ext cx="73180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C6E-6060-473D-BC52-1C1DD011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9FD-2E1B-4785-ACF2-0F77C639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461-059E-44C9-9F57-5FA59016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968-8302-451F-B552-21607297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B7AA-3619-466E-AC13-2DC72991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2556-E2C7-4DC8-8702-D07B345A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75DD-A05F-4EF3-9709-45A745B2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8927-BF23-40E9-9197-14A6E06F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B43F-06C3-4A3E-AE8F-EA212ECF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6BC2-9CA4-4475-93A0-6481A1A5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BDA5-0FA8-4173-AC5E-C0673EA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736-986E-47B7-8908-15128C34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5D12-F3F6-4051-92D2-888DC67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E5FE-2277-4897-8075-7D32EBDC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7D7D-D455-4098-8BAB-BC900677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630E-4D23-423F-9A4E-817A5FF8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0FFF-E7F8-4CC1-9168-6B88CA63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CACA-0309-40B4-BCDB-E4C1098D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32FC-DB58-4892-B9DC-F34D8724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D5E9-D39D-445D-9AA6-54A600ED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D454-BC39-4B39-9656-0FA3E357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FAF8-B7F3-42FA-BF02-DB7D771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947-EFDC-4DEA-B704-1FC25360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FA4D-9D36-443C-A3BC-63963188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659D-FF34-42C5-845B-DAD02E1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3F8D-34BA-4A18-88ED-78025BCC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144E1-542F-4403-BE83-3B3A8B7F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6B7C-386A-485C-8273-A2CEEF4D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F5F3B-9385-427B-8B78-62FABC66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BF98-CB4D-4CA6-BF1B-26218F01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E9B8-CE4C-46B1-B855-966B3AAD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A1CC-8192-4E58-BA73-44217991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5ABFE-5BF5-4056-8A91-ABE21222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1C8-D89B-4409-A6CF-95F2EFE9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DC57-05DF-442C-8B40-9CF93646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7E7D-67C5-46D6-B598-79700E09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2917A-E8B3-40AF-90F5-6649CF70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874B-5748-4BD6-8C99-064ECC5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08AD-4D42-4BAE-9A71-72F7B5C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F558-4B6A-4994-905E-5D7A80AA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50555-B7F8-4BE2-B7A0-2CF8A806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075CF-40AB-431D-8261-97BFE5B0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5AF39-AF53-42BF-BB1B-3CB54CE7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5231-D720-4009-82F2-A240200E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EE5-C532-4619-9A6A-13DEC342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52666-29A0-4D88-8D48-C04FE16B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E7D8-A825-4F75-9E6D-CD900545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91F58-992E-49B2-903E-B85050F5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3927-078C-45A3-9370-889A1370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07A9A-748A-4EC7-9D9E-747191D9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5D6A-295D-41FD-9869-18C8F240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FEC7-0108-45DE-96A8-6DFF3536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F21B-93E1-4351-A528-404FD465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9522F-DE29-4F46-B0D9-AB2F7E94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5A0D2-24B8-4DBD-9E59-EADD1091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90F-B11B-48AD-8871-46691182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4DCE6-D1D0-4D4A-AB49-13967AFB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66F-8CF1-4340-B8F7-CD25876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0E8-E126-43C8-B8F6-145FC216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4D5-662F-47D3-97D3-8167868E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D1E968C1-2586-4D96-A9DB-EFD876BABF2C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1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6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A09E0C49-84F0-4EC3-AE18-CA30E3CEF377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960" y="78026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/08/26)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8D8F7770-277B-4A53-B391-1A41B9074952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2C9DC12E-0143-4858-B3A1-6929B7483795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8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808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5AA79E5D-CFE6-4216-9891-ABF293D1BB5E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9200" y="56340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nion Bold"/>
              </a:rPr>
              <a:t>Feature Commitment vs. Project Dur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50840" y="6035760"/>
            <a:ext cx="849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7200" y="214776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71920" y="214776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540640" y="214740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11200" y="3803760"/>
            <a:ext cx="7416720" cy="1152360"/>
          </a:xfrm>
          <a:custGeom>
            <a:avLst/>
            <a:gdLst/>
            <a:ahLst/>
            <a:rect l="l" t="t" r="r" b="b"/>
            <a:pathLst>
              <a:path w="4672" h="726">
                <a:moveTo>
                  <a:pt x="0" y="726"/>
                </a:moveTo>
                <a:cubicBezTo>
                  <a:pt x="268" y="605"/>
                  <a:pt x="537" y="484"/>
                  <a:pt x="1316" y="363"/>
                </a:cubicBezTo>
                <a:cubicBezTo>
                  <a:pt x="2095" y="242"/>
                  <a:pt x="4135" y="45"/>
                  <a:pt x="467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84280" y="2724120"/>
            <a:ext cx="7343640" cy="1150920"/>
          </a:xfrm>
          <a:custGeom>
            <a:avLst/>
            <a:gdLst/>
            <a:ahLst/>
            <a:rect l="l" t="t" r="r" b="b"/>
            <a:pathLst>
              <a:path w="4626" h="725">
                <a:moveTo>
                  <a:pt x="0" y="0"/>
                </a:moveTo>
                <a:cubicBezTo>
                  <a:pt x="272" y="98"/>
                  <a:pt x="544" y="196"/>
                  <a:pt x="1315" y="317"/>
                </a:cubicBezTo>
                <a:cubicBezTo>
                  <a:pt x="2086" y="438"/>
                  <a:pt x="4089" y="642"/>
                  <a:pt x="4626" y="72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68120" y="6297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67560" y="250668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ull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3920" y="6324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84280" y="2651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7560" y="4235400"/>
            <a:ext cx="288720" cy="2890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96280" y="3659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34240" y="45244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in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3320" y="308304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@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34240" y="25066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7560" y="3083040"/>
            <a:ext cx="288720" cy="28872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79680" y="632448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7920" y="437976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7920" y="409104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67560" y="40910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3400" y="452448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Chang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02:52:45Z</dcterms:created>
  <dc:creator>Apple Zhou</dc:creator>
  <dc:description/>
  <dc:language>en-US</dc:language>
  <cp:lastModifiedBy>Holger Asmussen</cp:lastModifiedBy>
  <dcterms:modified xsi:type="dcterms:W3CDTF">2006-02-01T20:22:31Z</dcterms:modified>
  <cp:revision>1045</cp:revision>
  <dc:subject/>
  <dc:title>PowerPoint 簡報</dc:title>
</cp:coreProperties>
</file>