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B42-86B5-4E83-B8BE-9463F510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AC8-9745-47A6-80CE-D97DD3ED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8BC-3A8D-421D-A096-37505AB4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27B-7DCB-4A2E-BC43-804D0196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FD4-8363-4AE9-88EB-05BE772B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9CC-2A86-48C6-B9F5-45D9EF6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CFD-6CBB-4805-8022-9F13D823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EA4-B9A4-4638-92B3-B230A0AD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63C-78B1-4C7F-AC62-E5C7D7D1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502-9EFF-4EA2-A531-42BA9A2D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A7F-A674-4B05-939B-37FDFCA3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0B6-9514-4A94-8FAA-4DBCC7AE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7F90-8B03-4816-BC57-96B3E47FC4C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058760"/>
            <a:ext cx="5760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responsibility for Platform (HW/SW) and Product-Project PV-Plans (schedule &amp; budget), incl. planning coordinato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template responsibility (“what” and “how”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questing new projects in PV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viding content and milestone dat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porting &amp; controlling (e.g. milestones and deviation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riggering of planning / Re-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98400"/>
            <a:ext cx="5924520" cy="208764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400" y="6732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PM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56120"/>
            <a:ext cx="59767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 planning (components, predev., part projects)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according product clas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planning and controlling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y part project leader, aligned with line manager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: pre-M0/after-S4: only accounting, no work package 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art project reporting &amp;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ine specific templates according product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of schedule and effort spent b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ponsible for alignment of planned effort in PV with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859120"/>
            <a:ext cx="5924520" cy="2376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240" y="27860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260280"/>
            <a:ext cx="2881080" cy="5400720"/>
          </a:xfrm>
          <a:custGeom>
            <a:avLst/>
            <a:gdLst/>
            <a:ahLst/>
            <a:rect l="l" t="t" r="r" b="b"/>
            <a:pathLst>
              <a:path w="1815" h="3357">
                <a:moveTo>
                  <a:pt x="0" y="0"/>
                </a:moveTo>
                <a:lnTo>
                  <a:pt x="1815" y="0"/>
                </a:lnTo>
                <a:lnTo>
                  <a:pt x="1815" y="3357"/>
                </a:lnTo>
                <a:lnTo>
                  <a:pt x="0" y="3357"/>
                </a:lnTo>
                <a:lnTo>
                  <a:pt x="0" y="3130"/>
                </a:lnTo>
                <a:lnTo>
                  <a:pt x="318" y="3130"/>
                </a:lnTo>
                <a:lnTo>
                  <a:pt x="318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4464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ES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94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cepts &amp;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hour reporting (S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P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vide reporting &amp; controlling „toolbox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otline &amp; 2nd leve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aining &amp; co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 &amp; 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73408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No booking of normal PV project planning on the Primavera tool account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Planning support is not an extraordinary task of the lines or TPM and should be part of the normal project efforts/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80" y="5450040"/>
            <a:ext cx="27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Booking guideli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D33-B5FA-4992-9E17-BE76C51336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7010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8000" y="549360"/>
          <a:ext cx="8928000" cy="5664240"/>
        </p:xfrm>
        <a:graphic>
          <a:graphicData uri="http://schemas.openxmlformats.org/drawingml/2006/table">
            <a:tbl>
              <a:tblPr/>
              <a:tblGrid>
                <a:gridCol w="1982880"/>
                <a:gridCol w="825480"/>
                <a:gridCol w="703080"/>
                <a:gridCol w="1528920"/>
                <a:gridCol w="1152360"/>
                <a:gridCol w="863640"/>
                <a:gridCol w="647640"/>
                <a:gridCol w="12240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ponsibility 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br>
                        <a:rPr sz="16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+</a:t>
                      </a: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L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V-plans for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tform / 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 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 / c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verall  w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t +h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 , Platform: 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ation incl. li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; 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eMasterpl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istr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uest new PV proje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intain resource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vide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p., pre-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ent &amp; 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i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 &amp; al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/metho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 and dev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: schedule &amp; eff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2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signed tas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 (effort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/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ooling PV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+ Inter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otline/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79280" y="6381720"/>
            <a:ext cx="43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s*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:   Part Projects, Components, Pre-develo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CEB-2253-405A-BD01-F6D9F6477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feiferB</cp:lastModifiedBy>
  <dcterms:modified xsi:type="dcterms:W3CDTF">2006-03-16T14:01:51Z</dcterms:modified>
  <cp:revision>194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0460100</vt:r8>
  </property>
  <property fmtid="{D5CDD505-2E9C-101B-9397-08002B2CF9AE}" pid="3" name="_AuthorEmail">
    <vt:lpwstr>Barbara.Pfeifer@BenQ.com</vt:lpwstr>
  </property>
  <property fmtid="{D5CDD505-2E9C-101B-9397-08002B2CF9AE}" pid="4" name="_AuthorEmailDisplayName">
    <vt:lpwstr>Barbara Pfeifer</vt:lpwstr>
  </property>
  <property fmtid="{D5CDD505-2E9C-101B-9397-08002B2CF9AE}" pid="5" name="_EmailSubject">
    <vt:lpwstr> Primavera Worksplit</vt:lpwstr>
  </property>
</Properties>
</file>