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E01-22B0-4F62-B788-4371AA30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F41-13CF-4046-9348-2B4979F1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852-1BA7-43B0-BCC6-F85E26CA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841-D911-4A3C-B93C-B8A6F86B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D917F-8B45-4DA4-A3FF-1D853DC479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843E9-B53F-4EB8-B447-36E845EEAB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64D31-FFDC-47E6-A739-42E896E6DB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F0B4D-5403-4AED-8792-2FAB0DB429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DC243-20B9-4BA9-B025-1223D7B25A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82DC1-C266-4627-9220-7DF8C8E90E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2A879-FD17-4091-B454-ADF2022EA8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E78-771C-4132-83F4-179B84E9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FD99C-0234-4F49-A29C-599BF6FF55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5CBC3-1268-4EF3-BD4A-4586F89A24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212F0-3912-4B0F-A3EC-08E3F103B9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4751D-AE7B-4152-BC30-B94062526F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CF8D3-7353-4CA1-8C7D-6FEFB8BB31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92573-DA88-42A8-AA7B-9044FB26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293FC-569A-40D8-BA42-F0513EC6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76087-7398-4557-BC65-5F28EF36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6316A-493B-43A0-A4AE-CDF44628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EEFD3-9CA2-4849-877E-AE00C70A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FD9-17E4-4C2B-B43C-F74B2CB9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D2A3A-6949-4479-940E-A7DC419A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05696-02BF-4305-BF43-28A218F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00698-064E-4F3F-9803-0081E1B9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4FADF-6B90-4E39-936A-88CCBAB0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94697-F69B-4863-BA95-89DC23AA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18C48-0BED-4348-86E8-660DCD5B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80A83-B768-4639-82BB-35C2CF76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F39-65AC-45EA-AB4C-55522716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6C6-BE45-4B2D-86A7-717DA723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B5F-0788-486D-9713-31417465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C05-A0CF-4E8D-A29F-10911FE9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5C4-FA0B-4803-A6ED-0EFFB646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E1F-7E7B-488F-8867-6B44067E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35E7-F11B-45CC-98ED-5417C62BC10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39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0800" y="-33840"/>
            <a:ext cx="70102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C091AE-BBEC-4906-A0EA-C35500739477}" type="slidenum"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896760"/>
            <a:ext cx="7269120" cy="8424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25280" y="1657440"/>
            <a:ext cx="879336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1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2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3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4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5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6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9BA0-DEF9-4CE0-804E-8562B0703772}" type="slidenum"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enQ Confidential (20.03.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7504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latform and Product planning conten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文鼎中黑"/>
              </a:rPr>
              <a:t>SPC, Hoeckenr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文鼎中黑"/>
              </a:rPr>
              <a:t>03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4320" y="83664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4160" y="980640"/>
            <a:ext cx="835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Definition of a platform: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29588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Benefit</a:t>
            </a:r>
            <a:r>
              <a:rPr b="1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555920"/>
            <a:ext cx="8281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A platform is a framework where all products which are based on this framework can be derived from. It contains all basic functionality and all common features of the initial produ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[Remark: Features needed </a:t>
            </a:r>
            <a:r>
              <a:rPr b="0" lang="en-US" sz="18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for only one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product are not part of the platform. The individual features have to be accounted to the dedicated product projects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his is valid for all HW, ST, QA, SCM  and SW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MD is not part of the platform development. Mechanics have to be done within the product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97520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ommon platform components are developed only o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esting of platform features is done in only one proje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reation of synergies between the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enQ, 2006 05 03, Hoeckenrein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3933720"/>
            <a:ext cx="8280360" cy="158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: Common content shared by all projects on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HW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related re-usable HW components like batteries, displays (plan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        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under predevelopments) and  master-schematic, RF-layouts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W: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getting reference board running (device lay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application framework (user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Testing of platform framework and preparation of initial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51920"/>
            <a:ext cx="8368200" cy="6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Product and platform content </a:t>
            </a:r>
            <a:br>
              <a:rPr sz="2800"/>
            </a:b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Development</a:t>
            </a:r>
            <a:r>
              <a:rPr b="1" lang="zh-TW" sz="1600" spc="-1" strike="noStrike">
                <a:solidFill>
                  <a:srgbClr val="3a0e66"/>
                </a:solidFill>
                <a:latin typeface="Arial"/>
              </a:rPr>
              <a:t> with external platform suppliers (e.g. APOXI, QCT Brew)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9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5516640"/>
            <a:ext cx="8280360" cy="72072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suppl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ovides HW reference board and SW referenc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052640"/>
            <a:ext cx="5616720" cy="1944720"/>
          </a:xfrm>
          <a:prstGeom prst="rect">
            <a:avLst/>
          </a:prstGeom>
          <a:solidFill>
            <a:srgbClr val="800080">
              <a:alpha val="2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…..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1557360"/>
            <a:ext cx="5830920" cy="194472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060640"/>
            <a:ext cx="6337440" cy="187308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HW, SW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Integration of generic platform components, adap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and enhancement for special product needs</a:t>
            </a:r>
            <a:r>
              <a:rPr b="0" lang="de-DE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Certification and  product specific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D</a:t>
            </a: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Providing of housing and product specific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981000"/>
            <a:ext cx="683604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Hard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248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371628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557360"/>
            <a:ext cx="8424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action with platform supplier including setup of change request hand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platform schematic and baseband pin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documentation and testing templates (Circuit Description, Master Action Pla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every feature/component used in more than one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maintenance support until last product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mark: Development of batteries, displays and cameras planned under components/predevelop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4292640"/>
            <a:ext cx="8569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gration of platform and HW components into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product specific/unique components/features which are not covered by the   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and testing of the PCB(s) incl. equipped functions (e.g. RF, BB, B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of HW approvals and documentation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coustics, Antenna and EMC develop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mass production qu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oft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2181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711440"/>
            <a:ext cx="763416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ll activities for the deliveries of the supplier (basic package), provisioning of the platform frame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sion of features used in more than one product (including licens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integrity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nning support for all products based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General operator variant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865760"/>
            <a:ext cx="7993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Feature/component development used for only one dedicated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integration (incl. Build and Integration managemen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W product project l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ustom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ystem Test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700280"/>
            <a:ext cx="763416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OTs for new platform 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ing of platform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Providing test capabilities for new technologies (e.g. HSDPA) are handled within predevelopment projects, as they are platform 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292640"/>
            <a:ext cx="799308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Operator acceptance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pproval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ertification/Approval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fforts for project coordination, reporting, error track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CM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00280"/>
            <a:ext cx="76341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latform component (reuse &gt;=2, i.e. BB chipse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of test boards (breadboards etc.) in the prototype sho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general framework for production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StackUp issues are handled in the stack up te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292640"/>
            <a:ext cx="79930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roject specific  component (i.e. barometer chip or hous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ing, test concept, assembly concept, adapter built, production process qualification and verif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amp up, logistics and supplier quality assur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and maintenance after S4 milestone (currently not planned in Primaver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4320" y="765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Quality Assuranc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7160" y="83664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31417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268280"/>
            <a:ext cx="8785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porting work, product quality and process adherence support for components/sub-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and monitoring of Q-targets for suppliers and sub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upport of TAMs by audits and acceptance proced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ect prognosis, driving resolution of quality risks and non compliance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Management of 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807000"/>
            <a:ext cx="84247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ject attended quality assurance for each product from M0 to M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of Q-targets, crisis management, defect classification, return rate progno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lease of core-software and customization/vari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UAT (End User Acceptance Test); GCF-Field-T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ventive quality assurance (FMEA, Review, Audit, Release of QA Milestones,...) and product safety (Risk Potential Analysis, EN60950,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product quality (environmental testing, failure tracking, .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ans-Peter Hoeckenreiner</cp:lastModifiedBy>
  <dcterms:modified xsi:type="dcterms:W3CDTF">2006-05-03T09:46:06Z</dcterms:modified>
  <cp:revision>136</cp:revision>
  <dc:subject/>
  <dc:title>PowerPoint 簡報</dc:title>
</cp:coreProperties>
</file>