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10745788" cy="80391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2842920" y="533520"/>
            <a:ext cx="34621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move the slide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7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8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6A69-9AA9-49E4-9C27-F33A3767747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9DFE-3E44-4E62-A760-D3EA8FC6F5C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3512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2960" y="3257280"/>
            <a:ext cx="73180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6EF-4D37-4828-B4AA-5EEDBDBC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716-C9E9-431B-B1C1-4356A8F2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A33-BA6B-4A75-9CDF-DB200170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19E-86F0-486B-9265-3A666D20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D557-3140-41DB-95E0-774EF772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FD9A-EF41-4E85-BE7C-C4DE7DF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2510-0E01-4209-ADD7-00CDADBC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F553-81D6-434B-A17B-D5334914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8E0D-34B6-4BFB-9F01-147946B6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FF57-5BF2-41F3-A3C6-9BADD1E7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0E5D-0973-4F91-B0D1-6F3ADCB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30D-159E-41C9-A350-A37A8B9A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2296-3D1C-4AC7-A9D7-FCAFDC4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08A-4836-4FCE-91F5-B4083D4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B370-EF4D-4CB9-9D31-7007F213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35A5-88F3-402A-AC4F-1B5224C2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6C90-09D3-48D5-9DD1-A25626BD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646D-E5F0-4C96-BDA4-E5684E95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9BE6-A0DA-4984-8C43-70FD4694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2847-CB68-428B-85FC-757302F2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5A13-FAAA-4F16-B642-E4EDE169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F673-E19D-40C4-85CE-F2A42F9A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270-8477-4686-8BAC-977B083E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FE43-148D-41D8-8929-4E1A1845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0060-9C28-4245-B112-388482FD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7CDA-B497-4C5D-8EA2-361AF29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AF71-20C0-4029-9D59-C60467E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19E7A-188B-4273-8631-01E7CAF6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855EB-5912-4328-8B5B-768EBB90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D569B-E28F-47A3-B172-974D79DA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6197-904F-410E-AC74-BE6151B2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5D2D5-DBC0-4997-8314-9AD1723D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54A0E-FA0B-40FB-9B76-9F217F0E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EE3-79EF-4535-AA5A-8ACAF83F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D691F-32F7-4B19-B8A3-3F566784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DFF0D-B447-42AE-A2E4-9DB51ACF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276F-CE3B-4135-A6B7-FC551FB2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F8839-E2C7-4990-A4FE-8E76761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9614-722A-4D18-9842-0486AC7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AB70E-9A96-4568-9F89-8FFBF137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1E86-2742-4525-8339-550BB0EF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F76B-5DA6-4178-923D-86973428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4686-FA3C-48CB-B4B4-06BF88DF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DC4B0-2515-4511-8CEE-59568B47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AAB-BAC4-41F1-9E31-1FC2E74F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30750-6D13-415D-9A77-17EB716C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1FCB-DE04-458B-BAC8-D56BB7B4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2A56-C626-4802-B441-B9D4616F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0ECA-C589-4550-87D7-727D1CAF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06A78-B3FC-4537-80A7-9FD32386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5D48D-DBD7-4482-8FCA-35185A9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AE673-99C9-48D2-A4C1-BB2B9279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F8D17-E1C9-4DD6-B373-A633B4E7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B2E47-369A-4650-B5EB-C0C7D38E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1924-CB31-4B0D-8D98-473FBF1B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6040" y="714240"/>
            <a:ext cx="91314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A32-5928-4DDB-8A5F-3BA610D3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9340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981120" y="232200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0604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9340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981120" y="4841280"/>
            <a:ext cx="294012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01829-8080-4557-83E7-1FD57DF9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273-2B3F-4741-B7C1-CB5E034D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85320" y="484128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259-C320-47A6-B80B-8FD3AD2E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0604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85320" y="2322000"/>
            <a:ext cx="445608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06040" y="4841280"/>
            <a:ext cx="9131400" cy="230040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D2F-B99A-4CB4-9953-B1A2BA3D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A8CC4FC5-B2EF-42A5-82F0-267BDB466AF3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1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6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636B90F7-F1CD-4C84-93D1-B6535F3927AB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960" y="78026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/08/26)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02F0A4BE-E054-4391-ABA5-3893DF224322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682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682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F7DE23BA-0E91-48A5-A7F8-FEE7F88D93F3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8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6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6040" y="714240"/>
            <a:ext cx="9131400" cy="1339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US" sz="6300" spc="-1" strike="noStrike">
                <a:solidFill>
                  <a:srgbClr val="000066"/>
                </a:solidFill>
                <a:latin typeface="Minion"/>
              </a:rPr>
              <a:t>Click to edit the title text format</a:t>
            </a:r>
            <a:endParaRPr b="1" lang="en-US" sz="63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06040" y="2322000"/>
            <a:ext cx="9131400" cy="48229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rmAutofit/>
          </a:bodyPr>
          <a:p>
            <a:pPr marL="403200" indent="-403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Click to edit the outline text format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1" marL="871560" indent="-3351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con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2" marL="1341360" indent="-268200">
              <a:spcBef>
                <a:spcPts val="774"/>
              </a:spcBef>
              <a:buClr>
                <a:srgbClr val="000066"/>
              </a:buClr>
              <a:buFont typeface="Minion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Third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3" marL="1878120" indent="-268560">
              <a:spcBef>
                <a:spcPts val="774"/>
              </a:spcBef>
              <a:buClr>
                <a:srgbClr val="000066"/>
              </a:buClr>
              <a:buFont typeface="Minion"/>
              <a:buChar char="–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our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4" marL="2414520" indent="-280800">
              <a:spcBef>
                <a:spcPts val="774"/>
              </a:spcBef>
              <a:buClr>
                <a:srgbClr val="000066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Fif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5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ix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  <a:p>
            <a:pPr lvl="6" marL="2414520" indent="-280800">
              <a:spcBef>
                <a:spcPts val="774"/>
              </a:spcBef>
              <a:buClr>
                <a:srgbClr val="000000"/>
              </a:buClr>
              <a:buFont typeface="Minion"/>
              <a:buChar char="»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Minion"/>
              </a:rPr>
              <a:t>Seventh Outline Level</a:t>
            </a:r>
            <a:endParaRPr b="0" lang="en-US" sz="3100" spc="-1" strike="noStrike">
              <a:solidFill>
                <a:srgbClr val="000066"/>
              </a:solidFill>
              <a:latin typeface="Mini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0640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CN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nio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669840" y="7324200"/>
            <a:ext cx="340380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Minio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699320" y="7324200"/>
            <a:ext cx="2238480" cy="535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280" bIns="53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  <a:defRPr b="0" lang="zh-TW" sz="1600" spc="-1" strike="noStrike">
                <a:solidFill>
                  <a:srgbClr val="000000"/>
                </a:solidFill>
                <a:latin typeface="Minio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fld id="{444A8E8E-B352-4DEE-A225-F405370EBED5}" type="slidenum">
              <a:rPr b="0" lang="zh-TW" sz="1600" spc="-1" strike="noStrike">
                <a:solidFill>
                  <a:srgbClr val="000000"/>
                </a:solidFill>
                <a:latin typeface="Minio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360" y="7680240"/>
            <a:ext cx="506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zh-TW" sz="1100" spc="-1" strike="noStrike">
                <a:solidFill>
                  <a:srgbClr val="1e0a63"/>
                </a:solidFill>
                <a:latin typeface="Minion"/>
              </a:rPr>
              <a:t>BenQ 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Confidential (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2005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07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/</a:t>
            </a:r>
            <a:r>
              <a:rPr b="0" lang="en-US" sz="1100" spc="-1" strike="noStrike">
                <a:solidFill>
                  <a:srgbClr val="1e0a63"/>
                </a:solidFill>
                <a:latin typeface="Minion"/>
                <a:ea typeface="SimSun"/>
              </a:rPr>
              <a:t>19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) </a:t>
            </a:r>
            <a:r>
              <a:rPr b="0" lang="zh-TW" sz="1100" spc="-1" strike="noStrike">
                <a:solidFill>
                  <a:srgbClr val="1e0a63"/>
                </a:solidFill>
                <a:latin typeface="Symbol"/>
                <a:ea typeface="Symbol"/>
              </a:rPr>
              <a:t></a:t>
            </a:r>
            <a:r>
              <a:rPr b="0" lang="zh-TW" sz="1100" spc="-1" strike="noStrike">
                <a:solidFill>
                  <a:srgbClr val="1e0a63"/>
                </a:solidFill>
                <a:latin typeface="Minion"/>
                <a:ea typeface="SimSun"/>
              </a:rPr>
              <a:t>2005, BenQ Corpor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19200" y="56340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inion Bold"/>
              </a:rPr>
              <a:t>Feature Commitment vs. Project Dur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50840" y="6035760"/>
            <a:ext cx="849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7200" y="214776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71920" y="214776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540640" y="2147400"/>
            <a:ext cx="0" cy="41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11200" y="3803760"/>
            <a:ext cx="7416720" cy="1152360"/>
          </a:xfrm>
          <a:custGeom>
            <a:avLst/>
            <a:gdLst/>
            <a:ahLst/>
            <a:rect l="l" t="t" r="r" b="b"/>
            <a:pathLst>
              <a:path w="4672" h="726">
                <a:moveTo>
                  <a:pt x="0" y="726"/>
                </a:moveTo>
                <a:cubicBezTo>
                  <a:pt x="268" y="605"/>
                  <a:pt x="537" y="484"/>
                  <a:pt x="1316" y="363"/>
                </a:cubicBezTo>
                <a:cubicBezTo>
                  <a:pt x="2095" y="242"/>
                  <a:pt x="4135" y="45"/>
                  <a:pt x="467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84280" y="2724120"/>
            <a:ext cx="7343640" cy="1150920"/>
          </a:xfrm>
          <a:custGeom>
            <a:avLst/>
            <a:gdLst/>
            <a:ahLst/>
            <a:rect l="l" t="t" r="r" b="b"/>
            <a:pathLst>
              <a:path w="4626" h="725">
                <a:moveTo>
                  <a:pt x="0" y="0"/>
                </a:moveTo>
                <a:cubicBezTo>
                  <a:pt x="272" y="98"/>
                  <a:pt x="544" y="196"/>
                  <a:pt x="1315" y="317"/>
                </a:cubicBezTo>
                <a:cubicBezTo>
                  <a:pt x="2086" y="438"/>
                  <a:pt x="4089" y="642"/>
                  <a:pt x="4626" y="72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68120" y="6297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367560" y="250668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ull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3920" y="63244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84280" y="2651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7560" y="4235400"/>
            <a:ext cx="288720" cy="2890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96280" y="3659040"/>
            <a:ext cx="289080" cy="289080"/>
          </a:xfrm>
          <a:custGeom>
            <a:avLst/>
            <a:gdLst>
              <a:gd name="textAreaLeft" fmla="*/ 119160 w 289080"/>
              <a:gd name="textAreaRight" fmla="*/ 169920 w 2890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34240" y="45244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in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3320" y="308304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@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34240" y="2506680"/>
            <a:ext cx="22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Featur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7560" y="3083040"/>
            <a:ext cx="288720" cy="28872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79680" y="632448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87920" y="437976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7920" y="4091040"/>
            <a:ext cx="4968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67560" y="40910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3400" y="452448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Minion Bold"/>
              </a:rPr>
              <a:t>Chang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02:52:45Z</dcterms:created>
  <dc:creator>Apple Zhou</dc:creator>
  <dc:description/>
  <dc:language>en-US</dc:language>
  <cp:lastModifiedBy>Holger Asmussen</cp:lastModifiedBy>
  <dcterms:modified xsi:type="dcterms:W3CDTF">2006-02-01T20:22:31Z</dcterms:modified>
  <cp:revision>1045</cp:revision>
  <dc:subject/>
  <dc:title>PowerPoint 簡報</dc:title>
</cp:coreProperties>
</file>