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10745788" cy="80391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2842920" y="533520"/>
            <a:ext cx="34621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move the slide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7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8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0323-036F-4D20-BFF2-DF0DA206728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1C2E-6038-4A3D-9F77-67699D440BE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3512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2960" y="3257280"/>
            <a:ext cx="73180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F3E-197C-48DB-8925-B85BB3E5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11F-B2A9-4D8F-AA6E-13915B2F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42D-5E92-48EE-8EA0-359E69D3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278-C4A0-4E2A-B10B-7A744A37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3510-E9BD-4D5E-8A3C-420F613C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ADC5-74EE-4C90-84E1-2B506C7A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53B6-4CEB-4F73-8D52-16CEC8B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5B14-9754-44CF-8720-A0532F5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D2D4-5B27-4643-A669-4F851E08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2E57-8E04-4E64-AFF0-917FB6A8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6E0-721E-42B2-85C1-82E88409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F11-2E70-4281-B5A9-FF263801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5A1E-27DE-43A2-8F5E-43449D62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A200-D6FF-4107-94A5-693E1D5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F359-5D94-4424-B18E-3A01BEC0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69B7-FC8F-41AD-8A32-9EB3ABC3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5CD9-7E37-4FE5-9422-B513295B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03AD-E205-4ACA-9C73-144FB8F6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1D73-060F-4A23-945A-194BB2B3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A2624-5B51-4C79-8B10-3AAB2C82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AF3D-0477-473D-8803-0CCFCCC2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9E71-CEC5-4FF3-BA5C-596118E1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158-5F0C-4415-9A86-E8FFBE46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86E5-CD65-4003-BAA4-366C3361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CCD4-E8EC-482E-AA66-461017BC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74DE-A7C3-4DE6-AF04-8898E96B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2E90-2C5B-412D-A49C-76C2EBCC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21DD-EA9A-4D11-91AB-83DB51BA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D0AC-079C-4DC9-BB6C-6D55CFD5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24E5-78EE-41DB-A747-D7A9EB18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A1F3A-EFEF-46CE-A3A6-0DAF022F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9037-34D6-4D3B-AC41-9BB1E464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C4ED-1512-4AE2-B828-6BFF2E34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544-1C63-4449-893B-17355ED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7C25-43D4-4F19-A6EC-69EE4E65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8FE9-6238-48E6-A832-808EFD88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1ABDC-E2E4-45C2-B9AB-1E3BEF44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06F6-8CC8-4EE8-ADEC-056B800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BAD6-DE33-45C0-A7FE-26DE0D70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F2EC-03F8-4A4C-804C-934F42D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56CA-58EC-4CDE-926A-16E9CE84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D69EE-FF31-4B54-85C8-27623BA7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E3E7-0655-4F44-B236-C9A7B3E5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734F-5484-4BAA-AE90-C44FC550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0AD-1DE2-4F51-9326-91740958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D63C7-F38C-4B4E-8D68-F4A4EEA1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C5268-9323-47FF-9A21-DE26C00F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557D-287F-491C-9E5F-E4AAFFED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2EEB-1DFE-4332-A3FB-501B9C07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4744E-98AD-47CA-A854-7F9EE260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17A1D-A508-4702-AC2B-CF149C5C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9F27B-BA7E-4ECB-B9DF-44D4D71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0497D-939B-493F-89CF-E6FCFA4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75AAE-7B2B-4646-BE18-3EBAAABC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3A6D7-9621-4317-BDA5-4CD07940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F21-9442-4E0C-A6DE-D5E32E7B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A85A-E6D1-4C38-BCB5-17BFAE18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8B5-6143-4293-A9E5-4BFB13D1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70B-B9FF-4B41-BB7C-6B28080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D3E-70FC-429B-8A05-81E0BC4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4998F88E-B1B7-44DE-B56A-DF8B731EE782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1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6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74C7EA74-E29D-45FC-A7D3-7E5E4E35FAEF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960" y="78026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/08/26)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0140775D-F740-4530-90AE-F025956E8833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1B642E81-5E81-4544-92D6-0C035D309523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8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808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F8CBCAC7-0660-4B75-B020-F7CB295F704B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9200" y="56340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nion Bold"/>
              </a:rPr>
              <a:t>Feature Commitment vs. Project Dur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50840" y="6035760"/>
            <a:ext cx="849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7200" y="214776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71920" y="214776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540640" y="214740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11200" y="3803760"/>
            <a:ext cx="7416720" cy="1152360"/>
          </a:xfrm>
          <a:custGeom>
            <a:avLst/>
            <a:gdLst/>
            <a:ahLst/>
            <a:rect l="l" t="t" r="r" b="b"/>
            <a:pathLst>
              <a:path w="4672" h="726">
                <a:moveTo>
                  <a:pt x="0" y="726"/>
                </a:moveTo>
                <a:cubicBezTo>
                  <a:pt x="268" y="605"/>
                  <a:pt x="537" y="484"/>
                  <a:pt x="1316" y="363"/>
                </a:cubicBezTo>
                <a:cubicBezTo>
                  <a:pt x="2095" y="242"/>
                  <a:pt x="4135" y="45"/>
                  <a:pt x="467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84280" y="2724120"/>
            <a:ext cx="7343640" cy="1150920"/>
          </a:xfrm>
          <a:custGeom>
            <a:avLst/>
            <a:gdLst/>
            <a:ahLst/>
            <a:rect l="l" t="t" r="r" b="b"/>
            <a:pathLst>
              <a:path w="4626" h="725">
                <a:moveTo>
                  <a:pt x="0" y="0"/>
                </a:moveTo>
                <a:cubicBezTo>
                  <a:pt x="272" y="98"/>
                  <a:pt x="544" y="196"/>
                  <a:pt x="1315" y="317"/>
                </a:cubicBezTo>
                <a:cubicBezTo>
                  <a:pt x="2086" y="438"/>
                  <a:pt x="4089" y="642"/>
                  <a:pt x="4626" y="72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68120" y="6297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67560" y="250668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ull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3920" y="6324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84280" y="2651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7560" y="4235400"/>
            <a:ext cx="288720" cy="2890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96280" y="3659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34240" y="45244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in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3320" y="308304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@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34240" y="25066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7560" y="3083040"/>
            <a:ext cx="288720" cy="28872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79680" y="632448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7920" y="437976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7920" y="409104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67560" y="40910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3400" y="452448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Chang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02:52:45Z</dcterms:created>
  <dc:creator>Apple Zhou</dc:creator>
  <dc:description/>
  <dc:language>en-US</dc:language>
  <cp:lastModifiedBy>Holger Asmussen</cp:lastModifiedBy>
  <dcterms:modified xsi:type="dcterms:W3CDTF">2006-02-01T20:22:31Z</dcterms:modified>
  <cp:revision>1045</cp:revision>
  <dc:subject/>
  <dc:title>PowerPoint 簡報</dc:title>
</cp:coreProperties>
</file>