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D12-EEF3-4DB9-8B88-A6217729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7E8-0961-4692-A159-C429AC64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0058-0F04-4224-8D5A-D63CCF69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5FF-DE37-4AD9-97A0-27A228B6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6752-89F6-4CED-B6E9-CC16BE01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74F8-371D-4FA9-96D8-EAECDEDE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92B-E067-4351-AEF9-2C76D8B3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6F9-B281-458B-9463-5D793457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193-15CA-4274-86F6-0D68CBB7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806-8364-47F5-80E4-07145878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AEA-4643-4A41-B578-F21D93DD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666-5DAE-4803-9530-277ED64B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13200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A78A-AF2E-4F4B-AE28-738ED5586821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Worksplit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058760"/>
            <a:ext cx="5760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responsibility for Platform (HW/SW) and Product-Project PV-Plans (schedule &amp; budget), incl. planning coordinato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Overall template responsibility (“what” and “how”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questing new projects in PV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viding content and milestone dat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Reporting &amp; controlling (e.g. milestones and deviations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158040" indent="-158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riggering of planning / Re-plann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698400"/>
            <a:ext cx="5924520" cy="208764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400" y="6732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PM organization -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156120"/>
            <a:ext cx="597672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67040" indent="-16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ork package planning (components, predev., part projects)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according product class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ource planning and controlling 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by part project leader, aligned with line manager</a:t>
            </a:r>
            <a:br>
              <a:rPr sz="1600"/>
            </a:b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(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: pre-M0/after-S4: only accounting, no work package pla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art project reporting &amp;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Line specific templates according product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Weekly update of schedule and effort spent b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7040" indent="-1670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Responsible for alignment of planned effort in PV with P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859120"/>
            <a:ext cx="5924520" cy="2376360"/>
          </a:xfrm>
          <a:prstGeom prst="rect">
            <a:avLst/>
          </a:prstGeom>
          <a:noFill/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0240" y="27860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organization -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9080" y="260280"/>
            <a:ext cx="2881080" cy="5400720"/>
          </a:xfrm>
          <a:custGeom>
            <a:avLst/>
            <a:gdLst/>
            <a:ahLst/>
            <a:rect l="l" t="t" r="r" b="b"/>
            <a:pathLst>
              <a:path w="1815" h="3357">
                <a:moveTo>
                  <a:pt x="0" y="0"/>
                </a:moveTo>
                <a:lnTo>
                  <a:pt x="1815" y="0"/>
                </a:lnTo>
                <a:lnTo>
                  <a:pt x="1815" y="3357"/>
                </a:lnTo>
                <a:lnTo>
                  <a:pt x="0" y="3357"/>
                </a:lnTo>
                <a:lnTo>
                  <a:pt x="0" y="3130"/>
                </a:lnTo>
                <a:lnTo>
                  <a:pt x="318" y="3130"/>
                </a:lnTo>
                <a:lnTo>
                  <a:pt x="318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44640" y="8380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&amp;D ES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494000"/>
            <a:ext cx="20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oncepts &amp; 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ool impro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hour reporting (S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800" indent="-896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Interface P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Provide reporting &amp; controlling „toolbox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Hotline &amp; 2nd level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raining &amp; co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Administration &amp; 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734080"/>
            <a:ext cx="80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No booking of normal PV project planning on the Primavera tool account. 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(Planning support is not an extraordinary task of the lines or TPM and should be part of the normal project efforts/pla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6280" y="5450040"/>
            <a:ext cx="27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a0e66"/>
                </a:solidFill>
                <a:latin typeface="Minion"/>
                <a:ea typeface="文鼎中黑"/>
              </a:rPr>
              <a:t>Booking guideli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346-4BA7-4323-A688-BD0EABF2E3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70102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Worksplit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8000" y="549360"/>
          <a:ext cx="8928000" cy="5664240"/>
        </p:xfrm>
        <a:graphic>
          <a:graphicData uri="http://schemas.openxmlformats.org/drawingml/2006/table">
            <a:tbl>
              <a:tblPr/>
              <a:tblGrid>
                <a:gridCol w="1982880"/>
                <a:gridCol w="825480"/>
                <a:gridCol w="703080"/>
                <a:gridCol w="1528920"/>
                <a:gridCol w="1152360"/>
                <a:gridCol w="863640"/>
                <a:gridCol w="647640"/>
                <a:gridCol w="122400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ponsibility f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PM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br>
                        <a:rPr sz="1600"/>
                      </a:b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+</a:t>
                      </a: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L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D </a:t>
                      </a: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V-plans for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tform / Produ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 Plat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 / coa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Overall  w</a:t>
                      </a: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at +h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 , Platform: </a:t>
                      </a: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alization incl. lin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; </a:t>
                      </a:r>
                      <a:br>
                        <a:rPr sz="1200"/>
                      </a:br>
                      <a:r>
                        <a:rPr b="0" lang="en-US" sz="11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alizeMasterpl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dministr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quest new PV projec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aintain resource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vide 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mp., pre-de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l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ent &amp; milest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-pl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ig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PV-PM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with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-plan &amp; al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cept/method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ilestones and devi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Weekly: schedule &amp; eff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U2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ssigned tas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porting toolbox;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o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Milest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esources (effort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3a0e66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PV-PM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ign with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ne/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eneral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ontrolling toolbox;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Tooling PV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+ Interf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Hotline/Con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179280" y="6381720"/>
            <a:ext cx="43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rojects*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 :   Part Projects, Components, Pre-develop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0B7-1BE4-4A89-89DC-5C2327DD7D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feiferB</cp:lastModifiedBy>
  <dcterms:modified xsi:type="dcterms:W3CDTF">2006-03-16T14:01:51Z</dcterms:modified>
  <cp:revision>194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00460100</vt:r8>
  </property>
  <property fmtid="{D5CDD505-2E9C-101B-9397-08002B2CF9AE}" pid="3" name="_AuthorEmail">
    <vt:lpwstr>Barbara.Pfeifer@BenQ.com</vt:lpwstr>
  </property>
  <property fmtid="{D5CDD505-2E9C-101B-9397-08002B2CF9AE}" pid="4" name="_AuthorEmailDisplayName">
    <vt:lpwstr>Barbara Pfeifer</vt:lpwstr>
  </property>
  <property fmtid="{D5CDD505-2E9C-101B-9397-08002B2CF9AE}" pid="5" name="_EmailSubject">
    <vt:lpwstr> Primavera Worksplit</vt:lpwstr>
  </property>
</Properties>
</file>