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B86-1B11-490A-8D7C-CA34913D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342-D1B0-4000-94A7-01161342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604-4C8B-4D09-97B8-ECFB6847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5E6-95C9-4C69-B6A8-A6427476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77831-3C48-4BA7-9D84-2F7F2BB575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A49FB-E8A0-4F40-812B-925098E38E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5F989-37F9-424D-9BDE-D999A3B5DF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2BEEF-91FC-47E7-82C6-A5D462FAE5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B2B7C-CFDF-49B8-9082-3815BD3496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685A5-1BE7-4146-9D95-86D6DF6E72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6111D-6A7D-4A56-8A2E-C16C786154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1C0-DCA2-452D-8191-AE83DB36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8B36E-6758-4DD6-B525-7962E80634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DEAAF-C1A4-4774-8E72-FA3B737A86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8F985-85A7-4F14-AC85-B38EA7AFAD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CBD90-8A6E-4BDA-8036-086F181714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FD06C-1B6E-463D-BABC-2098520E33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17AF3-6B9A-4F43-8940-A6DDF601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677DF-D4B9-46A3-A41B-18451D0D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EF4DB-8AFB-48D6-B7B2-3BF4F449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00476-E516-4B66-875E-575C703F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08910-5D07-415C-A9C5-FA39AD4E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EB9-4354-4642-97C2-C9E200A4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141A4-8860-45D2-86AF-65D40059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43352-B4AA-4610-BED5-15DA0BE7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E7AF6-EA89-4BF4-BA43-FEF591C8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072A6-BEAA-42FD-AB42-20EBD1D1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E7FB6-4D9C-4F38-A2C7-BEC3F089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503F2-09B5-4F36-8A53-FF1433CF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24D11-B3BF-42AE-B918-4F01A043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CB50-8A52-4662-851E-4A75AC56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01C-4A4C-4B08-A376-EDEC939B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223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D5F-B89A-4BA4-84C1-67BEAA4A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DF6-B75A-43B2-8D35-FF4887A9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9D3-7DF9-446F-8BD8-04D9D864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E64-5B2C-4DC8-93AF-ADECE761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B182-569E-4351-8B1C-E6500496A98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39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0800" y="-33840"/>
            <a:ext cx="70102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BD4F2A-8659-43D2-9F07-E6FBF7A6A179}" type="slidenum">
              <a:rPr b="0" lang="en-US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BenQ Confidential (2006/05/0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Arial Unicode MS"/>
              </a:rPr>
              <a:t>2005, Hoeckenreiner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4760" y="896760"/>
            <a:ext cx="7269120" cy="84240"/>
          </a:xfrm>
          <a:prstGeom prst="rect">
            <a:avLst/>
          </a:prstGeom>
          <a:solidFill>
            <a:srgbClr val="cf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25280" y="1657440"/>
            <a:ext cx="879336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1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2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3" marL="184320" indent="-184320">
              <a:spcBef>
                <a:spcPts val="451"/>
              </a:spcBef>
              <a:buClr>
                <a:srgbClr val="3a0e66"/>
              </a:buClr>
              <a:buFont typeface="Wingdings" charset="2"/>
              <a:buChar char="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4" marL="184320" indent="-184320">
              <a:spcBef>
                <a:spcPts val="45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5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  <a:p>
            <a:pPr lvl="6" marL="184320" indent="-18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1AA9-426C-4554-B7E5-313B6C90F971}" type="slidenum">
              <a:rPr b="0" lang="en-US" sz="1400" spc="-1" strike="noStrike">
                <a:solidFill>
                  <a:srgbClr val="000066"/>
                </a:solidFill>
                <a:latin typeface="Arial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BenQ Confidential (20.03.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7504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latform and Product planning content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文鼎中黑"/>
              </a:rPr>
              <a:t>SPC, Hoeckenr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文鼎中黑"/>
              </a:rPr>
              <a:t>03.05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4320" y="83664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4160" y="980640"/>
            <a:ext cx="835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4320"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</a:rPr>
              <a:t>Definition of a platform:</a:t>
            </a:r>
            <a:endParaRPr b="0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295880"/>
            <a:ext cx="654840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Benefit</a:t>
            </a:r>
            <a:r>
              <a:rPr b="1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555920"/>
            <a:ext cx="8281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A platform is a framework where all products which are based on this framework can be derived from. It contains all basic functionality and all common features of the initial produ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[Remark: Features needed </a:t>
            </a:r>
            <a:r>
              <a:rPr b="0" lang="en-US" sz="18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for only one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product are not part of the platform. The individual features have to be accounted to the dedicated product projects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his is valid for all HW, ST, QA, SCM  and SW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MD is not part of the platform development. Mechanics have to be done within the product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97520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ommon platform components are developed only on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Testing of platform features is done in only one projec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Creation of synergies between the pro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BenQ, 2006 05 03, Hoeckenrein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3933720"/>
            <a:ext cx="8280360" cy="158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: Common content shared by all projects on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HW: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related re-usable HW components like batteries, displays (plan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        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under predevelopments) and  master-schematic, RF-layouts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W:  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getting reference board running (device lay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providing application framework (user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-Testing of platform framework and preparation of initial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0880" y="151920"/>
            <a:ext cx="8368200" cy="6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Product and platform content </a:t>
            </a:r>
            <a:br>
              <a:rPr sz="2800"/>
            </a:b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Development</a:t>
            </a:r>
            <a:r>
              <a:rPr b="1" lang="zh-TW" sz="1600" spc="-1" strike="noStrike">
                <a:solidFill>
                  <a:srgbClr val="3a0e66"/>
                </a:solidFill>
                <a:latin typeface="Arial"/>
              </a:rPr>
              <a:t> with external platform suppliers (e.g. APOXI, QCT Brew)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9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5516640"/>
            <a:ext cx="8280360" cy="72072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suppl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rovides HW reference board and SW referenc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1052640"/>
            <a:ext cx="5616720" cy="1944720"/>
          </a:xfrm>
          <a:prstGeom prst="rect">
            <a:avLst/>
          </a:prstGeom>
          <a:solidFill>
            <a:srgbClr val="800080">
              <a:alpha val="2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…..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65240" y="3933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1557360"/>
            <a:ext cx="5830920" cy="194472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060640"/>
            <a:ext cx="6337440" cy="1873080"/>
          </a:xfrm>
          <a:prstGeom prst="rect">
            <a:avLst/>
          </a:prstGeom>
          <a:solidFill>
            <a:srgbClr val="8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Minion"/>
                <a:ea typeface="文鼎中黑"/>
              </a:rPr>
              <a:t>Produc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HW, SW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Integration of generic platform components, adap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and enhancement for special product needs</a:t>
            </a:r>
            <a:r>
              <a:rPr b="0" lang="de-DE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T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Certification and  product specific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D</a:t>
            </a:r>
            <a:r>
              <a:rPr b="1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Providing of housing and product specific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280" y="981000"/>
            <a:ext cx="683604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Hard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248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371628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557360"/>
            <a:ext cx="8424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action with platform supplier including setup of change request hand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platform schematic and baseband pin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documentation and testing templates (Circuit Description, Master Action Pla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every feature/component used in more than one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maintenance support until last product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mark: Development of batteries, displays and cameras planned under components/predevelop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4292640"/>
            <a:ext cx="8569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tegration of platform and HW components into produ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of product specific/unique components/features which are not covered by the   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velopment and testing of the PCB(s) incl. equipped functions (e.g. RF, BB, B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of HW approvals and documentation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coustics, Antenna and EMC develop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92160">
              <a:lnSpc>
                <a:spcPct val="8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mass production qu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oftwar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42181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711440"/>
            <a:ext cx="763416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ll activities for the deliveries of the supplier (basic package), provisioning of the platform framew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sion of features used in more than one product (including licens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tform integrity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lanning support for all products based on this plat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General operator variant sup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865760"/>
            <a:ext cx="7993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Feature/component development used for only one dedicated pro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integration (incl. Build and Integration managemen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W product project l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ustomiz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ystem Test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700280"/>
            <a:ext cx="763416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OTs for new platform 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ing of platform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Providing test capabilities for new technologies (e.g. HSDPA) are handled within predevelopment projects, as they are platform 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4292640"/>
            <a:ext cx="7993080" cy="22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Operator acceptance te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pprovals (R&amp;TTE, FCC, GCF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paration and test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ertification/Approval of product specific applications/technolog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fforts for project coordination, reporting, error track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4320" y="981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SCM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7160" y="105228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64500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700280"/>
            <a:ext cx="76341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latform component (reuse &gt;=2, i.e. BB chipset etc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of test boards (breadboards etc.) in the prototype sho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viding general framework for production te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Arial"/>
                <a:ea typeface="Arial Unicode MS"/>
              </a:rPr>
              <a:t>Remark: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StackUp issues are handled in the stack up te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4292640"/>
            <a:ext cx="79930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Qualification of suppliers of project specific  component (i.e. barometer chip or housi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ing, test concept, assembly concept, adapter built, production process qualification and verif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amp up, logistics and supplier quality assur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ion and maintenance after S4 milestone (currently not planned in Primaver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4320" y="765000"/>
            <a:ext cx="683568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3280" y="144000"/>
            <a:ext cx="70106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nion"/>
              </a:rPr>
              <a:t>Quality Assurance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7160" y="836640"/>
            <a:ext cx="59101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ontent of platform developmen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3141720"/>
            <a:ext cx="6840720" cy="57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ontent of product project development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  <a:ea typeface="Arial Unicode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268280"/>
            <a:ext cx="87850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porting work, product quality and process adherence support for components/sub-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and monitoring of Q-targets for suppliers and sub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upport of TAMs by audits and acceptance proced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ect prognosis, driving resolution of quality risks and non compliance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Management of 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807000"/>
            <a:ext cx="842472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oject attended quality assurance for each product from M0 to M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Definition of Q-targets, crisis management, defect classification, return rate progno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Release of core-software and customization/vari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UAT (End User Acceptance Test); GCF-Field-Tr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Change Request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Preventive quality assurance (FMEA, Review, Audit, Release of QA Milestones,...) and product safety (Risk Potential Analysis, EN60950,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Ensure product quality (environmental testing, failure tracking, ...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Hans-Peter Hoeckenreiner</cp:lastModifiedBy>
  <dcterms:modified xsi:type="dcterms:W3CDTF">2006-05-03T09:46:06Z</dcterms:modified>
  <cp:revision>136</cp:revision>
  <dc:subject/>
  <dc:title>PowerPoint 簡報</dc:title>
</cp:coreProperties>
</file>