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EC0C-E297-4E69-AD1D-E590A3658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B21B-4BD2-4D24-BC01-F31841BF1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D86F-FC76-4BB3-AC2A-768C5FFB0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D581-1EF6-4127-9976-31D09EA96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DFB1-77D0-4264-8626-5C1DC4A75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A844-7E37-4370-AD87-DBDB5D5CA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BD8A-329F-47A0-BF3D-73465F4ED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763B-F918-4CEF-AD33-47F535A8F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1AED-DEAD-4FD4-BA73-3C35ADA78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713A-0EE6-4D08-A07F-D98F0578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6B29-BEAE-46CB-9E54-36DB45AE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8A0A-632C-490A-96AA-BC03930B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132000" y="6427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1E185-957F-47BE-9DDC-C50912BA10B0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Worksplit Primavera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24000" y="1058760"/>
            <a:ext cx="57607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158040" indent="-1580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Overall responsibility for Platform (HW/SW) and Product-Project PV-Plans (schedule &amp; budget), incl. planning coordinator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158040" indent="-1580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Overall template responsibility (“what” and “how”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158040" indent="-1580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Requesting new projects in PV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158040" indent="-1580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Providing content and milestone dat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158040" indent="-1580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Reporting &amp; controlling (e.g. milestones and deviations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158040" indent="-1580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Triggering of planning / Re-planning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698400"/>
            <a:ext cx="5924520" cy="2087640"/>
          </a:xfrm>
          <a:prstGeom prst="rect">
            <a:avLst/>
          </a:prstGeom>
          <a:noFill/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2400" y="67320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TPM organization - Task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3156120"/>
            <a:ext cx="5976720" cy="20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167040" indent="-1670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Work package planning (components, predev., part projects) </a:t>
            </a: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(according product class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67040" indent="-1670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Resource planning and controlling </a:t>
            </a:r>
            <a:br>
              <a:rPr sz="1600"/>
            </a:b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by part project leader, aligned with line manager</a:t>
            </a:r>
            <a:br>
              <a:rPr sz="1600"/>
            </a:b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(</a:t>
            </a: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roduct: pre-M0/after-S4: only accounting, no work package plannin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67040" indent="-1670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Part project reporting &amp; contro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67040" indent="-1670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Line specific templates according product 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67040" indent="-1670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Weekly update of schedule and effort spent by re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67040" indent="-1670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Responsible for alignment of planned effort in PV with PM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2859120"/>
            <a:ext cx="5924520" cy="2376360"/>
          </a:xfrm>
          <a:prstGeom prst="rect">
            <a:avLst/>
          </a:prstGeom>
          <a:noFill/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0240" y="2786040"/>
            <a:ext cx="384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R&amp;D organization - Task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869080" y="260280"/>
            <a:ext cx="2881080" cy="5400720"/>
          </a:xfrm>
          <a:custGeom>
            <a:avLst/>
            <a:gdLst/>
            <a:ahLst/>
            <a:rect l="l" t="t" r="r" b="b"/>
            <a:pathLst>
              <a:path w="1815" h="3357">
                <a:moveTo>
                  <a:pt x="0" y="0"/>
                </a:moveTo>
                <a:lnTo>
                  <a:pt x="1815" y="0"/>
                </a:lnTo>
                <a:lnTo>
                  <a:pt x="1815" y="3357"/>
                </a:lnTo>
                <a:lnTo>
                  <a:pt x="0" y="3357"/>
                </a:lnTo>
                <a:lnTo>
                  <a:pt x="0" y="3130"/>
                </a:lnTo>
                <a:lnTo>
                  <a:pt x="318" y="3130"/>
                </a:lnTo>
                <a:lnTo>
                  <a:pt x="318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noFill/>
          <a:ln w="255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344640" y="83808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R&amp;D ES task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372360" y="1494000"/>
            <a:ext cx="201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90360" indent="-9036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Concepts &amp; method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ool improv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71800" indent="-896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Interface hour reporting (SA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71800" indent="-896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Interface PM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Provide reporting &amp; controlling „toolbox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Hotline &amp; 2nd level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raining &amp; co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Administration &amp;  mainte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734080"/>
            <a:ext cx="807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No booking of normal PV project planning on the Primavera tool account. </a:t>
            </a: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(Planning support is not an extraordinary task of the lines or TPM and should be part of the normal project efforts/plannin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6280" y="5450040"/>
            <a:ext cx="27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a0e66"/>
                </a:solidFill>
                <a:latin typeface="Minion"/>
                <a:ea typeface="文鼎中黑"/>
              </a:rPr>
              <a:t>Booking guidelin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A4F9-1296-4D57-9C38-797F65E98B7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70102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Worksplit Primavera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08000" y="549360"/>
          <a:ext cx="8928000" cy="5664240"/>
        </p:xfrm>
        <a:graphic>
          <a:graphicData uri="http://schemas.openxmlformats.org/drawingml/2006/table">
            <a:tbl>
              <a:tblPr/>
              <a:tblGrid>
                <a:gridCol w="1982880"/>
                <a:gridCol w="825480"/>
                <a:gridCol w="703080"/>
                <a:gridCol w="1528920"/>
                <a:gridCol w="1152360"/>
                <a:gridCol w="863640"/>
                <a:gridCol w="647640"/>
                <a:gridCol w="1224000"/>
              </a:tblGrid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sponsibility fo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P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PM </a:t>
                      </a:r>
                      <a:r>
                        <a:rPr b="1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B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&amp;D </a:t>
                      </a:r>
                      <a:br>
                        <a:rPr sz="1600"/>
                      </a:br>
                      <a:r>
                        <a:rPr b="1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L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&amp;D </a:t>
                      </a:r>
                      <a:r>
                        <a:rPr b="1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L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+</a:t>
                      </a:r>
                      <a:r>
                        <a:rPr b="1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L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&amp;D </a:t>
                      </a:r>
                      <a:r>
                        <a:rPr b="1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sour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&amp;D </a:t>
                      </a:r>
                      <a:r>
                        <a:rPr b="1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B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&amp;D </a:t>
                      </a:r>
                      <a:r>
                        <a:rPr b="1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V-plans for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latform / Produ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duct Platfor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jects 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rain / coa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empla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Overall  w</a:t>
                      </a:r>
                      <a:r>
                        <a:rPr b="0" lang="en-US" sz="11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hat +ho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jects* , Platform: </a:t>
                      </a:r>
                      <a:r>
                        <a:rPr b="0" lang="en-US" sz="11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alization incl. link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oncept; </a:t>
                      </a:r>
                      <a:br>
                        <a:rPr sz="1200"/>
                      </a:br>
                      <a:r>
                        <a:rPr b="0" lang="en-US" sz="11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alizeMasterpl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Administra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quest new PV projec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aintain resource d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du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vide inf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omp., pre-de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Ad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lann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ontent &amp; milest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sour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-plan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du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rigg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Align PV-PM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jects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Align with L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-plan &amp; alig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General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oncept/method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rai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porting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ilestones and devi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Weekly: schedule &amp; eff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U2 Repor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du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jects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jects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W P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Assigned tas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General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porting toolbox; Trai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ontrol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ilest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sources (effort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du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du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Align PV-PM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Align with L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Line/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j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General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ontrolling toolbox; Trai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ooling PV </a:t>
                      </a: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+ Interfa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Hotline/Concep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179280" y="6381720"/>
            <a:ext cx="435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rojects*</a:t>
            </a: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:   Part Projects, Components, Pre-develop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25DF-6C76-45A4-A9A5-4EBCC00B9E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PfeiferB</cp:lastModifiedBy>
  <dcterms:modified xsi:type="dcterms:W3CDTF">2006-03-16T14:01:51Z</dcterms:modified>
  <cp:revision>194</cp:revision>
  <dc:subject/>
  <dc:title>PowerPoint 簡報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00460100</vt:r8>
  </property>
  <property fmtid="{D5CDD505-2E9C-101B-9397-08002B2CF9AE}" pid="3" name="_AuthorEmail">
    <vt:lpwstr>Barbara.Pfeifer@BenQ.com</vt:lpwstr>
  </property>
  <property fmtid="{D5CDD505-2E9C-101B-9397-08002B2CF9AE}" pid="4" name="_AuthorEmailDisplayName">
    <vt:lpwstr>Barbara Pfeifer</vt:lpwstr>
  </property>
  <property fmtid="{D5CDD505-2E9C-101B-9397-08002B2CF9AE}" pid="5" name="_EmailSubject">
    <vt:lpwstr> Primavera Worksplit</vt:lpwstr>
  </property>
</Properties>
</file>