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8C03-9B2A-4C57-930F-38DBC4B47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85B2-1139-4A0C-8470-2E1427DB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5E6D-E9A3-4030-8403-DC3838BDC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0586-2911-4D05-B181-5AEC88BEF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78A9E1-445F-44B6-965A-660ED498ED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0F3DC-88DF-4F0E-9EDE-EEEE8BF58B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2C750-698E-45C1-98E0-2AE0060B9D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F234BC-8B87-4A5F-AE0A-487C086B88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2C859-3312-4D02-A8B0-F8715ED01F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520" y="151920"/>
            <a:ext cx="8223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BCBEA-B75B-41A5-835B-2DEB1F9908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896C1-32F5-4DED-A4D9-13439ED94B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BA82-DAB5-40E6-B6B7-299653ED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B35142-9D80-43E0-A97E-E747D124C8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8BB9E-43F4-409E-B7EF-A676E6282B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3F3B1-883A-4DF4-BD13-62B2EF3986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23C90-9A4E-4203-9717-EC76457C8C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7CC20-BD89-4B77-8A22-AEA537D2F74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18CD7F-702C-4EDD-947D-AE0DF5F38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7C1EF2-6A35-40D7-BB1C-6DB3FD67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9E14A5-84B1-4636-80EF-8355DB34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7323D0-B5CE-4534-B6A2-F2A544E4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DD5246-3D44-401C-B07F-179C9F8A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0EE0-CE0B-4A3E-ACDA-DB755C67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80520" y="151920"/>
            <a:ext cx="8223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531C77-064D-4CC2-939C-5516424C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285B21-BA52-4CDA-8672-EE88ECB2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008E28-45E7-4FE5-8684-2BA199F0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C87F4C-9D16-4114-B39F-86AC9E4E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A70E76-0C52-45F1-93D6-7259F3BB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5F1D0E-FD2D-4DA3-9050-06BC7CF1D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ED67E4-1C42-4DE4-B740-B25AD460A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BCF1-AB46-4144-AE0F-0258C6D2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CFF6-B3F9-4E2E-BDBD-75993B6C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151920"/>
            <a:ext cx="8223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B7C3-A423-4609-97E1-B1B9F610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92C4-4A09-4A58-90AC-9C994641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F757-75D3-415A-AD59-9AADCC89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D9BF-4BEC-4C4F-8A81-95CA5F9D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1DF6-D233-45D8-9260-8901C990910F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5/03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Hoeckenreiner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-2397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0800" y="-33840"/>
            <a:ext cx="701028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4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66"/>
                </a:solidFill>
                <a:latin typeface="Arial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66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6AC24C8-2ED9-4727-A50A-F0F234ED11D1}" type="slidenum">
              <a:rPr b="0" lang="en-US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Arial Unicode MS"/>
              </a:rPr>
              <a:t>BenQ Confidential (2006/05/03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Arial Unicode MS"/>
              </a:rPr>
              <a:t>2005, Hoeckenreiner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44760" y="896760"/>
            <a:ext cx="7269120" cy="84240"/>
          </a:xfrm>
          <a:prstGeom prst="rect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125280" y="1657440"/>
            <a:ext cx="879336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4320" indent="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a0e66"/>
              </a:solidFill>
              <a:latin typeface="Arial"/>
            </a:endParaRPr>
          </a:p>
          <a:p>
            <a:pPr lvl="1" marL="184320" indent="-184320">
              <a:spcBef>
                <a:spcPts val="451"/>
              </a:spcBef>
              <a:buClr>
                <a:srgbClr val="3a0e66"/>
              </a:buClr>
              <a:buFont typeface="Wingdings" charset="2"/>
              <a:buChar char="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a0e66"/>
              </a:solidFill>
              <a:latin typeface="Arial"/>
            </a:endParaRPr>
          </a:p>
          <a:p>
            <a:pPr lvl="2" marL="184320" indent="-184320">
              <a:spcBef>
                <a:spcPts val="451"/>
              </a:spcBef>
              <a:buClr>
                <a:srgbClr val="3a0e66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a0e66"/>
              </a:solidFill>
              <a:latin typeface="Arial"/>
            </a:endParaRPr>
          </a:p>
          <a:p>
            <a:pPr lvl="3" marL="184320" indent="-184320">
              <a:spcBef>
                <a:spcPts val="451"/>
              </a:spcBef>
              <a:buClr>
                <a:srgbClr val="3a0e66"/>
              </a:buClr>
              <a:buFont typeface="Wingdings" charset="2"/>
              <a:buChar char="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a0e66"/>
              </a:solidFill>
              <a:latin typeface="Arial"/>
            </a:endParaRPr>
          </a:p>
          <a:p>
            <a:pPr lvl="4" marL="184320" indent="-184320">
              <a:spcBef>
                <a:spcPts val="451"/>
              </a:spcBef>
              <a:buClr>
                <a:srgbClr val="3a0e66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a0e66"/>
              </a:solidFill>
              <a:latin typeface="Arial"/>
            </a:endParaRPr>
          </a:p>
          <a:p>
            <a:pPr lvl="5" marL="184320" indent="-18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a0e66"/>
              </a:solidFill>
              <a:latin typeface="Arial"/>
            </a:endParaRPr>
          </a:p>
          <a:p>
            <a:pPr lvl="6" marL="184320" indent="-18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a0e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a0e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a0e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6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Arial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Arial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7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A47C-FDAC-4CEE-A7D3-D1ECF4AF5D5E}" type="slidenum">
              <a:rPr b="0" lang="en-US" sz="1400" spc="-1" strike="noStrike">
                <a:solidFill>
                  <a:srgbClr val="000066"/>
                </a:solidFill>
                <a:latin typeface="Arial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BenQ Confidential (20.03.2006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2361960"/>
            <a:ext cx="7504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Platform and Product planning content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0" name=""/>
          <p:cNvSpPr/>
          <p:nvPr/>
        </p:nvSpPr>
        <p:spPr>
          <a:xfrm>
            <a:off x="409680" y="4981680"/>
            <a:ext cx="4572000" cy="92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文鼎中黑"/>
              </a:rPr>
              <a:t>SPC, Hoeckenre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文鼎中黑"/>
              </a:rPr>
              <a:t>03.05.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84320" y="836640"/>
            <a:ext cx="6548400" cy="57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3280" y="144000"/>
            <a:ext cx="701064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4160" y="980640"/>
            <a:ext cx="83581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432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Arial"/>
              </a:rPr>
              <a:t>Definition of a platform:</a:t>
            </a:r>
            <a:endParaRPr b="0" lang="en-US" sz="1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4295880"/>
            <a:ext cx="6548400" cy="57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Benefit</a:t>
            </a:r>
            <a:r>
              <a:rPr b="1" lang="de-DE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1555920"/>
            <a:ext cx="82818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A platform is a framework where all products which are based on this framework can be derived from. It contains all basic functionality and all common features of the initial produc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[Remark: Features needed </a:t>
            </a:r>
            <a:r>
              <a:rPr b="0" lang="en-US" sz="1800" spc="-1" strike="noStrike" u="sng">
                <a:solidFill>
                  <a:srgbClr val="3a0e66"/>
                </a:solidFill>
                <a:uFillTx/>
                <a:latin typeface="Arial"/>
                <a:ea typeface="Arial Unicode MS"/>
              </a:rPr>
              <a:t>for only one</a:t>
            </a: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 product are not part of the platform. The individual features have to be accounted to the dedicated product projects.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This is valid for all HW, ST, QA, SCM  and SW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MD is not part of the platform development. Mechanics have to be done within the product projec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4975200"/>
            <a:ext cx="7416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Common platform components are developed only on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Testing of platform features is done in only one projec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Creation of synergies between the projec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BenQ, 2006 05 03, Hoeckenrein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39640" y="3933720"/>
            <a:ext cx="8280360" cy="1582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Platform: Common content shared by all projects on 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HW: 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-providing related re-usable HW components like batteries, displays (plann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                  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under predevelopments) and  master-schematic, RF-layouts et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W:   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-getting reference board running (device lay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-providing application framework (user interf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T: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-Testing of platform framework and preparation of initial cert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80880" y="151920"/>
            <a:ext cx="8368200" cy="6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Arial"/>
              </a:rPr>
              <a:t>Product and platform content </a:t>
            </a:r>
            <a:br>
              <a:rPr sz="2800"/>
            </a:br>
            <a:r>
              <a:rPr b="1" lang="en-US" sz="1600" spc="-1" strike="noStrike">
                <a:solidFill>
                  <a:srgbClr val="3a0e66"/>
                </a:solidFill>
                <a:latin typeface="Arial"/>
              </a:rPr>
              <a:t>Development</a:t>
            </a:r>
            <a:r>
              <a:rPr b="1" lang="zh-TW" sz="1600" spc="-1" strike="noStrike">
                <a:solidFill>
                  <a:srgbClr val="3a0e66"/>
                </a:solidFill>
                <a:latin typeface="Arial"/>
              </a:rPr>
              <a:t> with external platform suppliers (e.g. APOXI, QCT Brew)</a:t>
            </a:r>
            <a:endParaRPr b="1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9" name=""/>
          <p:cNvSpPr/>
          <p:nvPr/>
        </p:nvSpPr>
        <p:spPr>
          <a:xfrm>
            <a:off x="1965240" y="39337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5516640"/>
            <a:ext cx="8280360" cy="72072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Platform suppli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Provides HW reference board and SW reference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32000" y="1052640"/>
            <a:ext cx="5616720" cy="1944720"/>
          </a:xfrm>
          <a:prstGeom prst="rect">
            <a:avLst/>
          </a:prstGeom>
          <a:solidFill>
            <a:srgbClr val="800080">
              <a:alpha val="26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Minion"/>
                <a:ea typeface="文鼎中黑"/>
              </a:rPr>
              <a:t>Product …..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65240" y="39337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8000" y="1557360"/>
            <a:ext cx="5830920" cy="1944720"/>
          </a:xfrm>
          <a:prstGeom prst="rect">
            <a:avLst/>
          </a:prstGeom>
          <a:solidFill>
            <a:srgbClr val="800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Minion"/>
                <a:ea typeface="文鼎中黑"/>
              </a:rPr>
              <a:t>Product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060640"/>
            <a:ext cx="6337440" cy="1873080"/>
          </a:xfrm>
          <a:prstGeom prst="rect">
            <a:avLst/>
          </a:prstGeom>
          <a:solidFill>
            <a:srgbClr val="800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Minion"/>
                <a:ea typeface="文鼎中黑"/>
              </a:rPr>
              <a:t>Product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HW, SW:</a:t>
            </a:r>
            <a:r>
              <a:rPr b="0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Integration of generic platform components, adap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and enhancement for special product needs</a:t>
            </a:r>
            <a:r>
              <a:rPr b="0" lang="de-DE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ST:</a:t>
            </a:r>
            <a:r>
              <a:rPr b="0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Certification and  product specific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MD</a:t>
            </a:r>
            <a:r>
              <a:rPr b="1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Providing of housing and product specific pa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79280" y="981000"/>
            <a:ext cx="6836040" cy="57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3280" y="144000"/>
            <a:ext cx="701064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inion"/>
              </a:rPr>
              <a:t>Hardware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2480" y="1052280"/>
            <a:ext cx="591012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ontent of platform developmen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8" name=""/>
          <p:cNvSpPr/>
          <p:nvPr/>
        </p:nvSpPr>
        <p:spPr>
          <a:xfrm>
            <a:off x="179280" y="3716280"/>
            <a:ext cx="6840720" cy="57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Content of product project development</a:t>
            </a:r>
            <a:r>
              <a:rPr b="0" lang="de-DE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557360"/>
            <a:ext cx="842472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Interaction with platform supplier including setup of change request handl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oviding platform schematic and baseband pin li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oviding documentation and testing templates (Circuit Description, Master Action Pla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Development of every feature/component used in more than one produ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latform maintenance support until last product on this plat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Remark: Development of batteries, displays and cameras planned under components/predevelopm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0920" y="4292640"/>
            <a:ext cx="8569080" cy="20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92160">
              <a:lnSpc>
                <a:spcPct val="8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Integration of platform and HW components into produ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92160">
              <a:lnSpc>
                <a:spcPct val="8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Development of product specific/unique components/features which are not covered by the    plat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92160">
              <a:lnSpc>
                <a:spcPct val="8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Development and testing of the PCB(s) incl. equipped functions (e.g. RF, BB, BT etc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92160">
              <a:lnSpc>
                <a:spcPct val="8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eparation of HW approvals and documentations (R&amp;TTE, FCC, GCF etc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92160">
              <a:lnSpc>
                <a:spcPct val="8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Acoustics, Antenna and EMC develop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92160">
              <a:lnSpc>
                <a:spcPct val="8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Ensure mass production qu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4320" y="981000"/>
            <a:ext cx="6835680" cy="57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3280" y="144000"/>
            <a:ext cx="701064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inion"/>
              </a:rPr>
              <a:t>Software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17160" y="1052280"/>
            <a:ext cx="591012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ontent of platform developmen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4" name=""/>
          <p:cNvSpPr/>
          <p:nvPr/>
        </p:nvSpPr>
        <p:spPr>
          <a:xfrm>
            <a:off x="179280" y="4218120"/>
            <a:ext cx="6840720" cy="57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Content of product project development</a:t>
            </a: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1711440"/>
            <a:ext cx="7634160" cy="20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All activities for the deliveries of the supplier (basic package), provisioning of the platform framewor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ovision of features used in more than one product (including license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latform integrity suppo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lanning support for all products based on this plat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General operator variant suppo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4865760"/>
            <a:ext cx="799308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Feature/component development used for only one dedicated proje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oduct integration (incl. Build and Integration management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SW product project le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Customiz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84320" y="981000"/>
            <a:ext cx="6835680" cy="57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3280" y="144000"/>
            <a:ext cx="701064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inion"/>
              </a:rPr>
              <a:t>System Test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17160" y="1052280"/>
            <a:ext cx="591012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ontent of platform developmen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3645000"/>
            <a:ext cx="6840720" cy="57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Content of product project development</a:t>
            </a: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1700280"/>
            <a:ext cx="7634160" cy="17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IOTs for new platform technolog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eparation and testing of platform applications/technolog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Arial"/>
                <a:ea typeface="Arial Unicode MS"/>
              </a:rPr>
              <a:t>Remark: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Providing test capabilities for new technologies (e.g. HSDPA) are handled within predevelopment projects, as they are platform independ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4292640"/>
            <a:ext cx="7993080" cy="22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Operator acceptance tes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Approvals (R&amp;TTE, FCC, GCF etc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eparation and test of product specific applications/technolog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Certification/Approval of product specific applications/technolog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Efforts for project coordination, reporting, error track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84320" y="981000"/>
            <a:ext cx="6835680" cy="57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33280" y="144000"/>
            <a:ext cx="701064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inion"/>
              </a:rPr>
              <a:t>SCM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17160" y="1052280"/>
            <a:ext cx="591012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ontent of platform developmen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6" name=""/>
          <p:cNvSpPr/>
          <p:nvPr/>
        </p:nvSpPr>
        <p:spPr>
          <a:xfrm>
            <a:off x="179280" y="3645000"/>
            <a:ext cx="6840720" cy="57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Content of product project development</a:t>
            </a: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0920" y="1700280"/>
            <a:ext cx="763416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Qualification of suppliers of platform component (reuse &gt;=2, i.e. BB chipset etc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oduction of test boards (breadboards etc.) in the prototype sho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oviding general framework for production tes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Arial"/>
                <a:ea typeface="Arial Unicode MS"/>
              </a:rPr>
              <a:t>Remark: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StackUp issues are handled in the stack up tea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4292640"/>
            <a:ext cx="799308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Qualification of suppliers of project specific  component (i.e. barometer chip or housing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ototyping, test concept, assembly concept, adapter built, production process qualification and verific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Ramp up, logistics and supplier quality assur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oduction and maintenance after S4 milestone (currently not planned in Primavera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84320" y="765000"/>
            <a:ext cx="6835680" cy="57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33280" y="144000"/>
            <a:ext cx="701064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inion"/>
              </a:rPr>
              <a:t>Quality Assurance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17160" y="836640"/>
            <a:ext cx="591012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ontent of platform developmen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2" name=""/>
          <p:cNvSpPr/>
          <p:nvPr/>
        </p:nvSpPr>
        <p:spPr>
          <a:xfrm>
            <a:off x="179280" y="3141720"/>
            <a:ext cx="6840720" cy="57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Content of product project development</a:t>
            </a: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1268280"/>
            <a:ext cx="878508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Reporting work, product quality and process adherence support for components/sub-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Definition and monitoring of Q-targets for suppliers and sub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Support of TAMs by audits and acceptance procedur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Defect prognosis, driving resolution of quality risks and non compliance iss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Management of Change Request Proce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0920" y="3807000"/>
            <a:ext cx="8424720" cy="25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oject attended quality assurance for each product from M0 to M4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Definition of Q-targets, crisis management, defect classification, return rate prognosi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Release of core-software and customization/varia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EUAT (End User Acceptance Test); GCF-Field-Tri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Change Request Proce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eventive quality assurance (FMEA, Review, Audit, Release of QA Milestones,...) and product safety (Risk Potential Analysis, EN60950,..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Ensure product quality (environmental testing, failure tracking, ...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Hans-Peter Hoeckenreiner</cp:lastModifiedBy>
  <dcterms:modified xsi:type="dcterms:W3CDTF">2006-05-03T09:46:06Z</dcterms:modified>
  <cp:revision>136</cp:revision>
  <dc:subject/>
  <dc:title>PowerPoint 簡報</dc:title>
</cp:coreProperties>
</file>