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C43-0C8D-466B-A392-11F35965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908-C075-400C-9EDA-E055426C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897-71A5-4DE1-888A-94AB22E4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B6C-6B59-40D6-A9A2-48451187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01779-94E8-4D37-A9D3-41F2470121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859DD-55CB-4A28-900F-484659C270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D8D1E-079C-47D9-A05F-FD2CCBC22F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96E6C-0635-486D-8AEF-BD85095CEB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8B573-38D5-4DA6-9399-CB3E92FAE1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3AFCD-5C67-4B98-B0B6-BE7B51AA42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9869F-B7B0-4F65-8ECA-EF1D24DB0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5EE-17C4-4AE9-B13B-3499D650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C69A9-B832-4EC7-81DC-9B5110856B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6DF99-E58B-47E7-BDEB-C57849399F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A5066-C656-4F58-B4C8-31F6134F0A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96DB5-5966-4DB5-AB57-CD1324FCFB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525E8-5E68-493D-905E-50F6846F48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E977B-8B78-48E8-9AE4-C6BCE3CC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6D649-9791-4CC1-93D4-41DD4D62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E70FB-EB3B-46EB-A2AF-0E4D9A75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8F6B0-0945-4E6F-A398-0AE47774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612D8-9037-4FA0-971C-91D9E8CF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906-6293-4A15-A846-31E92746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1BF78-93A0-4F5A-95FC-D73D0DF4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8A4D0-011F-4DD4-858A-D9E1E38A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DC363-08C6-4324-976F-CC024CB7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43B84-A96B-4311-9ECD-1FB03D3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9DB7C-A712-4EC9-8FFC-7667B860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0FED5-A687-4CB5-B069-6135A6D3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52341-C6AD-4042-A698-89CDDA43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570-D9BB-4EC6-AFF7-936F561D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D82-B86C-4C43-B279-EB9DCBD9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541-9155-4BCA-B11B-A00FAA2C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138-AB0A-4D73-A3C3-7B9F462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47F-A337-4C3A-8E52-E2B6424D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D30-05B5-4E5C-8852-A1AE184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E0F-233C-46D5-AD40-9E2BBDD893A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39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0800" y="-338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C26DD3-9F98-4321-A01A-B2C1964B2CAF}" type="slidenum"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896760"/>
            <a:ext cx="7269120" cy="8424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25280" y="1657440"/>
            <a:ext cx="879336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1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2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3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4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5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6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8590-C577-4FB4-B223-E5662D3B38EA}" type="slidenum"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enQ Confidential (20.03.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504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latform and Product planning cont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文鼎中黑"/>
              </a:rPr>
              <a:t>SPC, Hoeckenr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0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4320" y="83664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4160" y="980640"/>
            <a:ext cx="835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Definition of a platform: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29588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Benefit</a:t>
            </a:r>
            <a:r>
              <a:rPr b="1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555920"/>
            <a:ext cx="8281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A platform is a framework where all products which are based on this framework can be derived from. It contains all basic functionality and all common features of the initial produ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[Remark: Features needed </a:t>
            </a:r>
            <a:r>
              <a:rPr b="0" lang="en-US" sz="18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for only one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product are not part of the platform. The individual features have to be accounted to the dedicated product projects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his is valid for all HW, ST, QA, SCM  and SW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MD is not part of the platform development. Mechanics have to be done within the product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7520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ommon platform components are developed only o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esting of platform features is done in only one proje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reation of synergies between th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Q, 2006 05 03, Hoeckenrein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3933720"/>
            <a:ext cx="8280360" cy="15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: Common content shared by all projects 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HW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related re-usable HW components like batteries, displays (plan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        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under predevelopments) and  master-schematic, RF-layouts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W: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getting reference board running (device lay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application framework (user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Testing of platform framework and preparation of initial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51920"/>
            <a:ext cx="8368200" cy="6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Product and platform content </a:t>
            </a:r>
            <a:br>
              <a:rPr sz="2800"/>
            </a:b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Development</a:t>
            </a:r>
            <a:r>
              <a:rPr b="1" lang="zh-TW" sz="1600" spc="-1" strike="noStrike">
                <a:solidFill>
                  <a:srgbClr val="3a0e66"/>
                </a:solidFill>
                <a:latin typeface="Arial"/>
              </a:rPr>
              <a:t> with external platform suppliers (e.g. APOXI, QCT Brew)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516640"/>
            <a:ext cx="8280360" cy="7207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uppl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vides HW reference board and SW 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052640"/>
            <a:ext cx="5616720" cy="1944720"/>
          </a:xfrm>
          <a:prstGeom prst="rect">
            <a:avLst/>
          </a:prstGeom>
          <a:solidFill>
            <a:srgbClr val="800080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…..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1557360"/>
            <a:ext cx="5830920" cy="194472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6337440" cy="187308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HW, SW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Integration of generic platform components, adap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and enhancement for special product needs</a:t>
            </a:r>
            <a:r>
              <a:rPr b="0" lang="de-DE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ertification and  product specific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D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Providing of housing and product specific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981000"/>
            <a:ext cx="683604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Hard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248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71628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55736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action with platform supplier including setup of change request hand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platform schematic and baseband pin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documentation and testing templates (Circuit Description, Master Action Pla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every feature/component used in more than one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maintenance support until last product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mark: Development of batteries, displays and cameras planned under components/predevelop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292640"/>
            <a:ext cx="8569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gration of platform and HW components into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product specific/unique components/features which are not covered by the   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and testing of the PCB(s) incl. equipped functions (e.g. RF, BB, B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of HW approvals and documentation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coustics, Antenna and EMC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mass production qu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oft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2181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711440"/>
            <a:ext cx="763416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ll activities for the deliveries of the supplier (basic package), provisioning of the platform frame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sion of features used in more than one product (including licens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integrity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nning support for all products based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General operator variant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865760"/>
            <a:ext cx="7993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Feature/component development used for only one dedicated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integration (incl. Build and Integration manageme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W product project l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ustom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ystem Test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700280"/>
            <a:ext cx="763416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OTs for new platform 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ing of platform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Providing test capabilities for new technologies (e.g. HSDPA) are handled within predevelopment projects, as they are platform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292640"/>
            <a:ext cx="799308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Operator acceptance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pproval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ertification/Approval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fforts for project coordination, reporting, error track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CM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76341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latform component (reuse &gt;=2, i.e. BB chipse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of test boards (breadboards etc.) in the prototype sh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general framework for production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StackUp issues are handled in the stack up te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292640"/>
            <a:ext cx="7993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roject specific  component (i.e. barometer chip or hous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ing, test concept, assembly concept, adapter built, production process qualification and ver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amp up, logistics and supplier quality assu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and maintenance after S4 milestone (currently not planned in Primaver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4320" y="765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Quality Assuranc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7160" y="83664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1417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268280"/>
            <a:ext cx="8785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porting work, product quality and process adherence support for components/sub-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and monitoring of Q-targets for suppliers and sub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upport of TAMs by audits and acceptance proced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ect prognosis, driving resolution of quality risks and non complianc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Management of 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807000"/>
            <a:ext cx="8424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ject attended quality assurance for each product from M0 to M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of Q-targets, crisis management, defect classification, return rate progno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lease of core-software and customization/vari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UAT (End User Acceptance Test); GCF-Field-T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ventive quality assurance (FMEA, Review, Audit, Release of QA Milestones,...) and product safety (Risk Potential Analysis, EN60950,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product quality (environmental testing, failure tracking, .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ans-Peter Hoeckenreiner</cp:lastModifiedBy>
  <dcterms:modified xsi:type="dcterms:W3CDTF">2006-05-03T09:46:06Z</dcterms:modified>
  <cp:revision>136</cp:revision>
  <dc:subject/>
  <dc:title>PowerPoint 簡報</dc:title>
</cp:coreProperties>
</file>