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FE223-FBBB-43CC-812A-DA3FEBD7E3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F5112-4A85-4EFD-BBDE-C62BE810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60A7F-5624-43AC-AC78-1DA2B064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74E3A-74B6-4A97-B184-B1C40047A5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17D5E-AFF6-49BF-9FC8-E38C8CE2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41255-9B97-4032-97C4-DB78AB89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7ABF4-DA03-49F2-81AA-8010F999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AEAB4-7359-4076-ACB9-23131AB0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A39B3-F6EB-448A-9C8B-870C786D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A46A9-3FFB-4712-930B-3A03ECCF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2BB7A-80E7-42D3-A042-A13DA92B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B35B1-C60F-4EA6-987B-F99C2D6C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0787-F37E-4443-8E00-36C64B1C7E58}" type="slidenum">
              <a:rPr b="0" lang="en-US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&lt;Product&gt;  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 approach slogan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OPC Status Report at &lt;Milestone&gt;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&lt;Presenter’s 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echnical 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&lt;D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3681360"/>
            <a:ext cx="83185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&lt;Team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5B35D-06DA-49E8-BDB9-EE61419AF6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3571920" cy="3600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356000" y="831960"/>
            <a:ext cx="4467240" cy="209736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CON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st vs.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Realisation vs.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56000" y="3122640"/>
            <a:ext cx="4467240" cy="20422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ime-to-volu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terial availabi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duction 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5334120"/>
            <a:ext cx="4467240" cy="61596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Quality Gate Rating PRODUCT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MILESTONE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8F259-0168-4969-B127-4E3BDB6A7B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3571920" cy="3600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356000" y="1265400"/>
            <a:ext cx="4537080" cy="23086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&amp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oft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ardware/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echan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mpliance and Approva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Quality Gate Rating PRODUCT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MILESTONE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"/>
          <p:cNvSpPr/>
          <p:nvPr/>
        </p:nvSpPr>
        <p:spPr>
          <a:xfrm>
            <a:off x="4356000" y="4076640"/>
            <a:ext cx="4467240" cy="176652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verall Prod. Quality / Systemte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verall Product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95976-2E27-4DCA-B3C0-344CF233E9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6524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49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Measures, Responsibles and Due Date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047600"/>
            <a:ext cx="8785440" cy="5189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08000" y="3135240"/>
            <a:ext cx="6120000" cy="18032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ase of an non-green Q-Gates it’s up to the team to define during the Q-Gate process adequate measures, responsibles and due dates to reach a green Q-Gate ra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ou can find this sheet here: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ttps://www.benqmobile.siemens.com/livelink/livelink.exe/open/3360479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18BAE-2D4A-4438-A97C-0C91EB517B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Required management support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678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&lt;Decisions, resources, etc.&gt;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&lt;concrete actions only, e.g. not „higher  management attention“&gt;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Dr. Eickhol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rejec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398952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463716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685C2-266A-4E1C-85DC-D3B4EB2AD7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48000" y="2852280"/>
            <a:ext cx="223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Times New Roma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2BB39-D15D-4ED3-98C8-F255E139A5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27320" y="374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04640"/>
            <a:ext cx="2960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TA &lt;Product&gt;</a:t>
            </a: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br>
              <a:rPr sz="2000"/>
            </a:b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tatus &lt;Mileston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61280" y="2065320"/>
            <a:ext cx="123012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Include Schedu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(from S0 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49440" y="1628640"/>
          <a:ext cx="5722920" cy="381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1628640"/>
                    <a:ext cx="572292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 flipV="1">
            <a:off x="1074600" y="2050560"/>
            <a:ext cx="4857840" cy="305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94214-A06B-4957-AD23-A2C58AE89F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65240" y="3960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04640"/>
            <a:ext cx="42958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R&amp;D Spending &lt;Product&gt;</a:t>
            </a:r>
            <a:br>
              <a:rPr sz="2000"/>
            </a:b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Product Approach Sloga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99960" y="773280"/>
          <a:ext cx="6477120" cy="460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773280"/>
                    <a:ext cx="6477120" cy="46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838080" y="5391000"/>
          <a:ext cx="3468960" cy="917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5391000"/>
                    <a:ext cx="346896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589800" y="1454040"/>
            <a:ext cx="259056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up to Mrz 02 were spent under predevelopment-ac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 opened Mrz 0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 declared Mrz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cast after M3: 1‘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since last month (also in M1-Plan): Higher hourly rate for FY 02/03: 0‘8 Mio EURO; NRE-Costs: 0‘5 Mio Eur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5600" y="5423040"/>
            <a:ext cx="2314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b5d"/>
                </a:solidFill>
                <a:latin typeface="Arial"/>
              </a:rPr>
              <a:t>Costs of devia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71DC7-A1DF-43BF-9604-5CAA95A108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E3544-1ADA-478D-ACA7-E27991F212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assanm</cp:lastModifiedBy>
  <dcterms:modified xsi:type="dcterms:W3CDTF">2006-01-13T14:52:04Z</dcterms:modified>
  <cp:revision>99</cp:revision>
  <dc:subject/>
  <dc:title>PowerPoint 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55684188</vt:r8>
  </property>
  <property fmtid="{D5CDD505-2E9C-101B-9397-08002B2CF9AE}" pid="3" name="_AuthorEmail">
    <vt:lpwstr>Marcell.Assan@BenQ.com</vt:lpwstr>
  </property>
  <property fmtid="{D5CDD505-2E9C-101B-9397-08002B2CF9AE}" pid="4" name="_AuthorEmailDisplayName">
    <vt:lpwstr>Marcell Assan</vt:lpwstr>
  </property>
  <property fmtid="{D5CDD505-2E9C-101B-9397-08002B2CF9AE}" pid="5" name="_EmailSubject">
    <vt:lpwstr>TPM / TPM BA jf am 9.1.</vt:lpwstr>
  </property>
</Properties>
</file>