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C61-44CD-4F5F-8891-D17B32CE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8C26-D985-49C2-B3F3-C8F18E6F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1E2-F86E-426F-AF84-3A6D6779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AEB9-5C02-4939-B932-F46C1295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241-E607-4980-89B3-82177F89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C9C-F55B-4990-A5F4-DE653EB4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286-F9E6-48D2-9BC7-17292754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F50-80B4-4B2C-B6A6-23CF086F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0874-12CA-474C-AE64-B0E7D1C5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65E-03EE-435C-B380-1DC137AC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B3A-60AA-45D3-9E2F-C120C9CD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0B3-C4E8-448E-B2D2-37527C7A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6291-ABB3-4B55-A7D2-AD0B4B219EF8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arrenkothen, Gallner, BenQ Confidential (2006/02/16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Minion"/>
              </a:rPr>
              <a:t>Procedure for update of Primavera MS Reporting for OPC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1012680" y="329256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868320"/>
            <a:ext cx="2376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QM PSO to create 1st. extract of Primavera MS planning as a preparation 1 day before next O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liver report to TPM Head and local Primavera suppo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276df9"/>
                </a:solidFill>
                <a:latin typeface="Minion"/>
                <a:ea typeface="文鼎中黑"/>
              </a:rPr>
              <a:t>Time: Monday 05:00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534f"/>
                </a:solidFill>
                <a:latin typeface="Minion"/>
                <a:ea typeface="文鼎中黑"/>
              </a:rPr>
              <a:t>Responsible: Stefan Gall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05160" y="329256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54640" y="329256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0348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24880" y="359424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9480" y="35942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4952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560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2256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60560" y="359100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48280" y="3591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16040" y="3362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34920" y="359100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5740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8800" y="359100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0720" y="3346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42120" y="357516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74160" y="4870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18520" y="4870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61440" y="4870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337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98120" y="360360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07000" y="337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81480" y="337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71960" y="360036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07200" y="3591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54520" y="33717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64040" y="360036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9756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040" y="3436920"/>
            <a:ext cx="777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62240" y="4191120"/>
            <a:ext cx="19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Minion"/>
                <a:ea typeface="文鼎中黑"/>
              </a:rPr>
              <a:t>TPM to judge / modify / change (if necessary) and commit to the pla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20760" y="36050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5157720"/>
            <a:ext cx="2201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cal Primavera support to create  extract of Primavera MS planning eac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276df9"/>
                </a:solidFill>
                <a:latin typeface="Minion"/>
                <a:ea typeface="文鼎中黑"/>
              </a:rPr>
              <a:t>Monday 05:00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000" spc="-1" strike="noStrike">
                <a:solidFill>
                  <a:srgbClr val="ff534f"/>
                </a:solidFill>
                <a:latin typeface="Minion"/>
                <a:ea typeface="文鼎中黑"/>
              </a:rPr>
              <a:t>Responsible: Primavera Coord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08960" y="3292560"/>
            <a:ext cx="28872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0728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28680" y="358452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6480" y="35942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5332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9940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2636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359100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52080" y="3600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19840" y="3362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38720" y="360036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836640"/>
            <a:ext cx="2592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QM PSO to create 1st. extract of Primavera MS planning as a preparation 1 day before next O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liver report to TPM Head and local Primavera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276df9"/>
                </a:solidFill>
                <a:latin typeface="Minion"/>
                <a:ea typeface="文鼎中黑"/>
              </a:rPr>
              <a:t>Time: Monday 05:00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534f"/>
                </a:solidFill>
                <a:latin typeface="Minion"/>
                <a:ea typeface="文鼎中黑"/>
              </a:rPr>
              <a:t>Responsible: Stefan Gall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349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3933720"/>
            <a:ext cx="2449440" cy="216000"/>
          </a:xfrm>
          <a:custGeom>
            <a:avLst/>
            <a:gdLst>
              <a:gd name="textAreaLeft" fmla="*/ 428400 w 2449440"/>
              <a:gd name="textAreaRight" fmla="*/ 1775880 w 24494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2852640"/>
            <a:ext cx="50328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2852640"/>
            <a:ext cx="50292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1964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0872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1200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17840" y="3933720"/>
            <a:ext cx="2449440" cy="216000"/>
          </a:xfrm>
          <a:custGeom>
            <a:avLst/>
            <a:gdLst>
              <a:gd name="textAreaLeft" fmla="*/ 428400 w 2449440"/>
              <a:gd name="textAreaRight" fmla="*/ 1775880 w 24494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3933720"/>
            <a:ext cx="2449800" cy="216000"/>
          </a:xfrm>
          <a:custGeom>
            <a:avLst/>
            <a:gdLst>
              <a:gd name="textAreaLeft" fmla="*/ 428760 w 2449800"/>
              <a:gd name="textAreaRight" fmla="*/ 1776240 w 24498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tefan Gallner</cp:lastModifiedBy>
  <dcterms:modified xsi:type="dcterms:W3CDTF">2006-02-16T08:56:42Z</dcterms:modified>
  <cp:revision>82</cp:revision>
  <dc:subject/>
  <dc:title>PowerPoint 簡報</dc:title>
</cp:coreProperties>
</file>