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BDE-9C90-4864-9822-A4F72113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388-D8E2-4CCF-89AA-0B902F2B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4D6-0B09-485B-B783-9B6B2930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2AC-F35E-420E-8CB8-DD8EB35A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147-1384-4C8C-AF83-21608037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B4E-93E9-4A84-BB33-B3CB118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31A-2090-4CEF-ABA0-80B1D80C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DFF-612D-4832-AFF2-94AEA98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E1A-9D69-4327-8CA4-30423ED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9C8-F4D7-470A-837E-70E4AA1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A27-787C-4A6B-BE87-FD098AA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F76-BF6E-4B10-BD7E-25D5F42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40AA-DCD3-42C5-AB25-2152D8943421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arrenkothen, Gallner, 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Minion"/>
              </a:rPr>
              <a:t>Procedure for update of Primavera MS Reporting for OPC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101268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868320"/>
            <a:ext cx="237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0516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5464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34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24880" y="359424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9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95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56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605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60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34920" y="35910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7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8800" y="35910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3346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2120" y="357516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7416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852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6144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8120" y="360360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0700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148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71960" y="360036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720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4520" y="33717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6404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7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040" y="343692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2240" y="4191120"/>
            <a:ext cx="19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Minion"/>
                <a:ea typeface="文鼎中黑"/>
              </a:rPr>
              <a:t>TPM to judge / modify / change (if necessary) and commit to the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20760" y="3605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157720"/>
            <a:ext cx="2201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cal Primavera support to create  extract of Primavera MS planning 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Primavera 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8960" y="329256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72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28680" y="358452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6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33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99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63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2080" y="3600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198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3872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836640"/>
            <a:ext cx="259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2852640"/>
            <a:ext cx="50328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2852640"/>
            <a:ext cx="5029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78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933720"/>
            <a:ext cx="2449800" cy="216000"/>
          </a:xfrm>
          <a:custGeom>
            <a:avLst/>
            <a:gdLst>
              <a:gd name="textAreaLeft" fmla="*/ 428760 w 2449800"/>
              <a:gd name="textAreaRight" fmla="*/ 1776240 w 24498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tefan Gallner</cp:lastModifiedBy>
  <dcterms:modified xsi:type="dcterms:W3CDTF">2006-02-16T08:56:42Z</dcterms:modified>
  <cp:revision>82</cp:revision>
  <dc:subject/>
  <dc:title>PowerPoint 簡報</dc:title>
</cp:coreProperties>
</file>