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471DC-968F-4DC5-AE52-DF63F8125A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32C8A-0AF5-4896-A7A7-942134AF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0387B-EBAA-47CD-8EB6-E9288A16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22674-61FC-40F8-A097-9A5F6B45DF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EE94C-5009-4991-AFB4-59626BF3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CCD69-58AE-4EF9-9848-EC7D0D9C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743E0-39FC-4260-8C16-A4261DB9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849FF-3996-44A6-B485-97B88F534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F58BC-B0C4-4127-932A-4A5D3D3BF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BA5D3-1E5A-44EC-9DC8-5B8DC4F6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5C23C-367A-4A11-BE61-8BB3B8B4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6C48D-9A21-4EDC-B63E-FE472772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A4E4-30BB-465A-BCAC-A3EA044DA849}" type="slidenum">
              <a:rPr b="0" lang="en-US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&lt;Product&gt;  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t approach slogan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OPC Status Report at &lt;Milestone&gt;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&lt;Presenter’s 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echnical Proje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&lt;D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3681360"/>
            <a:ext cx="83185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&lt;Team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1375A-85BC-4358-9DAA-A9F2A08C9FC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3571920" cy="3600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356000" y="831960"/>
            <a:ext cx="4467240" cy="209736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CON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st vs.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Realisation vs.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56000" y="3122640"/>
            <a:ext cx="4467240" cy="20422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ime-to-volu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terial availabi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duction 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5334120"/>
            <a:ext cx="4467240" cy="61596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Quality Gate Rating PRODUCT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MILESTONE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2428B-F8C2-437C-9766-B67A44198A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3571920" cy="3600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356000" y="1265400"/>
            <a:ext cx="4537080" cy="23086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&amp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oftw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ardware/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echan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mpliance and Approva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Quality Gate Rating PRODUCT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MILESTONE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"/>
          <p:cNvSpPr/>
          <p:nvPr/>
        </p:nvSpPr>
        <p:spPr>
          <a:xfrm>
            <a:off x="4356000" y="4076640"/>
            <a:ext cx="4467240" cy="176652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verall Prod. Quality / Systemte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verall Product Qua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02FA0-E75B-4D08-BFA4-8C413EE542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6524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49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Measures, Responsibles and Due Date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047600"/>
            <a:ext cx="8785440" cy="5189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08000" y="3135240"/>
            <a:ext cx="6120000" cy="18032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ase of an non-green Q-Gates it’s up to the team to define during the Q-Gate process adequate measures, responsibles and due dates to reach a green Q-Gate ra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ou can find this sheet here: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ttps://www.benqmobile.siemens.com/livelink/livelink.exe/open/3360479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0CADB-9D65-484C-A87D-A216F27786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Required management support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678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&lt;Decisions, resources, etc.&gt;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&lt;concrete actions only, e.g. not „higher  management attention“&gt;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Dr. Eickhol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accep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rejec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398952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463716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265C1-BCC0-44F2-B300-1DE640CC5C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48000" y="2852280"/>
            <a:ext cx="223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Times New Roma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A0770-7529-4C6B-85FB-B1CD5CAC07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27320" y="3747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04640"/>
            <a:ext cx="2960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TA &lt;Product&gt;</a:t>
            </a: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br>
              <a:rPr sz="2000"/>
            </a:b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tatus &lt;Mileston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61280" y="2065320"/>
            <a:ext cx="123012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Include Schedu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(from S0 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49440" y="1628640"/>
          <a:ext cx="5722920" cy="381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1628640"/>
                    <a:ext cx="572292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 flipV="1">
            <a:off x="1074600" y="2050560"/>
            <a:ext cx="4857840" cy="305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9A7E1-BBD5-4212-A64F-5CFB2D7869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65240" y="3960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04640"/>
            <a:ext cx="42958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R&amp;D Spending &lt;Product&gt;</a:t>
            </a:r>
            <a:br>
              <a:rPr sz="2000"/>
            </a:b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Product Approach Sloga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99960" y="773280"/>
          <a:ext cx="6477120" cy="460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773280"/>
                    <a:ext cx="6477120" cy="46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838080" y="5391000"/>
          <a:ext cx="3468960" cy="917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5391000"/>
                    <a:ext cx="346896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589800" y="1454040"/>
            <a:ext cx="259056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up to Mrz 02 were spent under predevelopment-ac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 opened Mrz 0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0 declared Mrz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cast after M3: 1‘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since last month (also in M1-Plan): Higher hourly rate for FY 02/03: 0‘8 Mio EURO; NRE-Costs: 0‘5 Mio Eur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5600" y="5423040"/>
            <a:ext cx="2314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b5d"/>
                </a:solidFill>
                <a:latin typeface="Arial"/>
              </a:rPr>
              <a:t>Costs of devia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6507D-1412-4BE1-8003-14F0E9A682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D8C94-6B71-4109-BE88-F10D2928C4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assanm</cp:lastModifiedBy>
  <dcterms:modified xsi:type="dcterms:W3CDTF">2006-01-13T14:52:04Z</dcterms:modified>
  <cp:revision>99</cp:revision>
  <dc:subject/>
  <dc:title>PowerPoint 簡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55684188</vt:r8>
  </property>
  <property fmtid="{D5CDD505-2E9C-101B-9397-08002B2CF9AE}" pid="3" name="_AuthorEmail">
    <vt:lpwstr>Marcell.Assan@BenQ.com</vt:lpwstr>
  </property>
  <property fmtid="{D5CDD505-2E9C-101B-9397-08002B2CF9AE}" pid="4" name="_AuthorEmailDisplayName">
    <vt:lpwstr>Marcell Assan</vt:lpwstr>
  </property>
  <property fmtid="{D5CDD505-2E9C-101B-9397-08002B2CF9AE}" pid="5" name="_EmailSubject">
    <vt:lpwstr>TPM / TPM BA jf am 9.1.</vt:lpwstr>
  </property>
</Properties>
</file>