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F066-3B40-49F8-B8DB-24843996F3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FFD1-DB74-4352-A301-1362182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4320-B780-4FF1-B44A-47DDB03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8908-2C47-49D7-9C48-3D6CA57F6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F64F-2E4F-4F6D-88B7-03A77D68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201F-621C-4E88-B957-86BF85E2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5A97-683B-43A1-B9E1-06CCCE89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85AF-7BFE-4205-99F7-ED1A3B1C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F601-AA40-4C84-ACE2-3D274A9E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C1F2-0A98-4C12-8130-428C2054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BFAE-1FEC-4727-93CB-129AA8B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6D33-B9C1-4900-98F8-F94DC94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375-F768-4D65-B42C-223941B46D3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&lt;Milestone&gt;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DC08-0E73-4666-8BD6-498EC8B42E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831960"/>
            <a:ext cx="4467240" cy="20973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alisation vs.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12264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vol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334120"/>
            <a:ext cx="4467240" cy="615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F794-09E8-42D0-9F48-6B6CF26019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D5C6-9092-4EFE-8E8A-F41F5D46A7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easures, Responsibles and Due Date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47600"/>
            <a:ext cx="8785440" cy="51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3135240"/>
            <a:ext cx="6120000" cy="1803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non-green Q-Gates it’s up to the team to define during the Q-Gate process adequate measures, responsibles and due dates to reach a green Q-Gate r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can find this sheet here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s://www.benqmobile.siemens.com/livelink/livelink.exe/open/3360479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D58BB-8B97-44A3-B794-FF796DF6C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Dr.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DA1D-ECB7-44D5-97D8-31614BCF1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9B8C-A5E7-4661-8730-61AF96EFE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ECB0-3B5F-4CAB-8B1B-5D3FB776CF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5240" y="396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4640"/>
            <a:ext cx="4295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Spending &lt;Product&gt;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Product Approach Sloga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773280"/>
          <a:ext cx="647712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773280"/>
                    <a:ext cx="6477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38080" y="5391000"/>
          <a:ext cx="3468960" cy="91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91000"/>
                    <a:ext cx="3468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589800" y="1454040"/>
            <a:ext cx="25905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up to Mrz 02 were spent under predevelopment-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opened Mrz 0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Mrz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cast after M3: 1‘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ince last month (also in M1-Plan): Higher hourly rate for FY 02/03: 0‘8 Mio EURO; NRE-Costs: 0‘5 Mio Eu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5600" y="5423040"/>
            <a:ext cx="231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5d"/>
                </a:solidFill>
                <a:latin typeface="Arial"/>
              </a:rPr>
              <a:t>Costs of devi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6012-024C-419D-B219-99828F981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8C6E-E6D1-4F31-809E-9577BBE52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52:04Z</dcterms:modified>
  <cp:revision>9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684188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