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CF02-9142-4ACF-8E4B-0ECEEB4F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6AE-9AF5-4F12-9EC2-8A23CE56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7DB-4482-4B2A-A069-B1429369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AEF-78FF-4CCD-BF2C-754500FC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978-9B84-4493-95F4-8195E13A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5BD-C663-47C7-93A8-F66E7C16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AAA-543D-4CA2-9BB4-C37A0F49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A398-1345-4E3B-B5F9-54524E12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8560-FEBF-4D8C-ADB5-84240D51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E3B-81B8-4FDA-830D-731510F5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D0F6-6BC0-454C-8469-4B978A59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C07-6382-4DB3-8B68-049E3F2A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FABD-C70D-4554-BF82-180067462B60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arrenkothen, Gallner, BenQ Confidential (2006/02/16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a0e66"/>
                </a:solidFill>
                <a:latin typeface="Minion"/>
              </a:rPr>
              <a:t>Procedure for update of Primavera MS Reporting for OPC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101268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868320"/>
            <a:ext cx="2376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0516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54640" y="3292560"/>
            <a:ext cx="28908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034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24880" y="359424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9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495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56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605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828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60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34920" y="359100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57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8800" y="359100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0720" y="33465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42120" y="357516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7416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1852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61440" y="48704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98120" y="360360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0700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81480" y="337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71960" y="360036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07200" y="35910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54520" y="33717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6404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975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040" y="3436920"/>
            <a:ext cx="777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62240" y="4191120"/>
            <a:ext cx="19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Minion"/>
                <a:ea typeface="文鼎中黑"/>
              </a:rPr>
              <a:t>TPM to judge / modify / change (if necessary) and commit to the pla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20760" y="36050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157720"/>
            <a:ext cx="2201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ocal Primavera support to create  extract of Primavera MS planning eac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Primavera 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8728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08960" y="3292560"/>
            <a:ext cx="288720" cy="28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728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28680" y="3584520"/>
            <a:ext cx="50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6480" y="3594240"/>
            <a:ext cx="4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5332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9940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26360" y="336564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64360" y="3591000"/>
            <a:ext cx="3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52080" y="360036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h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19840" y="33624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38720" y="3600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836640"/>
            <a:ext cx="2592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QM PSO to create 1st. extract of Primavera MS planning as a preparation 1 day before next O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eliver report to TPM Head and local Primavera sup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de-DE" sz="1000" spc="-1" strike="noStrike">
                <a:solidFill>
                  <a:srgbClr val="276df9"/>
                </a:solidFill>
                <a:latin typeface="Minion"/>
                <a:ea typeface="文鼎中黑"/>
              </a:rPr>
              <a:t>Time: Monday 05:00 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534f"/>
                </a:solidFill>
                <a:latin typeface="Minion"/>
                <a:ea typeface="文鼎中黑"/>
              </a:rPr>
              <a:t>Responsible: Stefan Gall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03280" y="2852640"/>
            <a:ext cx="50328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51640" y="2852640"/>
            <a:ext cx="5029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O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964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0872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1200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17840" y="3933720"/>
            <a:ext cx="2449440" cy="216000"/>
          </a:xfrm>
          <a:custGeom>
            <a:avLst/>
            <a:gdLst>
              <a:gd name="textAreaLeft" fmla="*/ 428400 w 2449440"/>
              <a:gd name="textAreaRight" fmla="*/ 1775880 w 244944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3933720"/>
            <a:ext cx="2449800" cy="216000"/>
          </a:xfrm>
          <a:custGeom>
            <a:avLst/>
            <a:gdLst>
              <a:gd name="textAreaLeft" fmla="*/ 428760 w 2449800"/>
              <a:gd name="textAreaRight" fmla="*/ 1776240 w 244980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Stefan Gallner</cp:lastModifiedBy>
  <dcterms:modified xsi:type="dcterms:W3CDTF">2006-02-16T08:56:42Z</dcterms:modified>
  <cp:revision>82</cp:revision>
  <dc:subject/>
  <dc:title>PowerPoint 簡報</dc:title>
</cp:coreProperties>
</file>