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333-296B-4A32-B345-6B07B2EA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983-185E-47EF-AEF9-4753492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E6A-02F6-4C49-A4C1-1F48A35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67F-1150-4D2B-AF4F-1DCCA928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71C-2478-4CAB-B15A-2FC8CF3E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B52-B2EA-4BEA-972A-D0F0B260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CB7-6BE8-4B0D-A10D-40CCE3A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747-71D9-423E-AF61-AFCA362B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BEE-04D4-47D0-8A28-25DBEEF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D6F-A5A8-4138-AC8A-6D9785CE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9E3-144B-473D-BB77-29390788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B43-235F-477C-8B24-6A4C1EB6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CB4E-8088-484C-A944-E589BC4A1D0F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arrenkothen, Gallner, 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Minion"/>
              </a:rPr>
              <a:t>Procedure for update of Primavera MS Reporting for OPC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86832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516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464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34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4880" y="359424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9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95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56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05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60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4920" y="35910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7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8800" y="35910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3346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2120" y="357516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7416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852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6144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8120" y="360360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0700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148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71960" y="360036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720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4520" y="3371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404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7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343692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2240" y="419112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Minion"/>
                <a:ea typeface="文鼎中黑"/>
              </a:rPr>
              <a:t>TPM to judge / modify / change (if necessary) and commit to the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0760" y="3605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157720"/>
            <a:ext cx="220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cal Primavera support to create  extract of Primavera MS planning 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Primavera 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9256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72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8680" y="358452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33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9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080" y="3600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98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72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83664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852640"/>
            <a:ext cx="50328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852640"/>
            <a:ext cx="5029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78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33720"/>
            <a:ext cx="2449800" cy="216000"/>
          </a:xfrm>
          <a:custGeom>
            <a:avLst/>
            <a:gdLst>
              <a:gd name="textAreaLeft" fmla="*/ 428760 w 2449800"/>
              <a:gd name="textAreaRight" fmla="*/ 1776240 w 2449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tefan Gallner</cp:lastModifiedBy>
  <dcterms:modified xsi:type="dcterms:W3CDTF">2006-02-16T08:56:42Z</dcterms:modified>
  <cp:revision>82</cp:revision>
  <dc:subject/>
  <dc:title>PowerPoint 簡報</dc:title>
</cp:coreProperties>
</file>