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DC2F-FDAB-4154-ADA5-027508D0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08D3-1411-4035-A5EF-DFDE8D8D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5BD5-FADA-4A0A-B2BA-25B5814A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8DD8-01C6-4900-8A86-2A727E928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15B7-ECB4-405C-9A1B-DDA33A16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D5A1-1C58-4DD3-B764-8227E99C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E90C-854B-4A72-A048-A2E63AE4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7CA6-C57A-4809-A351-980C995B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30E1-C17B-44A7-98F7-E1170E1C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773A-556F-4914-A900-5DD09B86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1D92-3E5D-4A10-B871-16CDC2F3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1813-F236-41F0-BD7A-76D0CB45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28000" y="333360"/>
            <a:ext cx="431640" cy="287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7ABC-6ED1-435D-8F43-20F454D9CEFC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17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97920"/>
            <a:ext cx="889344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Technical Product Management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Organizational Overview (DRAFT)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-199800" y="898560"/>
            <a:ext cx="9032760" cy="5133960"/>
            <a:chOff x="-199800" y="898560"/>
            <a:chExt cx="9032760" cy="5133960"/>
          </a:xfrm>
        </p:grpSpPr>
        <p:sp>
          <p:nvSpPr>
            <p:cNvPr id="46" name=""/>
            <p:cNvSpPr/>
            <p:nvPr/>
          </p:nvSpPr>
          <p:spPr>
            <a:xfrm>
              <a:off x="3165480" y="898560"/>
              <a:ext cx="287964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Head</a:t>
              </a:r>
              <a:br>
                <a:rPr sz="1200"/>
              </a:b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Holger Asmuss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527880" y="898560"/>
              <a:ext cx="1258920" cy="55080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Secreta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Anke Wol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" name=""/>
            <p:cNvCxnSpPr>
              <a:endCxn id="47" idx="1"/>
            </p:cNvCxnSpPr>
            <p:nvPr/>
          </p:nvCxnSpPr>
          <p:spPr>
            <a:xfrm flipV="1">
              <a:off x="6044760" y="1173960"/>
              <a:ext cx="483480" cy="720"/>
            </a:xfrm>
            <a:prstGeom prst="bentConnector3">
              <a:avLst>
                <a:gd name="adj1" fmla="val 26527"/>
              </a:avLst>
            </a:prstGeom>
            <a:ln w="6480">
              <a:solidFill>
                <a:srgbClr val="000000"/>
              </a:solidFill>
              <a:miter/>
            </a:ln>
          </p:spPr>
        </p:cxnSp>
        <p:sp>
          <p:nvSpPr>
            <p:cNvPr id="49" name=""/>
            <p:cNvSpPr/>
            <p:nvPr/>
          </p:nvSpPr>
          <p:spPr>
            <a:xfrm>
              <a:off x="2728800" y="2050920"/>
              <a:ext cx="1333440" cy="319752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MCH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J. Kockman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. Neuman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H. Peters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J. Schmit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J. Watzk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M. Weiga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D. Wies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R&amp;D M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M. Crutziger 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  <a:ea typeface="文鼎中黑"/>
                </a:rPr>
                <a:t>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T. A. Engelhardt 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  <a:ea typeface="文鼎中黑"/>
                </a:rPr>
                <a:t>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M. Hohenleitner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  <a:ea typeface="文鼎中黑"/>
                </a:rPr>
                <a:t>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A. Lang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  <a:ea typeface="文鼎中黑"/>
                </a:rPr>
                <a:t>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M. Schwarz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  <a:ea typeface="文鼎中黑"/>
                </a:rPr>
                <a:t>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26040" y="2041560"/>
              <a:ext cx="1258920" cy="431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499520" y="2041560"/>
              <a:ext cx="1333440" cy="43164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BMG PH TPM 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B. Flier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0"/>
              <a:endCxn id="46" idx="2"/>
            </p:cNvCxnSpPr>
            <p:nvPr/>
          </p:nvCxnSpPr>
          <p:spPr>
            <a:xfrm flipV="1" rot="16200000">
              <a:off x="6089760" y="-35280"/>
              <a:ext cx="592560" cy="3561480"/>
            </a:xfrm>
            <a:prstGeom prst="bentConnector3">
              <a:avLst>
                <a:gd name="adj1" fmla="val 48936"/>
              </a:avLst>
            </a:prstGeom>
            <a:ln w="6480">
              <a:solidFill>
                <a:srgbClr val="000000"/>
              </a:solidFill>
              <a:miter/>
            </a:ln>
          </p:spPr>
        </p:cxnSp>
        <p:sp>
          <p:nvSpPr>
            <p:cNvPr id="53" name=""/>
            <p:cNvSpPr/>
            <p:nvPr/>
          </p:nvSpPr>
          <p:spPr>
            <a:xfrm>
              <a:off x="5111640" y="2048040"/>
              <a:ext cx="1322640" cy="320040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KL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A. Bett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M. Feldhof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R. Ke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A. Zimm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R&amp;D KL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. Alkämper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</a:rPr>
                <a:t>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U. Barner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</a:rPr>
                <a:t>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R. Gallos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</a:rPr>
                <a:t>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D. Röhrig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</a:rPr>
                <a:t>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1800" y="3249720"/>
              <a:ext cx="1332000" cy="199872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platfor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O. Fries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R. Hartman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U. Gei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. Gö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D. Häns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H. Karaceli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A. Klop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M. O. Passau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0360" y="2041560"/>
              <a:ext cx="1332000" cy="102708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Sta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H.-P. Farrenkoth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J. Schwarpl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S. Spit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" name=""/>
            <p:cNvCxnSpPr>
              <a:stCxn id="46" idx="2"/>
              <a:endCxn id="55" idx="1"/>
            </p:cNvCxnSpPr>
            <p:nvPr/>
          </p:nvCxnSpPr>
          <p:spPr>
            <a:xfrm rot="5400000">
              <a:off x="1929600" y="-120240"/>
              <a:ext cx="1105920" cy="4245120"/>
            </a:xfrm>
            <a:prstGeom prst="bentConnector4">
              <a:avLst>
                <a:gd name="adj1" fmla="val 27352"/>
                <a:gd name="adj2" fmla="val 105351"/>
              </a:avLst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57" name=""/>
            <p:cNvCxnSpPr>
              <a:stCxn id="55" idx="1"/>
              <a:endCxn id="54" idx="1"/>
            </p:cNvCxnSpPr>
            <p:nvPr/>
          </p:nvCxnSpPr>
          <p:spPr>
            <a:xfrm flipH="1" flipV="1" rot="10800000">
              <a:off x="360360" y="2554920"/>
              <a:ext cx="1800" cy="1694520"/>
            </a:xfrm>
            <a:prstGeom prst="bentConnector3">
              <a:avLst>
                <a:gd name="adj1" fmla="val -15775000"/>
              </a:avLst>
            </a:prstGeom>
            <a:ln w="6480">
              <a:solidFill>
                <a:srgbClr val="000000"/>
              </a:solidFill>
              <a:miter/>
            </a:ln>
          </p:spPr>
        </p:cxnSp>
        <p:sp>
          <p:nvSpPr>
            <p:cNvPr id="58" name=""/>
            <p:cNvSpPr/>
            <p:nvPr/>
          </p:nvSpPr>
          <p:spPr>
            <a:xfrm>
              <a:off x="7499520" y="2666880"/>
              <a:ext cx="1333440" cy="336564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P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B. Flierl (act.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Appl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A. Bartelheim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V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E. Lundgr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Taipeh Coor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A. Hein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R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T. Janz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C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M. Ru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GP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E. Trage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" name=""/>
            <p:cNvCxnSpPr/>
            <p:nvPr/>
          </p:nvCxnSpPr>
          <p:spPr>
            <a:xfrm flipV="1">
              <a:off x="8165880" y="2482200"/>
              <a:ext cx="1080" cy="183240"/>
            </a:xfrm>
            <a:prstGeom prst="bentConnector2">
              <a:avLst/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60" name=""/>
            <p:cNvCxnSpPr>
              <a:endCxn id="49" idx="1"/>
            </p:cNvCxnSpPr>
            <p:nvPr/>
          </p:nvCxnSpPr>
          <p:spPr>
            <a:xfrm flipH="1" flipV="1" rot="10800000">
              <a:off x="2522880" y="1744560"/>
              <a:ext cx="206280" cy="1905480"/>
            </a:xfrm>
            <a:prstGeom prst="bentConnector3">
              <a:avLst>
                <a:gd name="adj1" fmla="val -1031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" name=""/>
            <p:cNvCxnSpPr/>
            <p:nvPr/>
          </p:nvCxnSpPr>
          <p:spPr>
            <a:xfrm flipH="1" rot="16200000">
              <a:off x="4055760" y="2594520"/>
              <a:ext cx="1905840" cy="205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2" name=""/>
            <p:cNvSpPr/>
            <p:nvPr/>
          </p:nvSpPr>
          <p:spPr>
            <a:xfrm>
              <a:off x="-199800" y="5513400"/>
              <a:ext cx="2538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 baseline="30000">
                  <a:solidFill>
                    <a:srgbClr val="3a0e66"/>
                  </a:solidFill>
                  <a:latin typeface="Minion"/>
                  <a:ea typeface="文鼎中黑"/>
                </a:rPr>
                <a:t>1)</a:t>
              </a: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Report to O. Fries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 baseline="30000">
                  <a:solidFill>
                    <a:srgbClr val="3a0e66"/>
                  </a:solidFill>
                  <a:latin typeface="Minion"/>
                  <a:ea typeface="文鼎中黑"/>
                </a:rPr>
                <a:t>2)</a:t>
              </a: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Report to R. Hartman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Peter Farrenkothen</cp:lastModifiedBy>
  <dcterms:modified xsi:type="dcterms:W3CDTF">2006-05-19T06:25:30Z</dcterms:modified>
  <cp:revision>146</cp:revision>
  <dc:subject/>
  <dc:title>PowerPoint 簡報</dc:title>
</cp:coreProperties>
</file>