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move the slide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A3A3-107E-4E14-BC77-E4BE1246F1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4181-58E1-419C-A89B-99256C82471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EC69-F901-45D9-9D47-2465C29C2828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4760-1471-4493-868D-CEA95ED8764F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917640" y="7412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704840"/>
            <a:ext cx="538812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68F-CA1F-42E7-82B4-D22E0FAA3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F27-F2FA-40B1-855C-E02FFCE88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B93-D19D-4AEB-B8C0-26061E4DD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8960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7960" y="99036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8960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7960" y="3769920"/>
            <a:ext cx="2674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80F9-1106-4702-AA4D-E1157BC13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4EF5-48AD-4026-9A25-F953FCE63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5737E-73AC-4802-9DEC-96D3F9D9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BA00-6CD7-43DE-AAEE-BB7CA612B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EF62-35B3-414E-A211-70C5FD4B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EE8-5943-4860-97D1-56E8F627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691F-0535-4E77-A712-54CE60B6A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7160" y="376992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B78A-C6E1-4ABE-8913-DFBB3B38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7160" y="990360"/>
            <a:ext cx="40532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30592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BB9-38C7-451A-9C21-6D1CC093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Click to edit the title text format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990360"/>
            <a:ext cx="8305920" cy="53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Click to edit the outline text format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1" marL="743040" indent="-28584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con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2" marL="1143000" indent="-228600">
              <a:spcBef>
                <a:spcPts val="799"/>
              </a:spcBef>
              <a:buClr>
                <a:srgbClr val="3a0e66"/>
              </a:buClr>
              <a:buFont typeface="Minio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Third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3" marL="1600200" indent="-228600">
              <a:spcBef>
                <a:spcPts val="799"/>
              </a:spcBef>
              <a:buClr>
                <a:srgbClr val="3a0e66"/>
              </a:buClr>
              <a:buFont typeface="Minio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our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4" marL="2057400" indent="-228600">
              <a:spcBef>
                <a:spcPts val="799"/>
              </a:spcBef>
              <a:buClr>
                <a:srgbClr val="3a0e66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Fif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ix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Minio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a0e66"/>
                </a:solidFill>
                <a:latin typeface="Minion"/>
              </a:rPr>
              <a:t>Seventh Outline Level</a:t>
            </a:r>
            <a:endParaRPr b="0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7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14600" y="623736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Minion"/>
                <a:ea typeface="文鼎中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3674880" y="6370200"/>
            <a:ext cx="934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66"/>
                </a:solidFill>
                <a:latin typeface="Minion"/>
                <a:ea typeface="文鼎中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F8A5-2C10-49C1-8091-BE4AF3F357E2}" type="slidenum">
              <a:rPr b="0" lang="en-US" sz="1000" spc="-1" strike="noStrike">
                <a:solidFill>
                  <a:srgbClr val="000066"/>
                </a:solidFill>
                <a:latin typeface="Minion"/>
                <a:ea typeface="文鼎中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71520" y="6362640"/>
            <a:ext cx="3552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280" rIns="107280" tIns="53640" bIns="53640" anchor="t">
            <a:spAutoFit/>
          </a:bodyPr>
          <a:p>
            <a:pPr>
              <a:tabLst>
                <a:tab algn="l" pos="0"/>
                <a:tab algn="l" pos="1073160"/>
                <a:tab algn="l" pos="2146320"/>
                <a:tab algn="l" pos="3219480"/>
                <a:tab algn="l" pos="4292640"/>
                <a:tab algn="l" pos="5365800"/>
                <a:tab algn="l" pos="6438960"/>
                <a:tab algn="l" pos="7512120"/>
                <a:tab algn="l" pos="8585280"/>
                <a:tab algn="l" pos="9658440"/>
                <a:tab algn="l" pos="10731600"/>
              </a:tabLst>
            </a:pP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BenQ Confidential (2006/03/15) </a:t>
            </a:r>
            <a:r>
              <a:rPr b="0" lang="zh-TW" sz="1000" spc="-1" strike="noStrike">
                <a:solidFill>
                  <a:srgbClr val="3a0e66"/>
                </a:solidFill>
                <a:latin typeface="Symbol"/>
                <a:ea typeface="Symbol"/>
              </a:rPr>
              <a:t></a:t>
            </a:r>
            <a:r>
              <a:rPr b="0" lang="zh-TW" sz="1000" spc="-1" strike="noStrike">
                <a:solidFill>
                  <a:srgbClr val="3a0e66"/>
                </a:solidFill>
                <a:latin typeface="Times New Roman"/>
                <a:ea typeface="文鼎中黑"/>
              </a:rPr>
              <a:t>2006, BenQ Corpor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R&amp;D Meeting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1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0328-BDD1-4D93-8602-4522BC8251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88" name=""/>
          <p:cNvSpPr/>
          <p:nvPr/>
        </p:nvSpPr>
        <p:spPr>
          <a:xfrm>
            <a:off x="145728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81040" y="765000"/>
            <a:ext cx="1368360" cy="16560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Ms. 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81040" y="3284640"/>
            <a:ext cx="1368360" cy="28810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38320" y="1413000"/>
            <a:ext cx="1335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626080" y="1413000"/>
            <a:ext cx="66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499520" y="1413000"/>
            <a:ext cx="7272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71720" y="1484280"/>
            <a:ext cx="13176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040" y="2494080"/>
            <a:ext cx="1368360" cy="64764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49400" y="765000"/>
            <a:ext cx="662472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TV responsible within Operations T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Ramp up Planning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Dispatch of Variants according sales allocation and variant release progress based on material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availability and production capacit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Hub‘s &amp; Regiosn Sales and Acquistions Samples (master logisitc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Region‘s Approvals (OpCos, Op, Retail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C Stee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Early Warning system DOS vs. ROF and PP in close cooperation with SCM (air traffic controller)</a:t>
            </a:r>
            <a:br>
              <a:rPr sz="1100"/>
            </a:b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of dedicated produc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anage EOL Risk beginning at D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949400" y="2494080"/>
            <a:ext cx="6624720" cy="647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Localisation of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 Pre installe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Application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and Applications for WEB and WAP in all languages </a:t>
            </a:r>
            <a:br>
              <a:rPr sz="1200"/>
            </a:b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(6-17 Applications per Product/45 Langu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949400" y="3284640"/>
            <a:ext cx="6624720" cy="2881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, country and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customer variants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 in different stati as basis for planning, dispo and p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Lead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Responsibility for variant relevant topics from 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新細明體"/>
              </a:rPr>
              <a:t>M0-M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&amp; update Customization Guide and Variant request Templat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Calculation/Dispo/Standard Int &amp; No-ID Varian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nterface between Variantmanagement and Operations Tea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variant releases in accordance together with VM to ramp-up pla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ion and implementation of variant related  overall product Change Request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a0e66"/>
                </a:solidFill>
                <a:latin typeface="Arial"/>
                <a:ea typeface="文鼎中黑"/>
              </a:rPr>
              <a:t>Country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Trigger, check  &amp; coordinate Variant Requests according to necessary timelin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reate Variant Specifica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the realization of the variants (sap-availability, sw- &amp; hw- realiza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Monitor and coordinate release processes (customer &amp; internal quality) for variant specific requirement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i.e. labels, leaflets, settings, printed cover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Coordinate and implement change requests required by customers throughout lifecycle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2b5d"/>
                </a:solidFill>
                <a:latin typeface="Arial"/>
                <a:ea typeface="新細明體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405E-436C-4981-977D-CFDFC0097FE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Key Tasks of BO Team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00" name=""/>
          <p:cNvSpPr/>
          <p:nvPr/>
        </p:nvSpPr>
        <p:spPr>
          <a:xfrm>
            <a:off x="1504800" y="5332320"/>
            <a:ext cx="360" cy="24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5480" y="2205000"/>
            <a:ext cx="13687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55480" y="2925720"/>
            <a:ext cx="1368720" cy="1438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55480" y="4510080"/>
            <a:ext cx="1328760" cy="1511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r. 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55480" y="1341360"/>
            <a:ext cx="1368720" cy="719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s. 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24200" y="1341360"/>
            <a:ext cx="6624360" cy="719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BO Interface to PHA Taipe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Dispovariants for ODM/BenQ Product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BO Items for European/LAM Launch</a:t>
            </a: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, icl. Ramp up Planning, Variants, Approvals, User Manu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924200" y="2203560"/>
            <a:ext cx="6624360" cy="504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EOL for all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-ordination of all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Ramp Down</a:t>
            </a: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 activities (Material, Production planning, Sales Allocation) according to timeline and budget targ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924200" y="2852640"/>
            <a:ext cx="662436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User manuals, CDs, Packag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Define Concepts for User Guide, Packaging, C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Create Master User Gu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Standard Packaging (Inlet, Box, Layou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Localisation / Customisation of master user guides (translation, customer/country specific adap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Coordinate Realisation of CD incl. loca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996920" y="4510080"/>
            <a:ext cx="655164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88920" indent="-889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2b5d"/>
                </a:solidFill>
                <a:latin typeface="Arial"/>
              </a:rPr>
              <a:t>Technical Interface to Regions/</a:t>
            </a:r>
            <a:r>
              <a:rPr b="0" lang="de-DE" sz="1400" spc="-1" strike="noStrike">
                <a:solidFill>
                  <a:srgbClr val="ff0000"/>
                </a:solidFill>
                <a:latin typeface="Arial"/>
              </a:rPr>
              <a:t>SW Approv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lan regional Sample/Cradle Dem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Approval Time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Provide Data Sheet/technical Spec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2b5d"/>
                </a:solidFill>
                <a:latin typeface="Arial"/>
              </a:rPr>
              <a:t>Trigger regioanl keypad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85000"/>
              </a:lnSpc>
              <a:buClr>
                <a:srgbClr val="002b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</a:rPr>
              <a:t>Trigger SW Appro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ample distribution to reg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coordinate SW distrib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b5d"/>
                </a:solidFill>
                <a:latin typeface="Arial"/>
                <a:ea typeface="新細明體"/>
              </a:rPr>
              <a:t>- Monitor CQ, C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C90B-07C4-4740-A423-4BF4D74F88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223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54 Applications in 180 Versions to be translated in 44 Languages</a:t>
            </a:r>
            <a:br>
              <a:rPr sz="2000"/>
            </a:br>
            <a:r>
              <a:rPr b="1" lang="de-DE" sz="2000" spc="-1" strike="noStrike">
                <a:solidFill>
                  <a:srgbClr val="3a0e66"/>
                </a:solidFill>
                <a:latin typeface="Minion"/>
              </a:rPr>
              <a:t>(more than 2300 Miniprojects)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684360" y="892080"/>
            <a:ext cx="7775280" cy="254952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236160" y="348300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2124000" y="3627360"/>
            <a:ext cx="6120000" cy="253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C639-8CEB-45E1-A044-77A4A9C2CF4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BO Complexity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68120" y="692280"/>
            <a:ext cx="8507520" cy="5654520"/>
            <a:chOff x="168120" y="692280"/>
            <a:chExt cx="8507520" cy="5654520"/>
          </a:xfrm>
        </p:grpSpPr>
        <p:sp>
          <p:nvSpPr>
            <p:cNvPr id="315" name=""/>
            <p:cNvSpPr/>
            <p:nvPr/>
          </p:nvSpPr>
          <p:spPr>
            <a:xfrm>
              <a:off x="2916360" y="4533840"/>
              <a:ext cx="47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rot="16200000">
              <a:off x="3303720" y="2328840"/>
              <a:ext cx="2736720" cy="3400560"/>
            </a:xfrm>
            <a:prstGeom prst="cube">
              <a:avLst>
                <a:gd name="adj" fmla="val 3020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2960640" y="1598760"/>
              <a:ext cx="14400" cy="308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952280" y="1273320"/>
              <a:ext cx="103572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in RU and 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 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119840" y="5613480"/>
              <a:ext cx="10584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Region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untries/</a:t>
              </a:r>
              <a:br>
                <a:rPr sz="1400"/>
              </a:b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ustom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3851280" y="692280"/>
              <a:ext cx="4824360" cy="1625400"/>
              <a:chOff x="3851280" y="692280"/>
              <a:chExt cx="4824360" cy="1625400"/>
            </a:xfrm>
          </p:grpSpPr>
          <p:sp>
            <p:nvSpPr>
              <p:cNvPr id="321" name=""/>
              <p:cNvSpPr/>
              <p:nvPr/>
            </p:nvSpPr>
            <p:spPr>
              <a:xfrm>
                <a:off x="3851280" y="692280"/>
                <a:ext cx="4824360" cy="1625400"/>
              </a:xfrm>
              <a:prstGeom prst="roundRect">
                <a:avLst>
                  <a:gd name="adj" fmla="val 16667"/>
                </a:avLst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99520" y="887040"/>
                <a:ext cx="4775400" cy="1313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4.500 active Variant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1.750 active User manual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Wingdings"/>
                    <a:ea typeface="Wingdings"/>
                  </a:rPr>
                  <a:t>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&gt;      55 Applications in 180 Versions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                  </a:t>
                </a:r>
                <a:r>
                  <a:rPr b="0" lang="de-DE" sz="2000" spc="-1" strike="noStrike">
                    <a:solidFill>
                      <a:srgbClr val="006666"/>
                    </a:solidFill>
                    <a:latin typeface="Minion"/>
                    <a:ea typeface="文鼎中黑"/>
                  </a:rPr>
                  <a:t>and 44 Languages (&gt; 7.000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3" name=""/>
            <p:cNvSpPr/>
            <p:nvPr/>
          </p:nvSpPr>
          <p:spPr>
            <a:xfrm>
              <a:off x="3754440" y="3790800"/>
              <a:ext cx="2746800" cy="12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hanges over Life Cyc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olou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Dt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New Requirements from count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ett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3a0e66"/>
                </a:buClr>
                <a:buFont typeface="Minio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</a:t>
              </a:r>
              <a:r>
                <a:rPr b="0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ogisit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660440" y="4394160"/>
              <a:ext cx="889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Lifecyc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68120" y="4932360"/>
              <a:ext cx="3108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</a:t>
              </a: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60 Regions/Countries 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20 Operators </a:t>
              </a:r>
              <a:br>
                <a:rPr sz="2000"/>
              </a:b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  30 Retail Custom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38040" y="2425680"/>
              <a:ext cx="149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1 Projec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511320" y="4562640"/>
              <a:ext cx="109044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0 – M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15120" y="2982960"/>
              <a:ext cx="208584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72, ME75, S75, SL75, SXG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estrel, Polaris, Swift, Sw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bsidian, Philippe, Hawk, AX72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CF110, Quail, Finch, Pelican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Goldfinch, Amber, M75, CX7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A70, AX75, A65, A75, CF75, S65,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L65, M65, A57, SP6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852640" y="4449600"/>
              <a:ext cx="1295640" cy="129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EBDA-2992-4751-BD4D-B650CD1EF69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505800" y="345960"/>
            <a:ext cx="814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ne man can‘t move a mountain, but a team can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108000" y="1068480"/>
            <a:ext cx="8891640" cy="5335560"/>
            <a:chOff x="108000" y="1068480"/>
            <a:chExt cx="8891640" cy="5335560"/>
          </a:xfrm>
        </p:grpSpPr>
        <p:pic>
          <p:nvPicPr>
            <p:cNvPr id="332" name="" descr=""/>
            <p:cNvPicPr/>
            <p:nvPr/>
          </p:nvPicPr>
          <p:blipFill>
            <a:blip r:embed="rId1"/>
            <a:stretch/>
          </p:blipFill>
          <p:spPr>
            <a:xfrm>
              <a:off x="1592280" y="1357560"/>
              <a:ext cx="5977080" cy="4024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33" name=""/>
            <p:cNvGrpSpPr/>
            <p:nvPr/>
          </p:nvGrpSpPr>
          <p:grpSpPr>
            <a:xfrm>
              <a:off x="108000" y="1357560"/>
              <a:ext cx="1346040" cy="985680"/>
              <a:chOff x="108000" y="1357560"/>
              <a:chExt cx="1346040" cy="985680"/>
            </a:xfrm>
          </p:grpSpPr>
          <p:sp>
            <p:nvSpPr>
              <p:cNvPr id="334" name="PubTriangle"/>
              <p:cNvSpPr/>
              <p:nvPr/>
            </p:nvSpPr>
            <p:spPr>
              <a:xfrm>
                <a:off x="108000" y="135756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20412600">
                <a:off x="413280" y="1616040"/>
                <a:ext cx="81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TP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136440" y="3876840"/>
              <a:ext cx="1346400" cy="986040"/>
              <a:chOff x="136440" y="3876840"/>
              <a:chExt cx="1346400" cy="986040"/>
            </a:xfrm>
          </p:grpSpPr>
          <p:sp>
            <p:nvSpPr>
              <p:cNvPr id="337" name="PubTriangle"/>
              <p:cNvSpPr/>
              <p:nvPr/>
            </p:nvSpPr>
            <p:spPr>
              <a:xfrm>
                <a:off x="136440" y="387684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20337000">
                <a:off x="424800" y="4136760"/>
                <a:ext cx="814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R&amp;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3816360" y="5416920"/>
              <a:ext cx="1346040" cy="985680"/>
              <a:chOff x="3816360" y="5416920"/>
              <a:chExt cx="1346040" cy="985680"/>
            </a:xfrm>
          </p:grpSpPr>
          <p:sp>
            <p:nvSpPr>
              <p:cNvPr id="340" name="PubTriangle"/>
              <p:cNvSpPr/>
              <p:nvPr/>
            </p:nvSpPr>
            <p:spPr>
              <a:xfrm>
                <a:off x="3816360" y="5416920"/>
                <a:ext cx="134604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0412600">
                <a:off x="4232520" y="5688000"/>
                <a:ext cx="53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"/>
            <p:cNvGrpSpPr/>
            <p:nvPr/>
          </p:nvGrpSpPr>
          <p:grpSpPr>
            <a:xfrm>
              <a:off x="5940360" y="5418360"/>
              <a:ext cx="1346400" cy="985680"/>
              <a:chOff x="5940360" y="5418360"/>
              <a:chExt cx="1346400" cy="985680"/>
            </a:xfrm>
          </p:grpSpPr>
          <p:sp>
            <p:nvSpPr>
              <p:cNvPr id="343" name="PubTriangle"/>
              <p:cNvSpPr/>
              <p:nvPr/>
            </p:nvSpPr>
            <p:spPr>
              <a:xfrm>
                <a:off x="5940360" y="5418360"/>
                <a:ext cx="1346400" cy="98568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20412600">
                <a:off x="6254280" y="5705280"/>
                <a:ext cx="81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SC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"/>
            <p:cNvGrpSpPr/>
            <p:nvPr/>
          </p:nvGrpSpPr>
          <p:grpSpPr>
            <a:xfrm>
              <a:off x="7653240" y="3733920"/>
              <a:ext cx="1346400" cy="986040"/>
              <a:chOff x="7653240" y="3733920"/>
              <a:chExt cx="1346400" cy="986040"/>
            </a:xfrm>
          </p:grpSpPr>
          <p:sp>
            <p:nvSpPr>
              <p:cNvPr id="346" name="PubTriangle"/>
              <p:cNvSpPr/>
              <p:nvPr/>
            </p:nvSpPr>
            <p:spPr>
              <a:xfrm>
                <a:off x="7653240" y="3733920"/>
                <a:ext cx="134640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 rot="20412600">
                <a:off x="7939080" y="4051080"/>
                <a:ext cx="69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QM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"/>
            <p:cNvGrpSpPr/>
            <p:nvPr/>
          </p:nvGrpSpPr>
          <p:grpSpPr>
            <a:xfrm>
              <a:off x="7596360" y="1068480"/>
              <a:ext cx="1346040" cy="986040"/>
              <a:chOff x="7596360" y="1068480"/>
              <a:chExt cx="1346040" cy="986040"/>
            </a:xfrm>
          </p:grpSpPr>
          <p:sp>
            <p:nvSpPr>
              <p:cNvPr id="349" name="PubTriangle"/>
              <p:cNvSpPr/>
              <p:nvPr/>
            </p:nvSpPr>
            <p:spPr>
              <a:xfrm>
                <a:off x="7596360" y="1068480"/>
                <a:ext cx="1346040" cy="986040"/>
              </a:xfrm>
              <a:solidFill>
                <a:srgbClr val="d8ebb3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rot="20412600">
                <a:off x="7921800" y="1393560"/>
                <a:ext cx="564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CDEE-96A8-484D-9025-EF5BBE21047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a0e66"/>
                </a:solidFill>
                <a:latin typeface="Minion"/>
              </a:rPr>
              <a:t>Backup</a:t>
            </a:r>
            <a:endParaRPr b="1" lang="en-US" sz="44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A3F1-41A9-4FB5-A954-95FD75B70A6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772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Responsible Persons on Interfaces to TPM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330120" y="1052640"/>
            <a:ext cx="8421840" cy="40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5296-FCCB-4B45-82DE-AFC05DB1268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415-58A5-450A-A076-A3D465EA5A8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2361960"/>
            <a:ext cx="701064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Minion"/>
              </a:rPr>
              <a:t>TPM 2 monthly</a:t>
            </a:r>
            <a:endParaRPr b="1" lang="en-US" sz="48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53" name=""/>
          <p:cNvSpPr/>
          <p:nvPr/>
        </p:nvSpPr>
        <p:spPr>
          <a:xfrm>
            <a:off x="409680" y="4981680"/>
            <a:ext cx="4572000" cy="138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Minion"/>
                <a:ea typeface="文鼎中黑"/>
              </a:rPr>
              <a:t>Holger Asmu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BMG PHE TPM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Minion"/>
                <a:ea typeface="文鼎中黑"/>
              </a:rPr>
              <a:t>2006-03-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72D-D5E0-413D-B458-F695AB60F8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839960" y="1155600"/>
            <a:ext cx="0" cy="5129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70720" y="3537000"/>
            <a:ext cx="2143080" cy="708120"/>
          </a:xfrm>
          <a:custGeom>
            <a:avLst/>
            <a:gdLst>
              <a:gd name="textAreaLeft" fmla="*/ 0 w 2143080"/>
              <a:gd name="textAreaRight" fmla="*/ 2143440 w 21430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00560" y="3286080"/>
            <a:ext cx="3092400" cy="1155600"/>
          </a:xfrm>
          <a:custGeom>
            <a:avLst/>
            <a:gdLst>
              <a:gd name="textAreaLeft" fmla="*/ 0 w 3092400"/>
              <a:gd name="textAreaRight" fmla="*/ 3092760 w 309240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8280" y="3537000"/>
            <a:ext cx="1809720" cy="708120"/>
          </a:xfrm>
          <a:custGeom>
            <a:avLst/>
            <a:gdLst>
              <a:gd name="textAreaLeft" fmla="*/ 0 w 1809720"/>
              <a:gd name="textAreaRight" fmla="*/ 1810080 w 180972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81120" y="3537000"/>
            <a:ext cx="1862280" cy="708120"/>
          </a:xfrm>
          <a:custGeom>
            <a:avLst/>
            <a:gdLst>
              <a:gd name="textAreaLeft" fmla="*/ 0 w 1862280"/>
              <a:gd name="textAreaRight" fmla="*/ 1862640 w 1862280"/>
              <a:gd name="textAreaTop" fmla="*/ 0 h 708120"/>
              <a:gd name="textAreaBottom" fmla="*/ 708480 h 708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3232080"/>
            <a:ext cx="1886040" cy="1206720"/>
          </a:xfrm>
          <a:custGeom>
            <a:avLst/>
            <a:gdLst>
              <a:gd name="textAreaLeft" fmla="*/ 0 w 1886040"/>
              <a:gd name="textAreaRight" fmla="*/ 1886400 w 1886040"/>
              <a:gd name="textAreaTop" fmla="*/ 0 h 1206720"/>
              <a:gd name="textAreaBottom" fmla="*/ 1206720 h 120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98" y="0"/>
                </a:lnTo>
                <a:lnTo>
                  <a:pt x="21600" y="10800"/>
                </a:lnTo>
                <a:lnTo>
                  <a:pt x="161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2600" y="3535200"/>
            <a:ext cx="962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ortfol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Cre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02320" y="3557520"/>
            <a:ext cx="994320" cy="6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Creatio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79040" y="3643200"/>
            <a:ext cx="7840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97800" y="4076640"/>
            <a:ext cx="16344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Real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16720" y="3627360"/>
            <a:ext cx="8481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ife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2920" y="3129120"/>
            <a:ext cx="436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</a:t>
            </a:r>
            <a:r>
              <a:rPr b="0" lang="de-DE" sz="1400" spc="-1" strike="noStrike">
                <a:solidFill>
                  <a:srgbClr val="3a0e66"/>
                </a:solidFill>
                <a:latin typeface="Arial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88560" y="323064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64240" y="3879720"/>
            <a:ext cx="260496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75840" y="29257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68200" y="297648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970040" y="3129120"/>
            <a:ext cx="432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Arial"/>
              </a:rPr>
              <a:t>M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8360" y="3500280"/>
            <a:ext cx="492120" cy="708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460760" y="3298680"/>
            <a:ext cx="29098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eparation of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aunch &amp; Market Int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832040" y="1203480"/>
            <a:ext cx="6997320" cy="717480"/>
            <a:chOff x="1832040" y="1203480"/>
            <a:chExt cx="6997320" cy="717480"/>
          </a:xfrm>
        </p:grpSpPr>
        <p:sp>
          <p:nvSpPr>
            <p:cNvPr id="74" name=""/>
            <p:cNvSpPr/>
            <p:nvPr/>
          </p:nvSpPr>
          <p:spPr>
            <a:xfrm>
              <a:off x="1832040" y="1380960"/>
              <a:ext cx="6227640" cy="36036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rot="5400000">
              <a:off x="8084880" y="117648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8720" y="1436760"/>
              <a:ext cx="291600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Category Product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0920" y="1268280"/>
            <a:ext cx="1434960" cy="660600"/>
          </a:xfrm>
          <a:prstGeom prst="rect">
            <a:avLst/>
          </a:prstGeom>
          <a:solidFill>
            <a:srgbClr val="66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Categ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33480" y="2046240"/>
            <a:ext cx="2435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Defini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75080" y="2046240"/>
            <a:ext cx="221148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Market Int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32720" y="2046240"/>
            <a:ext cx="1814400" cy="87804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Lifecy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4551480"/>
            <a:ext cx="2211120" cy="877680"/>
          </a:xfrm>
          <a:prstGeom prst="ellipse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Product Real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Te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839960" y="5432400"/>
            <a:ext cx="7008480" cy="717480"/>
            <a:chOff x="1839960" y="5432400"/>
            <a:chExt cx="7008480" cy="717480"/>
          </a:xfrm>
        </p:grpSpPr>
        <p:sp>
          <p:nvSpPr>
            <p:cNvPr id="83" name=""/>
            <p:cNvSpPr/>
            <p:nvPr/>
          </p:nvSpPr>
          <p:spPr>
            <a:xfrm>
              <a:off x="1839960" y="5610240"/>
              <a:ext cx="6238800" cy="36036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rot="5400000">
              <a:off x="8103960" y="5405400"/>
              <a:ext cx="717480" cy="771480"/>
            </a:xfrm>
            <a:prstGeom prst="triangle">
              <a:avLst>
                <a:gd name="adj" fmla="val 49991"/>
              </a:avLst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17920" y="5665680"/>
              <a:ext cx="3038400" cy="304920"/>
            </a:xfrm>
            <a:prstGeom prst="rect">
              <a:avLst/>
            </a:prstGeom>
            <a:solidFill>
              <a:srgbClr val="7556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ffffff"/>
                  </a:solidFill>
                  <a:latin typeface="Minion"/>
                </a:rPr>
                <a:t>Technical Product Manager (TPM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250920" y="5516640"/>
            <a:ext cx="1434960" cy="660240"/>
          </a:xfrm>
          <a:prstGeom prst="rect">
            <a:avLst/>
          </a:prstGeom>
          <a:solidFill>
            <a:srgbClr val="7556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Minion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24000" y="260280"/>
            <a:ext cx="882000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Product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naging the entire lifecycle “from  cradle to grave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7475-DF45-464C-8F17-B167D5308B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502160" y="3430440"/>
            <a:ext cx="174132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Product Innovation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25840" y="1544760"/>
            <a:ext cx="19465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Image &amp; Statu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516720" y="1557360"/>
            <a:ext cx="177012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Fascination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50800" y="1544760"/>
            <a:ext cx="1741680" cy="603000"/>
          </a:xfrm>
          <a:prstGeom prst="rect">
            <a:avLst/>
          </a:prstGeom>
          <a:solidFill>
            <a:srgbClr val="800080"/>
          </a:solidFill>
          <a:ln w="12600">
            <a:solidFill>
              <a:srgbClr val="a6a0c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Affordable Qualit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417760" y="1541520"/>
            <a:ext cx="1870200" cy="6062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Minion"/>
              </a:rPr>
              <a:t>Category  Manag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“</a:t>
            </a: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Explore Performanc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4000" y="3429000"/>
            <a:ext cx="2016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Innovation &amp; Portfolio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445080" y="3430440"/>
            <a:ext cx="187200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Smartphones &amp; Convergence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324000" y="3933720"/>
            <a:ext cx="2015640" cy="2058480"/>
            <a:chOff x="324000" y="3933720"/>
            <a:chExt cx="2015640" cy="2058480"/>
          </a:xfrm>
        </p:grpSpPr>
        <p:sp>
          <p:nvSpPr>
            <p:cNvPr id="96" name=""/>
            <p:cNvSpPr/>
            <p:nvPr/>
          </p:nvSpPr>
          <p:spPr>
            <a:xfrm>
              <a:off x="325440" y="3933720"/>
              <a:ext cx="2012400" cy="1838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4000" y="3951720"/>
              <a:ext cx="2015640" cy="204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Innovation Manag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Global Portfolio 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hemes Defin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Operator &amp; Regional 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Require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Technology &amp; Platform</a:t>
              </a:r>
              <a:br>
                <a:rPr sz="1200"/>
              </a:br>
              <a:r>
                <a:rPr b="1" lang="de-DE" sz="1200" spc="-1" strike="noStrike">
                  <a:solidFill>
                    <a:srgbClr val="3a0e66"/>
                  </a:solidFill>
                  <a:latin typeface="Minion"/>
                </a:rPr>
                <a:t>Strateg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56000" y="3933720"/>
            <a:ext cx="1709640" cy="141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ccessory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pecial Ed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Application &amp;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Enhanced offerings (value pack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453360" y="3933720"/>
            <a:ext cx="1863720" cy="1675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mart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VoIP Ph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Fixed Mobile Convergenc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Open 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rategic Partnershi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9640" y="2205000"/>
            <a:ext cx="777744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Aft>
                <a:spcPts val="524"/>
              </a:spcAft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	</a:t>
            </a:r>
            <a:r>
              <a:rPr b="1" lang="de-DE" sz="1400" spc="-1" strike="noStrike">
                <a:solidFill>
                  <a:srgbClr val="3a0e66"/>
                </a:solidFill>
                <a:latin typeface="Minion"/>
              </a:rPr>
              <a:t>Business 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cluding portfolio creation, product creation and definition, total product experience management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228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product design, market introduction, product launch and lifecycle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56000" y="3429000"/>
            <a:ext cx="1725480" cy="447840"/>
          </a:xfrm>
          <a:prstGeom prst="rect">
            <a:avLst/>
          </a:prstGeom>
          <a:solidFill>
            <a:srgbClr val="800080"/>
          </a:solidFill>
          <a:ln w="12600">
            <a:solidFill>
              <a:srgbClr val="8c94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Minion"/>
              </a:rPr>
              <a:t>Value Added 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8960" y="266760"/>
            <a:ext cx="8550360" cy="6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  <a:ea typeface="文鼎中黑"/>
              </a:rPr>
              <a:t>Category &amp; Technology Management</a:t>
            </a:r>
            <a:r>
              <a:rPr b="1" lang="en-US" sz="40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br>
              <a:rPr sz="4000"/>
            </a:br>
            <a:r>
              <a:rPr b="1" i="1" lang="en-US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ain building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00720" y="3933720"/>
            <a:ext cx="1709640" cy="1599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Leading-edge Technolog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nnovative Product Concep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IPR Gen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a0e66"/>
                </a:solidFill>
                <a:latin typeface="Minion"/>
              </a:rPr>
              <a:t>Standardization Back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B6FF-82F8-4D07-BBF5-245BA3CD5C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49400"/>
            <a:ext cx="8893440" cy="63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Technical Product Management 2: SGx based</a:t>
            </a:r>
            <a:br>
              <a:rPr sz="2000"/>
            </a:br>
            <a:r>
              <a:rPr b="1" lang="en-US" sz="2000" spc="-1" strike="noStrike">
                <a:solidFill>
                  <a:srgbClr val="3a0e66"/>
                </a:solidFill>
                <a:latin typeface="Minion"/>
              </a:rPr>
              <a:t>Organizational Overview</a:t>
            </a:r>
            <a:endParaRPr b="1" lang="en-US" sz="20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14280" y="774720"/>
            <a:ext cx="8501040" cy="5411880"/>
            <a:chOff x="314280" y="774720"/>
            <a:chExt cx="8501040" cy="5411880"/>
          </a:xfrm>
        </p:grpSpPr>
        <p:sp>
          <p:nvSpPr>
            <p:cNvPr id="106" name=""/>
            <p:cNvSpPr/>
            <p:nvPr/>
          </p:nvSpPr>
          <p:spPr>
            <a:xfrm>
              <a:off x="3392640" y="774720"/>
              <a:ext cx="22032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2b5d"/>
                  </a:solidFill>
                  <a:latin typeface="Arial"/>
                </a:rPr>
                <a:t>Program Manager 2.5G/3G KL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Holger Asmuss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043000" y="1498680"/>
              <a:ext cx="1470240" cy="57924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irk Häns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473800" y="1487520"/>
              <a:ext cx="1468440" cy="6015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oft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Geig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lrich Meyer, 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44800" y="2946240"/>
              <a:ext cx="1469880" cy="551160"/>
            </a:xfrm>
            <a:prstGeom prst="rect">
              <a:avLst/>
            </a:prstGeom>
            <a:solidFill>
              <a:srgbClr val="ccffcc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98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ject &amp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cess Support</a:t>
              </a:r>
              <a:br>
                <a:rPr sz="8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ns-Peter Farrenkoth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236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ny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M. Feldhoff, T. Alkämp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46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Diamo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Betting, 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230960" y="3830760"/>
              <a:ext cx="158436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de-DE" sz="1000" spc="-1" strike="noStrike">
                  <a:solidFill>
                    <a:srgbClr val="002b5d"/>
                  </a:solidFill>
                  <a:latin typeface="Arial"/>
                  <a:ea typeface="Arial"/>
                </a:rPr>
                <a:t>Apoxi Lead Proj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R. Kern, Dr. D. Röhri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780000" y="5602320"/>
              <a:ext cx="14396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Obsidi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Stokholm, O. Rasmus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3400" y="46245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olaris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T. Neumann, Dr. A. La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1752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Chamele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A. Zimmer, R. Gallo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265880" y="5635800"/>
              <a:ext cx="15256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ydra</a:t>
              </a:r>
              <a:br>
                <a:rPr sz="1000"/>
              </a:b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K. Christians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4280" y="5602320"/>
              <a:ext cx="144000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hilip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33920" y="4633920"/>
              <a:ext cx="146988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Swift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J. Kockmann, M. Hohenleit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044800" y="2238480"/>
              <a:ext cx="1469880" cy="55080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Program Manageme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Wireless Connectiv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Hasan Karaceli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89640" y="2247840"/>
              <a:ext cx="1468440" cy="536760"/>
            </a:xfrm>
            <a:prstGeom prst="rect">
              <a:avLst/>
            </a:prstGeom>
            <a:solidFill>
              <a:srgbClr val="cce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Platfor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SG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Dr. R. Hartman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508720" y="5627520"/>
              <a:ext cx="1439640" cy="5511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Jer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L. Bond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502240" y="3830760"/>
              <a:ext cx="1440000" cy="55080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Min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U. Barn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41560" y="5602320"/>
              <a:ext cx="1441440" cy="576360"/>
            </a:xfrm>
            <a:prstGeom prst="rect">
              <a:avLst/>
            </a:prstGeom>
            <a:solidFill>
              <a:srgbClr val="ccccff">
                <a:alpha val="90000"/>
              </a:srgbClr>
            </a:solidFill>
            <a:ln w="0">
              <a:noFill/>
            </a:ln>
            <a:effectLst>
              <a:outerShdw dist="17819" dir="2700000" blurRad="0" rotWithShape="0">
                <a:srgbClr val="79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000" spc="-1" strike="noStrike">
                  <a:solidFill>
                    <a:srgbClr val="002b5d"/>
                  </a:solidFill>
                  <a:latin typeface="Arial"/>
                </a:rPr>
                <a:t>TPM Haw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800" spc="-1" strike="noStrike">
                  <a:solidFill>
                    <a:srgbClr val="002b5d"/>
                  </a:solidFill>
                  <a:latin typeface="Arial"/>
                </a:rPr>
                <a:t>C. Dalmose, O. Byrda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06" idx="2"/>
            </p:cNvCxnSpPr>
            <p:nvPr/>
          </p:nvCxnSpPr>
          <p:spPr>
            <a:xfrm>
              <a:off x="4493880" y="1325160"/>
              <a:ext cx="3960" cy="2493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5" name=""/>
            <p:cNvCxnSpPr/>
            <p:nvPr/>
          </p:nvCxnSpPr>
          <p:spPr>
            <a:xfrm flipH="1" flipV="1" rot="5400000">
              <a:off x="2695320" y="2020320"/>
              <a:ext cx="158040" cy="346320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6" name=""/>
            <p:cNvCxnSpPr>
              <a:endCxn id="112" idx="0"/>
            </p:cNvCxnSpPr>
            <p:nvPr/>
          </p:nvCxnSpPr>
          <p:spPr>
            <a:xfrm>
              <a:off x="4500360" y="3673080"/>
              <a:ext cx="3523320" cy="158040"/>
            </a:xfrm>
            <a:prstGeom prst="bentConnector2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27" name=""/>
            <p:cNvCxnSpPr/>
            <p:nvPr/>
          </p:nvCxnSpPr>
          <p:spPr>
            <a:xfrm>
              <a:off x="1907640" y="3673440"/>
              <a:ext cx="1080" cy="1729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8" name=""/>
            <p:cNvCxnSpPr>
              <a:stCxn id="117" idx="0"/>
            </p:cNvCxnSpPr>
            <p:nvPr/>
          </p:nvCxnSpPr>
          <p:spPr>
            <a:xfrm flipH="1" flipV="1" rot="5400000">
              <a:off x="1368000" y="5061960"/>
              <a:ext cx="207000" cy="87372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29" name=""/>
            <p:cNvCxnSpPr/>
            <p:nvPr/>
          </p:nvCxnSpPr>
          <p:spPr>
            <a:xfrm>
              <a:off x="1907640" y="5392800"/>
              <a:ext cx="6141240" cy="240480"/>
            </a:xfrm>
            <a:prstGeom prst="bentConnector2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0" name=""/>
            <p:cNvCxnSpPr>
              <a:endCxn id="114" idx="0"/>
            </p:cNvCxnSpPr>
            <p:nvPr/>
          </p:nvCxnSpPr>
          <p:spPr>
            <a:xfrm flipH="1">
              <a:off x="3623400" y="3673440"/>
              <a:ext cx="2520" cy="9518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1" name=""/>
            <p:cNvCxnSpPr>
              <a:endCxn id="118" idx="0"/>
            </p:cNvCxnSpPr>
            <p:nvPr/>
          </p:nvCxnSpPr>
          <p:spPr>
            <a:xfrm>
              <a:off x="5364000" y="3673440"/>
              <a:ext cx="5760" cy="96120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2" name=""/>
            <p:cNvCxnSpPr/>
            <p:nvPr/>
          </p:nvCxnSpPr>
          <p:spPr>
            <a:xfrm>
              <a:off x="2771280" y="5392800"/>
              <a:ext cx="2520" cy="21672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3" name=""/>
            <p:cNvCxnSpPr>
              <a:stCxn id="113" idx="0"/>
            </p:cNvCxnSpPr>
            <p:nvPr/>
          </p:nvCxnSpPr>
          <p:spPr>
            <a:xfrm flipV="1">
              <a:off x="4500720" y="5392440"/>
              <a:ext cx="2160" cy="2102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4" name=""/>
            <p:cNvCxnSpPr>
              <a:stCxn id="121" idx="0"/>
            </p:cNvCxnSpPr>
            <p:nvPr/>
          </p:nvCxnSpPr>
          <p:spPr>
            <a:xfrm flipH="1" flipV="1">
              <a:off x="6226920" y="5392440"/>
              <a:ext cx="2520" cy="235440"/>
            </a:xfrm>
            <a:prstGeom prst="straightConnector1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135" name=""/>
            <p:cNvCxnSpPr>
              <a:stCxn id="109" idx="3"/>
            </p:cNvCxnSpPr>
            <p:nvPr/>
          </p:nvCxnSpPr>
          <p:spPr>
            <a:xfrm flipV="1">
              <a:off x="3514320" y="3218760"/>
              <a:ext cx="972360" cy="39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6" name=""/>
            <p:cNvCxnSpPr>
              <a:stCxn id="119" idx="3"/>
              <a:endCxn id="120" idx="1"/>
            </p:cNvCxnSpPr>
            <p:nvPr/>
          </p:nvCxnSpPr>
          <p:spPr>
            <a:xfrm>
              <a:off x="3514680" y="2514600"/>
              <a:ext cx="1975680" cy="2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7" name=""/>
            <p:cNvCxnSpPr>
              <a:stCxn id="111" idx="0"/>
            </p:cNvCxnSpPr>
            <p:nvPr/>
          </p:nvCxnSpPr>
          <p:spPr>
            <a:xfrm flipV="1">
              <a:off x="2766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8" name=""/>
            <p:cNvCxnSpPr>
              <a:stCxn id="122" idx="0"/>
            </p:cNvCxnSpPr>
            <p:nvPr/>
          </p:nvCxnSpPr>
          <p:spPr>
            <a:xfrm flipV="1">
              <a:off x="6222600" y="3676320"/>
              <a:ext cx="2520" cy="154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  <p:cxnSp>
          <p:nvCxnSpPr>
            <p:cNvPr id="139" name=""/>
            <p:cNvCxnSpPr>
              <a:stCxn id="107" idx="3"/>
              <a:endCxn id="108" idx="1"/>
            </p:cNvCxnSpPr>
            <p:nvPr/>
          </p:nvCxnSpPr>
          <p:spPr>
            <a:xfrm>
              <a:off x="3513240" y="1788840"/>
              <a:ext cx="19612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4D92-BA60-4823-A9B2-1B1E365FF31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10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PM - ‘Inside Minister’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830160" y="404640"/>
            <a:ext cx="7408800" cy="5931000"/>
            <a:chOff x="830160" y="404640"/>
            <a:chExt cx="7408800" cy="593100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tretch/>
          </p:blipFill>
          <p:spPr>
            <a:xfrm>
              <a:off x="830160" y="773280"/>
              <a:ext cx="7408800" cy="517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2179800" y="359568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1474920" y="5937120"/>
              <a:ext cx="1584360" cy="398520"/>
              <a:chOff x="1474920" y="5937120"/>
              <a:chExt cx="1584360" cy="398520"/>
            </a:xfrm>
          </p:grpSpPr>
          <p:sp>
            <p:nvSpPr>
              <p:cNvPr id="145" name=""/>
              <p:cNvSpPr/>
              <p:nvPr/>
            </p:nvSpPr>
            <p:spPr>
              <a:xfrm>
                <a:off x="1474920" y="5956200"/>
                <a:ext cx="15843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546560" y="5937120"/>
                <a:ext cx="136188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HW    D. Hänse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3440160" y="5927760"/>
              <a:ext cx="1690560" cy="398520"/>
              <a:chOff x="3440160" y="5927760"/>
              <a:chExt cx="1690560" cy="398520"/>
            </a:xfrm>
          </p:grpSpPr>
          <p:sp>
            <p:nvSpPr>
              <p:cNvPr id="148" name=""/>
              <p:cNvSpPr/>
              <p:nvPr/>
            </p:nvSpPr>
            <p:spPr>
              <a:xfrm>
                <a:off x="3440160" y="5946840"/>
                <a:ext cx="169056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597120" y="5927760"/>
                <a:ext cx="13683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Program Mgmt SW    U. Geig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916360" y="555624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06840" y="5554800"/>
              <a:ext cx="0" cy="3888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427640" y="404640"/>
              <a:ext cx="1512720" cy="550800"/>
              <a:chOff x="4427640" y="404640"/>
              <a:chExt cx="1512720" cy="550800"/>
            </a:xfrm>
          </p:grpSpPr>
          <p:sp>
            <p:nvSpPr>
              <p:cNvPr id="153" name=""/>
              <p:cNvSpPr/>
              <p:nvPr/>
            </p:nvSpPr>
            <p:spPr>
              <a:xfrm>
                <a:off x="4427640" y="423720"/>
                <a:ext cx="1512720" cy="360360"/>
              </a:xfrm>
              <a:prstGeom prst="roundRect">
                <a:avLst>
                  <a:gd name="adj" fmla="val 16667"/>
                </a:avLst>
              </a:prstGeom>
              <a:solidFill>
                <a:srgbClr val="cce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427640" y="404640"/>
                <a:ext cx="13683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TPM PF</a:t>
                </a:r>
                <a:br>
                  <a:rPr sz="1000"/>
                </a:br>
                <a:r>
                  <a:rPr b="1" lang="de-DE" sz="1000" spc="-1" strike="noStrike">
                    <a:solidFill>
                      <a:srgbClr val="000000"/>
                    </a:solidFill>
                    <a:latin typeface="Minion"/>
                    <a:ea typeface="文鼎中黑"/>
                  </a:rPr>
                  <a:t>    Dr. R.  Hartman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4572000" y="789120"/>
              <a:ext cx="0" cy="504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668-7AA1-40D6-8445-15C6589D26D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80880" y="266400"/>
            <a:ext cx="8439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manage a product is much more than</a:t>
            </a:r>
            <a:br>
              <a:rPr sz="2800"/>
            </a:br>
            <a:r>
              <a:rPr b="1" lang="en-US" sz="2800" spc="-1" strike="noStrike">
                <a:solidFill>
                  <a:srgbClr val="3a0e66"/>
                </a:solidFill>
                <a:latin typeface="Minion"/>
              </a:rPr>
              <a:t>to run a R&amp;D </a:t>
            </a:r>
            <a:endParaRPr b="1" lang="en-US" sz="2800" spc="-1" strike="noStrike">
              <a:solidFill>
                <a:srgbClr val="3a0e66"/>
              </a:solidFill>
              <a:latin typeface="Minio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44720" y="1398600"/>
            <a:ext cx="8406360" cy="4460040"/>
            <a:chOff x="144720" y="1398600"/>
            <a:chExt cx="8406360" cy="4460040"/>
          </a:xfrm>
        </p:grpSpPr>
        <p:sp>
          <p:nvSpPr>
            <p:cNvPr id="158" name=""/>
            <p:cNvSpPr/>
            <p:nvPr/>
          </p:nvSpPr>
          <p:spPr>
            <a:xfrm rot="10800000">
              <a:off x="1058400" y="2997000"/>
              <a:ext cx="7061400" cy="2384280"/>
            </a:xfrm>
            <a:custGeom>
              <a:avLst/>
              <a:gdLst>
                <a:gd name="textAreaLeft" fmla="*/ 826560 w 7061400"/>
                <a:gd name="textAreaRight" fmla="*/ 6234840 w 7061400"/>
                <a:gd name="textAreaTop" fmla="*/ 279000 h 2384280"/>
                <a:gd name="textAreaBottom" fmla="*/ 2105280 h 238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198" y="21600"/>
                  </a:lnTo>
                  <a:lnTo>
                    <a:pt x="1402" y="21600"/>
                  </a:lnTo>
                  <a:close/>
                </a:path>
              </a:pathLst>
            </a:custGeom>
            <a:solidFill>
              <a:srgbClr val="eaeaea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60520" y="34243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1306440" y="1808280"/>
              <a:ext cx="654120" cy="3671280"/>
              <a:chOff x="1306440" y="1808280"/>
              <a:chExt cx="654120" cy="3671280"/>
            </a:xfrm>
          </p:grpSpPr>
          <p:sp>
            <p:nvSpPr>
              <p:cNvPr id="161" name=""/>
              <p:cNvSpPr/>
              <p:nvPr/>
            </p:nvSpPr>
            <p:spPr>
              <a:xfrm>
                <a:off x="1306440" y="1808280"/>
                <a:ext cx="65412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62936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019240" y="1808280"/>
              <a:ext cx="671400" cy="3671280"/>
              <a:chOff x="2019240" y="1808280"/>
              <a:chExt cx="671400" cy="3671280"/>
            </a:xfrm>
          </p:grpSpPr>
          <p:sp>
            <p:nvSpPr>
              <p:cNvPr id="164" name=""/>
              <p:cNvSpPr/>
              <p:nvPr/>
            </p:nvSpPr>
            <p:spPr>
              <a:xfrm>
                <a:off x="2019240" y="1808280"/>
                <a:ext cx="671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3504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741760" y="1808280"/>
              <a:ext cx="676080" cy="3671280"/>
              <a:chOff x="2741760" y="1808280"/>
              <a:chExt cx="676080" cy="3671280"/>
            </a:xfrm>
          </p:grpSpPr>
          <p:sp>
            <p:nvSpPr>
              <p:cNvPr id="167" name=""/>
              <p:cNvSpPr/>
              <p:nvPr/>
            </p:nvSpPr>
            <p:spPr>
              <a:xfrm>
                <a:off x="2741760" y="1808280"/>
                <a:ext cx="67608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7548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3454560" y="1817640"/>
              <a:ext cx="641160" cy="3668040"/>
              <a:chOff x="3454560" y="1817640"/>
              <a:chExt cx="641160" cy="3668040"/>
            </a:xfrm>
          </p:grpSpPr>
          <p:sp>
            <p:nvSpPr>
              <p:cNvPr id="170" name=""/>
              <p:cNvSpPr/>
              <p:nvPr/>
            </p:nvSpPr>
            <p:spPr>
              <a:xfrm>
                <a:off x="3454560" y="1817640"/>
                <a:ext cx="64116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3771000" y="526536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7121520" y="1808280"/>
              <a:ext cx="698400" cy="3671280"/>
              <a:chOff x="7121520" y="1808280"/>
              <a:chExt cx="698400" cy="3671280"/>
            </a:xfrm>
          </p:grpSpPr>
          <p:sp>
            <p:nvSpPr>
              <p:cNvPr id="173" name=""/>
              <p:cNvSpPr/>
              <p:nvPr/>
            </p:nvSpPr>
            <p:spPr>
              <a:xfrm>
                <a:off x="7121520" y="1808280"/>
                <a:ext cx="698400" cy="358020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466040" y="52588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906480" y="5384880"/>
              <a:ext cx="7345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979560" y="1409400"/>
              <a:ext cx="0" cy="403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862000" y="554508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86360" y="5541840"/>
              <a:ext cx="476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H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07080" y="555156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16200000">
              <a:off x="1324440" y="4161600"/>
              <a:ext cx="205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Drivers, CA, Integr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532320" y="5541840"/>
              <a:ext cx="45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M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6418440" y="1809720"/>
              <a:ext cx="661680" cy="3671640"/>
              <a:chOff x="6418440" y="1809720"/>
              <a:chExt cx="661680" cy="3671640"/>
            </a:xfrm>
          </p:grpSpPr>
          <p:sp>
            <p:nvSpPr>
              <p:cNvPr id="183" name=""/>
              <p:cNvSpPr/>
              <p:nvPr/>
            </p:nvSpPr>
            <p:spPr>
              <a:xfrm>
                <a:off x="6418440" y="1809720"/>
                <a:ext cx="66168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744960" y="526068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6525360" y="5551560"/>
              <a:ext cx="43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C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39080" y="554184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Reg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16200000">
              <a:off x="745200" y="4319280"/>
              <a:ext cx="1722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EA, RF, dig. HW, LP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16200000">
              <a:off x="2104560" y="4221000"/>
              <a:ext cx="191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ppl., Typ. Appr., IOT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16200000">
              <a:off x="2545920" y="3966480"/>
              <a:ext cx="24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Assy. Concept, Mech. Design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20" y="1398600"/>
              <a:ext cx="826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Know H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Magnitu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795800" y="5396040"/>
              <a:ext cx="7552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Spectrum</a:t>
              </a:r>
              <a:br>
                <a:rPr sz="1000"/>
              </a:br>
              <a:r>
                <a:rPr b="0" lang="de-DE" sz="10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of detai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709760" y="2479680"/>
              <a:ext cx="67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TP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4121280" y="1814400"/>
              <a:ext cx="804600" cy="3668040"/>
              <a:chOff x="4121280" y="1814400"/>
              <a:chExt cx="804600" cy="3668040"/>
            </a:xfrm>
          </p:grpSpPr>
          <p:sp>
            <p:nvSpPr>
              <p:cNvPr id="194" name=""/>
              <p:cNvSpPr/>
              <p:nvPr/>
            </p:nvSpPr>
            <p:spPr>
              <a:xfrm>
                <a:off x="4121280" y="1814400"/>
                <a:ext cx="80460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518360" y="526212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4246200" y="5538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TL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7601040" y="2787480"/>
              <a:ext cx="2887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4973760" y="1811160"/>
              <a:ext cx="652320" cy="3668040"/>
              <a:chOff x="4973760" y="1811160"/>
              <a:chExt cx="652320" cy="3668040"/>
            </a:xfrm>
          </p:grpSpPr>
          <p:sp>
            <p:nvSpPr>
              <p:cNvPr id="199" name=""/>
              <p:cNvSpPr/>
              <p:nvPr/>
            </p:nvSpPr>
            <p:spPr>
              <a:xfrm>
                <a:off x="4973760" y="1811160"/>
                <a:ext cx="652320" cy="357732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5600" y="5258880"/>
                <a:ext cx="0" cy="22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03640" y="55450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Q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76840" y="1806480"/>
              <a:ext cx="689040" cy="3671640"/>
              <a:chOff x="5676840" y="1806480"/>
              <a:chExt cx="689040" cy="3671640"/>
            </a:xfrm>
          </p:grpSpPr>
          <p:sp>
            <p:nvSpPr>
              <p:cNvPr id="203" name=""/>
              <p:cNvSpPr/>
              <p:nvPr/>
            </p:nvSpPr>
            <p:spPr>
              <a:xfrm>
                <a:off x="5676840" y="1806480"/>
                <a:ext cx="689040" cy="3580560"/>
              </a:xfrm>
              <a:custGeom>
                <a:avLst/>
                <a:gdLst/>
                <a:ahLst/>
                <a:rect l="l" t="t" r="r" b="b"/>
                <a:pathLst>
                  <a:path w="545" h="1142">
                    <a:moveTo>
                      <a:pt x="0" y="1134"/>
                    </a:moveTo>
                    <a:cubicBezTo>
                      <a:pt x="45" y="1138"/>
                      <a:pt x="91" y="1142"/>
                      <a:pt x="136" y="953"/>
                    </a:cubicBezTo>
                    <a:cubicBezTo>
                      <a:pt x="181" y="764"/>
                      <a:pt x="227" y="0"/>
                      <a:pt x="272" y="0"/>
                    </a:cubicBezTo>
                    <a:cubicBezTo>
                      <a:pt x="317" y="0"/>
                      <a:pt x="364" y="764"/>
                      <a:pt x="409" y="953"/>
                    </a:cubicBezTo>
                    <a:cubicBezTo>
                      <a:pt x="454" y="1142"/>
                      <a:pt x="499" y="1138"/>
                      <a:pt x="545" y="113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017040" y="5257440"/>
                <a:ext cx="0" cy="22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" name=""/>
            <p:cNvSpPr/>
            <p:nvPr/>
          </p:nvSpPr>
          <p:spPr>
            <a:xfrm>
              <a:off x="5802480" y="5548320"/>
              <a:ext cx="41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rot="16200000">
              <a:off x="4800600" y="3981960"/>
              <a:ext cx="2404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Contracts, Price Negotiation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6200000">
              <a:off x="5752080" y="4211280"/>
              <a:ext cx="1954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Hotline, Repair Center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rot="16200000">
              <a:off x="6332040" y="4059720"/>
              <a:ext cx="2242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ariant Mgmt, Local Appr.,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6200000">
              <a:off x="2867760" y="3551040"/>
              <a:ext cx="3288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Prod. Tech., Test Tech., Prototype Shop,...</a:t>
              </a:r>
              <a:r>
                <a:rPr b="0" lang="de-DE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6200000">
              <a:off x="4005000" y="3904200"/>
              <a:ext cx="257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Material, Quality, Suppl. Mgmt,..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" name=""/>
            <p:cNvGrpSpPr/>
            <p:nvPr/>
          </p:nvGrpSpPr>
          <p:grpSpPr>
            <a:xfrm>
              <a:off x="3348000" y="4260960"/>
              <a:ext cx="181080" cy="36360"/>
              <a:chOff x="3348000" y="4260960"/>
              <a:chExt cx="181080" cy="36360"/>
            </a:xfrm>
          </p:grpSpPr>
          <p:sp>
            <p:nvSpPr>
              <p:cNvPr id="212" name=""/>
              <p:cNvSpPr/>
              <p:nvPr/>
            </p:nvSpPr>
            <p:spPr>
              <a:xfrm>
                <a:off x="3348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41964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9236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4025880" y="4259160"/>
              <a:ext cx="181080" cy="36360"/>
              <a:chOff x="4025880" y="4259160"/>
              <a:chExt cx="181080" cy="36360"/>
            </a:xfrm>
          </p:grpSpPr>
          <p:sp>
            <p:nvSpPr>
              <p:cNvPr id="216" name=""/>
              <p:cNvSpPr/>
              <p:nvPr/>
            </p:nvSpPr>
            <p:spPr>
              <a:xfrm>
                <a:off x="402588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09752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70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830840" y="4264200"/>
              <a:ext cx="180360" cy="36360"/>
              <a:chOff x="4830840" y="4264200"/>
              <a:chExt cx="180360" cy="36360"/>
            </a:xfrm>
          </p:grpSpPr>
          <p:sp>
            <p:nvSpPr>
              <p:cNvPr id="220" name=""/>
              <p:cNvSpPr/>
              <p:nvPr/>
            </p:nvSpPr>
            <p:spPr>
              <a:xfrm>
                <a:off x="4830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0212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7484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667640" y="4260960"/>
              <a:ext cx="181080" cy="36360"/>
              <a:chOff x="7667640" y="4260960"/>
              <a:chExt cx="181080" cy="36360"/>
            </a:xfrm>
          </p:grpSpPr>
          <p:sp>
            <p:nvSpPr>
              <p:cNvPr id="224" name=""/>
              <p:cNvSpPr/>
              <p:nvPr/>
            </p:nvSpPr>
            <p:spPr>
              <a:xfrm>
                <a:off x="766764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39280" y="42609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812000" y="42609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"/>
            <p:cNvGrpSpPr/>
            <p:nvPr/>
          </p:nvGrpSpPr>
          <p:grpSpPr>
            <a:xfrm>
              <a:off x="7000920" y="4264200"/>
              <a:ext cx="181080" cy="36360"/>
              <a:chOff x="7000920" y="4264200"/>
              <a:chExt cx="181080" cy="36360"/>
            </a:xfrm>
          </p:grpSpPr>
          <p:sp>
            <p:nvSpPr>
              <p:cNvPr id="228" name=""/>
              <p:cNvSpPr/>
              <p:nvPr/>
            </p:nvSpPr>
            <p:spPr>
              <a:xfrm>
                <a:off x="700092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0725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145280" y="426420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291360" y="4264200"/>
              <a:ext cx="180360" cy="36360"/>
              <a:chOff x="6291360" y="4264200"/>
              <a:chExt cx="180360" cy="36360"/>
            </a:xfrm>
          </p:grpSpPr>
          <p:sp>
            <p:nvSpPr>
              <p:cNvPr id="232" name=""/>
              <p:cNvSpPr/>
              <p:nvPr/>
            </p:nvSpPr>
            <p:spPr>
              <a:xfrm>
                <a:off x="6291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362640" y="4264200"/>
                <a:ext cx="3600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435360" y="426420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556240" y="4259160"/>
              <a:ext cx="181080" cy="36360"/>
              <a:chOff x="5556240" y="4259160"/>
              <a:chExt cx="181080" cy="36360"/>
            </a:xfrm>
          </p:grpSpPr>
          <p:sp>
            <p:nvSpPr>
              <p:cNvPr id="236" name=""/>
              <p:cNvSpPr/>
              <p:nvPr/>
            </p:nvSpPr>
            <p:spPr>
              <a:xfrm>
                <a:off x="555624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627880" y="4259160"/>
                <a:ext cx="3636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700600" y="4259160"/>
                <a:ext cx="36720" cy="363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A4E6-9EE9-4165-A088-32BCC225F6B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a0e66"/>
                </a:solidFill>
                <a:latin typeface="Minion"/>
              </a:rPr>
              <a:t>Vision – Mission - Objectives</a:t>
            </a: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40" name=""/>
          <p:cNvSpPr/>
          <p:nvPr/>
        </p:nvSpPr>
        <p:spPr>
          <a:xfrm>
            <a:off x="1965240" y="3747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1814400"/>
            <a:ext cx="8675640" cy="22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to tear-down department boarders (related to products) !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‚Inside Minister‘  to manage all BenQ Mobile inside  technical topics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CPM feeling: With TPM I‘m the king (customer) – I get what I want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: „Can – do“ attitu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PM manages the product contract with CPM (customer) 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64000" y="5445000"/>
            <a:ext cx="3390480" cy="617400"/>
            <a:chOff x="5364000" y="5445000"/>
            <a:chExt cx="3390480" cy="617400"/>
          </a:xfrm>
        </p:grpSpPr>
        <p:sp>
          <p:nvSpPr>
            <p:cNvPr id="243" name=""/>
            <p:cNvSpPr/>
            <p:nvPr/>
          </p:nvSpPr>
          <p:spPr>
            <a:xfrm>
              <a:off x="5364000" y="5473440"/>
              <a:ext cx="3371760" cy="588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5406120" y="5511600"/>
              <a:ext cx="3223440" cy="533880"/>
              <a:chOff x="5406120" y="5511600"/>
              <a:chExt cx="3223440" cy="533880"/>
            </a:xfrm>
          </p:grpSpPr>
          <p:sp>
            <p:nvSpPr>
              <p:cNvPr id="245" name=""/>
              <p:cNvSpPr/>
              <p:nvPr/>
            </p:nvSpPr>
            <p:spPr>
              <a:xfrm>
                <a:off x="5406120" y="5514480"/>
                <a:ext cx="1896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mpetitiveness</a:t>
                </a:r>
                <a:r>
                  <a:rPr b="0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=</a:t>
                </a:r>
                <a:r>
                  <a:rPr b="0" lang="de-DE" sz="2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56440" y="5511600"/>
                <a:ext cx="682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Valu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188120" y="5738400"/>
                <a:ext cx="570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Cos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765920" y="5621040"/>
                <a:ext cx="86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400" spc="-1" strike="noStrike">
                    <a:solidFill>
                      <a:srgbClr val="3a0e66"/>
                    </a:solidFill>
                    <a:latin typeface="Minion"/>
                    <a:ea typeface="文鼎中黑"/>
                  </a:rPr>
                  <a:t>x Spee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187760" y="5782680"/>
                <a:ext cx="57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7653600" y="544500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487000" y="5568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623360" y="57225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3a0e66"/>
                  </a:solidFill>
                  <a:latin typeface="Minion"/>
                  <a:ea typeface="文鼎中黑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66560" y="3978360"/>
            <a:ext cx="8676000" cy="22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M Time to market (DS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TV Time to volume (full ru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Quality (return rate)</a:t>
            </a:r>
            <a:br>
              <a:rPr sz="1600"/>
            </a:br>
            <a:r>
              <a:rPr b="0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A: 4,5%  C/M: 9,0%  S/SL: 12,0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TCO Total cost of ownership</a:t>
            </a:r>
            <a:br>
              <a:rPr sz="1600"/>
            </a:br>
            <a:r>
              <a:rPr b="0" lang="de-DE" sz="1800" spc="-1" strike="noStrike">
                <a:solidFill>
                  <a:srgbClr val="3a0e66"/>
                </a:solidFill>
                <a:latin typeface="Minion"/>
                <a:ea typeface="文鼎中黑"/>
              </a:rPr>
              <a:t>     </a:t>
            </a:r>
            <a:r>
              <a:rPr b="0" lang="de-DE" sz="1400" spc="-1" strike="noStrike">
                <a:solidFill>
                  <a:srgbClr val="3a0e66"/>
                </a:solidFill>
                <a:latin typeface="Minion"/>
                <a:ea typeface="文鼎中黑"/>
              </a:rPr>
              <a:t>BoM,Conversion cost, Licencees, Make or bu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69800" y="860400"/>
            <a:ext cx="6697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a0e66"/>
                </a:solidFill>
                <a:latin typeface="Minion"/>
                <a:ea typeface="文鼎中黑"/>
              </a:rPr>
              <a:t>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a0e66"/>
                </a:solidFill>
                <a:latin typeface="Wingdings"/>
                <a:ea typeface="Wingdings"/>
              </a:rPr>
              <a:t>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 „</a:t>
            </a:r>
            <a:r>
              <a:rPr b="0" lang="de-DE" sz="1600" spc="-1" strike="noStrike">
                <a:solidFill>
                  <a:srgbClr val="3a0e66"/>
                </a:solidFill>
                <a:latin typeface="Minion"/>
                <a:ea typeface="文鼎中黑"/>
              </a:rPr>
              <a:t>Simply the Best“            People, Processes, Produ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512-8C97-424B-805F-7F022B38AB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4560" y="404280"/>
            <a:ext cx="7391160" cy="7621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3a0e66"/>
                </a:solidFill>
                <a:latin typeface="Minion"/>
              </a:rPr>
              <a:t>Organisation of BO  01.03.2006</a:t>
            </a:r>
            <a:br>
              <a:rPr sz="3200"/>
            </a:br>
            <a:endParaRPr b="1" lang="en-US" sz="3200" spc="-1" strike="noStrike">
              <a:solidFill>
                <a:srgbClr val="3a0e66"/>
              </a:solidFill>
              <a:latin typeface="Minion"/>
            </a:endParaRPr>
          </a:p>
        </p:txBody>
      </p:sp>
      <p:sp>
        <p:nvSpPr>
          <p:cNvPr id="256" name=""/>
          <p:cNvSpPr/>
          <p:nvPr/>
        </p:nvSpPr>
        <p:spPr>
          <a:xfrm>
            <a:off x="4362480" y="907920"/>
            <a:ext cx="1149480" cy="59220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BM PM BO</a:t>
            </a:r>
            <a:br>
              <a:rPr sz="1200"/>
            </a:b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96984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      </a:t>
            </a: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TPM BO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000" spc="-1" strike="noStrike">
                <a:solidFill>
                  <a:srgbClr val="002b5d"/>
                </a:solidFill>
                <a:latin typeface="Arial"/>
              </a:rPr>
              <a:t>Brigitte Flier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81160" y="3932280"/>
            <a:ext cx="1028880" cy="44460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ndreas-Joachim Merg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513400" y="1684440"/>
            <a:ext cx="88884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Thomas Janz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168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V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va Lundgr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43480" y="3932280"/>
            <a:ext cx="969840" cy="5191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tin Zei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ank Steinkoh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9640" y="981000"/>
            <a:ext cx="968400" cy="493920"/>
          </a:xfrm>
          <a:prstGeom prst="rect">
            <a:avLst/>
          </a:prstGeom>
          <a:solidFill>
            <a:srgbClr val="f9fda1"/>
          </a:solidFill>
          <a:ln w="0">
            <a:noFill/>
          </a:ln>
          <a:effectLst>
            <a:outerShdw dist="17819" dir="2700000" blurRad="0" rotWithShape="0">
              <a:srgbClr val="9497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ssis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800" spc="-1" strike="noStrike">
                <a:solidFill>
                  <a:srgbClr val="002b5d"/>
                </a:solidFill>
                <a:latin typeface="Arial"/>
              </a:rPr>
              <a:t>Alexandra Mül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424240" y="1628640"/>
            <a:ext cx="1220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4480" y="1628640"/>
            <a:ext cx="6012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00880" y="1628640"/>
            <a:ext cx="6660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363760" y="1700280"/>
            <a:ext cx="12060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32560" y="1684440"/>
            <a:ext cx="102888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BO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Michael Ru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648560" y="1684440"/>
            <a:ext cx="12114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G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Edmund Trage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69840" y="2276640"/>
            <a:ext cx="1081080" cy="647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ristina Nor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Karl Satt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ojing Sh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nnette Klau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M. Fernande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82760" y="2276640"/>
            <a:ext cx="1211400" cy="143964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tefanie Weig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abine Birkmei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 Der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Doris Kurtenba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Karin Falkenberg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orsten Stoff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Thierry Heli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ichaela Lutz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tefan Gass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rgarete Walldorf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Faulhab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Mark Lukaschi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s Natalie Kaupe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20760" y="1684440"/>
            <a:ext cx="103032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Applica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ke Bartelheim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422600" y="1684440"/>
            <a:ext cx="970200" cy="503280"/>
          </a:xfrm>
          <a:prstGeom prst="rect">
            <a:avLst/>
          </a:prstGeom>
          <a:gradFill rotWithShape="0">
            <a:gsLst>
              <a:gs pos="0">
                <a:srgbClr val="bad1e8"/>
              </a:gs>
              <a:gs pos="100000">
                <a:srgbClr val="cfdfee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f7c8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2b5d"/>
                </a:solidFill>
                <a:latin typeface="Arial"/>
              </a:rPr>
              <a:t>PHA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2b5d"/>
                </a:solidFill>
                <a:latin typeface="Arial"/>
              </a:rPr>
              <a:t>Andrea Hein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52920" y="2276640"/>
            <a:ext cx="1030320" cy="288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Yvonne Schulz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David Hön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62800" y="2276640"/>
            <a:ext cx="998640" cy="72072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Klenner*Mr. W. Leist Gutman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Helmut Wer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anuela Cebulla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8560" y="2268360"/>
            <a:ext cx="1211400" cy="800280"/>
          </a:xfrm>
          <a:prstGeom prst="rect">
            <a:avLst/>
          </a:prstGeom>
          <a:solidFill>
            <a:srgbClr val="ccecff"/>
          </a:solidFill>
          <a:ln w="0">
            <a:noFill/>
          </a:ln>
          <a:effectLst>
            <a:outerShdw dist="17819" dir="2700000" blurRad="0" rotWithShape="0">
              <a:srgbClr val="79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gitte  Gegner 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Olaf Epd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elson Mendoz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xel Wolf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Olga Funk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Adriana Campos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Britta Ballhau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5160" y="3932280"/>
            <a:ext cx="109080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S Schlusch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Christoph Link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9572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Nicole Blu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Sebastian Kornat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Larissa Banusc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Lars Buchweitz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9572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Friedrich Hor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92880" y="3932280"/>
            <a:ext cx="103032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Michaela Endrizz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 Erika Molas-Co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92880" y="4508640"/>
            <a:ext cx="118080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ma Ghahremani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588000" y="4005360"/>
            <a:ext cx="1000080" cy="43344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Nicole Koh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. Maiel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58280" y="3932280"/>
            <a:ext cx="1211040" cy="50472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s. Geraldine Grein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Wolfgang Brand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s. Ren Berger Weya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  <a:ea typeface="文鼎中黑"/>
              </a:rPr>
              <a:t>Mr. Alexander Fran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658280" y="4508640"/>
            <a:ext cx="1211040" cy="2156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7819" dir="2700000" blurRad="0" rotWithShape="0">
              <a:srgbClr val="7998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Mr. Adam Mahfoud </a:t>
            </a: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4508640"/>
            <a:ext cx="5238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0" tIns="3600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2b5d"/>
                </a:solidFill>
                <a:latin typeface="Arial"/>
              </a:rPr>
              <a:t>Studen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8526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a0e66"/>
                </a:solidFill>
                <a:latin typeface="Arial"/>
                <a:ea typeface="文鼎中黑"/>
              </a:rPr>
              <a:t>  </a:t>
            </a: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4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09800" y="4149720"/>
            <a:ext cx="61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3a0e66"/>
                </a:solidFill>
                <a:latin typeface="Arial"/>
                <a:ea typeface="文鼎中黑"/>
              </a:rPr>
              <a:t>+ 2N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EBE3-D5F3-45E7-8733-A624B5F3FEA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11:20:28Z</dcterms:created>
  <dc:creator>eve.huang</dc:creator>
  <dc:description/>
  <dc:language>en-US</dc:language>
  <cp:lastModifiedBy>Peter Farrenkothen</cp:lastModifiedBy>
  <dcterms:modified xsi:type="dcterms:W3CDTF">2006-03-15T16:32:56Z</dcterms:modified>
  <cp:revision>111</cp:revision>
  <dc:subject/>
  <dc:title>PowerPoint 簡報</dc:title>
</cp:coreProperties>
</file>