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69B-D8CE-4F9F-8BE1-C3F674E0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70E-9F01-49C0-8888-657201F7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9BF-3696-4E2D-970E-9F465CC2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F57-B476-4099-8306-B2FA3915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53B-0B82-453B-8C79-A0D469A3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285-88E3-40DA-A4A6-04359593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64F-3D27-40EA-9BCD-C3BF15A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8B9-BC0A-4F51-A487-13617C4A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DF6-CF51-4E0A-B42F-4CF0B49D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28F-8B37-45BB-B83B-F38F8DB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9F7-F1E2-4DFB-819F-97A42E9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CF0-10DE-4889-9EF4-FE99C3CE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028000" y="333360"/>
            <a:ext cx="431640" cy="287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6DB4-A9B1-40A2-8301-3D9F3AFF360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5/17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97920"/>
            <a:ext cx="889344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 (DRAFT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-199800" y="898560"/>
            <a:ext cx="9032760" cy="5133960"/>
            <a:chOff x="-199800" y="898560"/>
            <a:chExt cx="9032760" cy="5133960"/>
          </a:xfrm>
        </p:grpSpPr>
        <p:sp>
          <p:nvSpPr>
            <p:cNvPr id="46" name=""/>
            <p:cNvSpPr/>
            <p:nvPr/>
          </p:nvSpPr>
          <p:spPr>
            <a:xfrm>
              <a:off x="3165480" y="898560"/>
              <a:ext cx="287964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Head</a:t>
              </a:r>
              <a:br>
                <a:rPr sz="1200"/>
              </a:b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7880" y="898560"/>
              <a:ext cx="125892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ecret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nke Wol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" name=""/>
            <p:cNvCxnSpPr>
              <a:endCxn id="47" idx="1"/>
            </p:cNvCxnSpPr>
            <p:nvPr/>
          </p:nvCxnSpPr>
          <p:spPr>
            <a:xfrm flipV="1">
              <a:off x="6044760" y="1173960"/>
              <a:ext cx="483480" cy="720"/>
            </a:xfrm>
            <a:prstGeom prst="bentConnector3">
              <a:avLst>
                <a:gd name="adj1" fmla="val 26527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2728800" y="2050920"/>
              <a:ext cx="1333440" cy="31975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MCH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Kock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Neu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Peter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m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Watz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Weiga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Wie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M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Crutziger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T. A. Engelhardt 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Hohenleit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A. Lan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  <a:ea typeface="文鼎中黑"/>
                </a:rPr>
                <a:t>M. Schwarz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  <a:ea typeface="文鼎中黑"/>
                </a:rPr>
                <a:t>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26040" y="2041560"/>
              <a:ext cx="1258920" cy="431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9520" y="2041560"/>
              <a:ext cx="1333440" cy="43164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MG PH TPM 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B. Flier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0"/>
              <a:endCxn id="46" idx="2"/>
            </p:cNvCxnSpPr>
            <p:nvPr/>
          </p:nvCxnSpPr>
          <p:spPr>
            <a:xfrm flipV="1" rot="16200000">
              <a:off x="6089760" y="-35280"/>
              <a:ext cx="592560" cy="3561480"/>
            </a:xfrm>
            <a:prstGeom prst="bentConnector3">
              <a:avLst>
                <a:gd name="adj1" fmla="val 48936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3" name=""/>
            <p:cNvSpPr/>
            <p:nvPr/>
          </p:nvSpPr>
          <p:spPr>
            <a:xfrm>
              <a:off x="5111640" y="2048040"/>
              <a:ext cx="1322640" cy="32004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Bet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Feldhof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Ke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Zim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R&amp;D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Alkämp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Gallos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Röhrig</a:t>
              </a:r>
              <a:r>
                <a:rPr b="1" lang="en-US" sz="1000" spc="-1" strike="noStrike" baseline="30000">
                  <a:solidFill>
                    <a:srgbClr val="002b5d"/>
                  </a:solidFill>
                  <a:latin typeface="Arial"/>
                </a:rPr>
                <a:t>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1800" y="3249720"/>
              <a:ext cx="1332000" cy="199872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TPM platfo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U. Gei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. Gö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D. Häns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 Karaceli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A. Klop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M. O. Passau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0360" y="2041560"/>
              <a:ext cx="1332000" cy="102708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.-P. Farrenkoth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J. Schwarpl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   </a:t>
              </a: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. Spit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46" idx="2"/>
              <a:endCxn id="55" idx="1"/>
            </p:cNvCxnSpPr>
            <p:nvPr/>
          </p:nvCxnSpPr>
          <p:spPr>
            <a:xfrm rot="5400000">
              <a:off x="1929600" y="-120240"/>
              <a:ext cx="1105920" cy="4245120"/>
            </a:xfrm>
            <a:prstGeom prst="bentConnector4">
              <a:avLst>
                <a:gd name="adj1" fmla="val 27352"/>
                <a:gd name="adj2" fmla="val 105351"/>
              </a:avLst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5" idx="1"/>
              <a:endCxn id="54" idx="1"/>
            </p:cNvCxnSpPr>
            <p:nvPr/>
          </p:nvCxnSpPr>
          <p:spPr>
            <a:xfrm flipH="1" flipV="1" rot="10800000">
              <a:off x="360360" y="2554920"/>
              <a:ext cx="1800" cy="1694520"/>
            </a:xfrm>
            <a:prstGeom prst="bentConnector3">
              <a:avLst>
                <a:gd name="adj1" fmla="val -15775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7499520" y="2666880"/>
              <a:ext cx="1333440" cy="33656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P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B. Flierl (act.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App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Bartelheim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V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Lundg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Taipeh Coor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A. Hein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T. Jan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C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M. R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100" spc="-1" strike="noStrike">
                  <a:solidFill>
                    <a:srgbClr val="002b5d"/>
                  </a:solidFill>
                  <a:latin typeface="Arial"/>
                </a:rPr>
                <a:t>COM GP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000" spc="-1" strike="noStrike">
                  <a:solidFill>
                    <a:srgbClr val="002b5d"/>
                  </a:solidFill>
                  <a:latin typeface="Arial"/>
                </a:rPr>
                <a:t>E. Trage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/>
            <p:nvPr/>
          </p:nvCxnSpPr>
          <p:spPr>
            <a:xfrm flipV="1">
              <a:off x="8165880" y="2482200"/>
              <a:ext cx="1080" cy="183240"/>
            </a:xfrm>
            <a:prstGeom prst="bentConnector2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endCxn id="49" idx="1"/>
            </p:cNvCxnSpPr>
            <p:nvPr/>
          </p:nvCxnSpPr>
          <p:spPr>
            <a:xfrm flipH="1" flipV="1" rot="10800000">
              <a:off x="2522880" y="1744560"/>
              <a:ext cx="206280" cy="1905480"/>
            </a:xfrm>
            <a:prstGeom prst="bentConnector3">
              <a:avLst>
                <a:gd name="adj1" fmla="val -103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/>
            <p:nvPr/>
          </p:nvCxnSpPr>
          <p:spPr>
            <a:xfrm flipH="1" rot="16200000">
              <a:off x="4055760" y="2594520"/>
              <a:ext cx="1905840" cy="205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"/>
            <p:cNvSpPr/>
            <p:nvPr/>
          </p:nvSpPr>
          <p:spPr>
            <a:xfrm>
              <a:off x="-199800" y="5513400"/>
              <a:ext cx="2538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1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O. Frie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 baseline="30000">
                  <a:solidFill>
                    <a:srgbClr val="3a0e66"/>
                  </a:solidFill>
                  <a:latin typeface="Minion"/>
                  <a:ea typeface="文鼎中黑"/>
                </a:rPr>
                <a:t>2)</a:t>
              </a: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Report to R. Hartman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5-19T06:25:30Z</dcterms:modified>
  <cp:revision>146</cp:revision>
  <dc:subject/>
  <dc:title>PowerPoint 簡報</dc:title>
</cp:coreProperties>
</file>