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17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14.png" ContentType="image/png"/>
  <Override PartName="/ppt/media/image5.png" ContentType="image/pn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19FF61E-B8B4-465D-A633-19BA04E9E8E3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224D0F-E834-4701-97A7-DCCC2B891ACA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552920"/>
            <a:ext cx="55404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DA96F79-D4C2-4FB4-BD8C-559BF9101355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552920"/>
            <a:ext cx="55404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356B6C01-FA3B-44A9-8DF6-87B639FFF08D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hyperlink" Target="http://www.phoneyworld.com/handsets/overview.aspx?phone=siemens_a70" TargetMode="External"/><Relationship Id="rId10" Type="http://schemas.openxmlformats.org/officeDocument/2006/relationships/image" Target="../media/image12.png"/><Relationship Id="rId11" Type="http://schemas.openxmlformats.org/officeDocument/2006/relationships/hyperlink" Target="http://www.phoneyworld.com/handsets/overview.aspx?phone=siemens_a75" TargetMode="External"/><Relationship Id="rId12" Type="http://schemas.openxmlformats.org/officeDocument/2006/relationships/image" Target="../media/image13.png"/><Relationship Id="rId13" Type="http://schemas.openxmlformats.org/officeDocument/2006/relationships/hyperlink" Target="http://www.phoneyworld.com/handsets/overview.aspx?phone=siemens_ax75" TargetMode="External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320" y="4211640"/>
            <a:ext cx="845820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Minion"/>
              </a:rPr>
              <a:t>Webcast / All-hands Meet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409680" y="5095800"/>
            <a:ext cx="4572000" cy="76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lemens J. Jo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unich – March 17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4680" y="1576440"/>
            <a:ext cx="342108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298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ales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880" y="1038240"/>
            <a:ext cx="82472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84320" indent="-1828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inforcement of regional management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Direct reporting line to CEO – No Global Sales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sia responsibilities reassigned to H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Denis Morel will assume responsibility for Western Eur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Josef Forer is nominated as Eastern Europe H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He will assume regional coordination and be a member of the Extended Management Board (EM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MEA will be assigned to 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alignment of Sales BA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gional Business Administration (RM BA) and Sales Operations and Controlling (SOC) need to be closer aligned to further streamline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Realigning the Marketing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514520"/>
            <a:ext cx="8305920" cy="38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mplementary partner to Category Management where both organizations share ONE GOAL of achieving profitable growt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arketing to focus on building the brand, championing market development and product communica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ove of field marketing into regions to be closer to the sales reg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arketing Operations (MO) function installed to drive optimization of roles and processes to stabilize and continuously improve the global marketing organization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077320" y="3646440"/>
            <a:ext cx="0" cy="163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35400" y="1954080"/>
            <a:ext cx="0" cy="16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58920" y="3009960"/>
            <a:ext cx="3316320" cy="30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62160" y="2185920"/>
            <a:ext cx="3306600" cy="8240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51000" y="1103400"/>
            <a:ext cx="3313080" cy="86364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54320" y="3782880"/>
            <a:ext cx="100044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84120" y="3782880"/>
            <a:ext cx="144324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87480" y="3782880"/>
            <a:ext cx="121140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3782880"/>
            <a:ext cx="107496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00960" y="3782880"/>
            <a:ext cx="156996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8400" y="3782880"/>
            <a:ext cx="100044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200" y="281160"/>
            <a:ext cx="7010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Global Marketing Organization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3" name=""/>
          <p:cNvSpPr/>
          <p:nvPr/>
        </p:nvSpPr>
        <p:spPr>
          <a:xfrm>
            <a:off x="1093680" y="5675400"/>
            <a:ext cx="259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ichard Le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8360" y="5099040"/>
            <a:ext cx="259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18360" y="1228680"/>
            <a:ext cx="4021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hief Marketing Officer (C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Richard Le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8440" y="2151000"/>
            <a:ext cx="38656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 Operations (MO)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nagement &amp; CMO Deputy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9080" y="3792600"/>
            <a:ext cx="125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ra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tefan Lo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3800" y="3790800"/>
            <a:ext cx="193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ccount Market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&amp;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m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channewitz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5360" y="3772080"/>
            <a:ext cx="133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evina Ken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5400" y="3772080"/>
            <a:ext cx="112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Brand 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Nina Bra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91400" y="3772080"/>
            <a:ext cx="12474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Intellig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thia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Gil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37320" y="3784680"/>
            <a:ext cx="165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WE, EE, LAM,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2760" y="295272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MO/MO Ass. F. Biberge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448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97360" y="361800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5624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8624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4488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6320" y="5235480"/>
            <a:ext cx="474840" cy="3272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2800" y="5775480"/>
            <a:ext cx="474480" cy="32688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68760" y="154296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75240" y="263988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07000" y="1527120"/>
            <a:ext cx="0" cy="105732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07000" y="2201760"/>
            <a:ext cx="29556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560" y="1793880"/>
            <a:ext cx="135072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28400" y="1851120"/>
            <a:ext cx="153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usi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lke Cor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69080" y="360684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80120" y="3782880"/>
            <a:ext cx="124308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4760" y="3772080"/>
            <a:ext cx="14760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Mk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Suppo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Andre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u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960" y="360684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56480" y="35942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3320" y="50400"/>
            <a:ext cx="811836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Realigning the Category Management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98520"/>
            <a:ext cx="8601120" cy="44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mplementary partner to Global Marketing where both organizations share ONE GOAL of achieving profitable growt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Develop the four categories through product development, portfolio and lifecycle management 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ategory Managers to drive the portfolio process and product roadmap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Translate the expected market requirements into marketable value proposi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Kickoff of innovative projects to address mid-term market disrup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Reassign technical functions (e.g. SW architecture, etc.) to R&amp;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Assign IPR and standardization resources to BMG ISR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" y="5115240"/>
            <a:ext cx="810252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Details of transfer will be specified within March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Category Management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6" name=""/>
          <p:cNvSpPr/>
          <p:nvPr/>
        </p:nvSpPr>
        <p:spPr>
          <a:xfrm>
            <a:off x="5006880" y="17845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91240" y="17845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9600" y="849240"/>
            <a:ext cx="4608360" cy="6494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Category Management</a:t>
            </a:r>
            <a:br>
              <a:rPr sz="20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hil Mulholland &amp; Harrison Chang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192888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Hans-Joachim G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64780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Image &amp;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Bettina Siegw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36852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Affordable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Katrin Bra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408924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Pa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tefan Re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480852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VA Enhanc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Gernot v. Natz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30880" y="1928880"/>
            <a:ext cx="21574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ortfolio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r. Sebastian Ha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43240" y="1928880"/>
            <a:ext cx="1800360" cy="1109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nov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echnolog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Uwe Syd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59240" y="3181320"/>
            <a:ext cx="15843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Innovation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59240" y="3902040"/>
            <a:ext cx="1584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echnology &amp;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19960" y="6032520"/>
            <a:ext cx="1800000" cy="649440"/>
          </a:xfrm>
          <a:prstGeom prst="rect">
            <a:avLst/>
          </a:prstGeom>
          <a:solidFill>
            <a:srgbClr val="e3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nsumer Ins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Gilo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19960" y="2647800"/>
            <a:ext cx="1800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Portfolio Strategy &amp;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19960" y="3368520"/>
            <a:ext cx="1800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Key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Strategy &amp; Mg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19960" y="4087800"/>
            <a:ext cx="1800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he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19960" y="5097600"/>
            <a:ext cx="180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pplications &amp; </a:t>
            </a: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Partner Developmt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9240" y="16416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06880" y="17845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14880" y="3035160"/>
            <a:ext cx="0" cy="129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14880" y="4334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14880" y="3540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300360" y="2505240"/>
            <a:ext cx="324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03960" y="28656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03960" y="3656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03960" y="43038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03960" y="5672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5529240"/>
            <a:ext cx="2522520" cy="576360"/>
          </a:xfrm>
          <a:prstGeom prst="flowChartProcess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Taip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hinlung 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178" idx="2"/>
            <a:endCxn id="179" idx="3"/>
          </p:cNvCxnSpPr>
          <p:nvPr/>
        </p:nvCxnSpPr>
        <p:spPr>
          <a:xfrm rot="5400000">
            <a:off x="3026160" y="1459440"/>
            <a:ext cx="71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78" idx="2"/>
            <a:endCxn id="180" idx="3"/>
          </p:cNvCxnSpPr>
          <p:nvPr/>
        </p:nvCxnSpPr>
        <p:spPr>
          <a:xfrm rot="5400000">
            <a:off x="2666520" y="1819080"/>
            <a:ext cx="143892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78" idx="2"/>
            <a:endCxn id="181" idx="3"/>
          </p:cNvCxnSpPr>
          <p:nvPr/>
        </p:nvCxnSpPr>
        <p:spPr>
          <a:xfrm rot="5400000">
            <a:off x="2306160" y="2179440"/>
            <a:ext cx="215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78" idx="2"/>
            <a:endCxn id="182" idx="3"/>
          </p:cNvCxnSpPr>
          <p:nvPr/>
        </p:nvCxnSpPr>
        <p:spPr>
          <a:xfrm rot="5400000">
            <a:off x="1945800" y="2539800"/>
            <a:ext cx="288036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78" idx="2"/>
            <a:endCxn id="183" idx="3"/>
          </p:cNvCxnSpPr>
          <p:nvPr/>
        </p:nvCxnSpPr>
        <p:spPr>
          <a:xfrm rot="5400000">
            <a:off x="1586160" y="2899440"/>
            <a:ext cx="359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78" idx="2"/>
            <a:endCxn id="203" idx="3"/>
          </p:cNvCxnSpPr>
          <p:nvPr/>
        </p:nvCxnSpPr>
        <p:spPr>
          <a:xfrm rot="5400000">
            <a:off x="1227240" y="3261240"/>
            <a:ext cx="4320360" cy="794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 flipH="1">
            <a:off x="3782520" y="16416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084360" y="11383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48360" y="851040"/>
            <a:ext cx="1511280" cy="647640"/>
          </a:xfrm>
          <a:prstGeom prst="flowChartProcess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Roland Schmi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6000" y="5126040"/>
            <a:ext cx="15843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Disrup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13080" y="4259160"/>
            <a:ext cx="0" cy="12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13080" y="55576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16720" y="4594320"/>
            <a:ext cx="1800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User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00720" y="48830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79280" y="-163800"/>
            <a:ext cx="9144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MG Product House Set-Up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easoning for bringing both Product House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9920" y="1776240"/>
            <a:ext cx="0" cy="315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5080" y="993600"/>
            <a:ext cx="8624880" cy="103680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7440" y="993600"/>
            <a:ext cx="2246400" cy="1036800"/>
          </a:xfrm>
          <a:custGeom>
            <a:avLst/>
            <a:gdLst>
              <a:gd name="textAreaLeft" fmla="*/ 0 w 2246400"/>
              <a:gd name="textAreaRight" fmla="*/ 2246760 w 224640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63" y="0"/>
                </a:lnTo>
                <a:lnTo>
                  <a:pt x="21600" y="10800"/>
                </a:lnTo>
                <a:lnTo>
                  <a:pt x="174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BMG Product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62120" y="987480"/>
            <a:ext cx="62978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Realizing synergies / communa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Standardized targets, structures, KPIs &amp;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Simplified structure with clear responsi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Faster alignment of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39800" y="2073240"/>
            <a:ext cx="8120160" cy="1953720"/>
            <a:chOff x="739800" y="2073240"/>
            <a:chExt cx="8120160" cy="1953720"/>
          </a:xfrm>
        </p:grpSpPr>
        <p:sp>
          <p:nvSpPr>
            <p:cNvPr id="224" name=""/>
            <p:cNvSpPr/>
            <p:nvPr/>
          </p:nvSpPr>
          <p:spPr>
            <a:xfrm>
              <a:off x="755640" y="2109960"/>
              <a:ext cx="8104320" cy="126036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800" y="2109960"/>
              <a:ext cx="1717560" cy="126036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260360"/>
                <a:gd name="textAreaBottom" fmla="*/ 1260720 h 12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R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Research &amp;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62120" y="2073240"/>
              <a:ext cx="6297840" cy="19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Increased efficiency – reuse of technologies &amp; higher util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Clearer program responsi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ore speed and market flexibility than totally centralistic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Global systems &amp; software architecture, predevelopments &amp; innov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Developing global platform strate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-  Alignment needs on system concept and proc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39800" y="3446640"/>
            <a:ext cx="8120160" cy="1333800"/>
            <a:chOff x="739800" y="3446640"/>
            <a:chExt cx="8120160" cy="1333800"/>
          </a:xfrm>
        </p:grpSpPr>
        <p:sp>
          <p:nvSpPr>
            <p:cNvPr id="228" name=""/>
            <p:cNvSpPr/>
            <p:nvPr/>
          </p:nvSpPr>
          <p:spPr>
            <a:xfrm>
              <a:off x="755640" y="3454560"/>
              <a:ext cx="8104320" cy="108576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800" y="3454560"/>
              <a:ext cx="1717560" cy="108576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TPM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Technical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Product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62120" y="3446640"/>
              <a:ext cx="62978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Driving product realization across all Product Hous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SPEED and COST focus (T2M, T2V as well as product cost, quali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Project management excell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End2end responsibility – from cradle to gra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-  Potential conflicts with product line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39800" y="4611600"/>
            <a:ext cx="8120160" cy="941400"/>
            <a:chOff x="739800" y="4611600"/>
            <a:chExt cx="8120160" cy="941400"/>
          </a:xfrm>
        </p:grpSpPr>
        <p:sp>
          <p:nvSpPr>
            <p:cNvPr id="232" name=""/>
            <p:cNvSpPr/>
            <p:nvPr/>
          </p:nvSpPr>
          <p:spPr>
            <a:xfrm>
              <a:off x="755640" y="4611600"/>
              <a:ext cx="8104320" cy="9414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800" y="4611600"/>
              <a:ext cx="1717560" cy="94140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SP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Strategic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Procu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62120" y="4888080"/>
              <a:ext cx="62978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Synergy, Simplification, Better Resources Sharing &amp; Negotiation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39800" y="5629320"/>
            <a:ext cx="8120160" cy="1229760"/>
            <a:chOff x="739800" y="5629320"/>
            <a:chExt cx="8120160" cy="1229760"/>
          </a:xfrm>
        </p:grpSpPr>
        <p:sp>
          <p:nvSpPr>
            <p:cNvPr id="236" name=""/>
            <p:cNvSpPr/>
            <p:nvPr/>
          </p:nvSpPr>
          <p:spPr>
            <a:xfrm>
              <a:off x="755640" y="5629320"/>
              <a:ext cx="8104320" cy="9396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9800" y="5629320"/>
              <a:ext cx="1717560" cy="93960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SCM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Supply Chain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62120" y="5670720"/>
              <a:ext cx="629784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anufacturing is part of regional operations – fitting to BenQ princi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anufacturing can possibly be basis for multiple product ran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Global functions of QM, OF, TLM &amp; MO with regional off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8920" y="256680"/>
            <a:ext cx="82314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0" name=""/>
          <p:cNvSpPr/>
          <p:nvPr/>
        </p:nvSpPr>
        <p:spPr>
          <a:xfrm>
            <a:off x="7470720" y="349740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14720" y="1009800"/>
            <a:ext cx="4697280" cy="75564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73280" y="1228680"/>
            <a:ext cx="3832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Minion"/>
              </a:rPr>
              <a:t>Dr. Jochen Eickholt &amp; Dr. Irwin Ch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66840" y="2111400"/>
            <a:ext cx="8417880" cy="2312640"/>
            <a:chOff x="366840" y="2111400"/>
            <a:chExt cx="8417880" cy="2312640"/>
          </a:xfrm>
        </p:grpSpPr>
        <p:sp>
          <p:nvSpPr>
            <p:cNvPr id="244" name=""/>
            <p:cNvSpPr/>
            <p:nvPr/>
          </p:nvSpPr>
          <p:spPr>
            <a:xfrm>
              <a:off x="366840" y="2111400"/>
              <a:ext cx="200556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TP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Technical Product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Holger Asmussen /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Pat Hsu / 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act. Katrin Brau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1000" y="2111400"/>
              <a:ext cx="200952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Research &amp; 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Siegfried Bocion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Yungchia Lee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32120" y="2111400"/>
              <a:ext cx="200592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Strategic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Procu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Teresa W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act. Jens Danneil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80960" y="2111400"/>
              <a:ext cx="200376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SC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Supply Chain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Bernd Schm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Gerold Simbürger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8" name=""/>
          <p:cNvCxnSpPr>
            <a:stCxn id="241" idx="2"/>
            <a:endCxn id="244" idx="0"/>
          </p:cNvCxnSpPr>
          <p:nvPr/>
        </p:nvCxnSpPr>
        <p:spPr>
          <a:xfrm rot="5400000">
            <a:off x="2793600" y="341280"/>
            <a:ext cx="346680" cy="31946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41" idx="2"/>
            <a:endCxn id="245" idx="0"/>
          </p:cNvCxnSpPr>
          <p:nvPr/>
        </p:nvCxnSpPr>
        <p:spPr>
          <a:xfrm rot="5400000">
            <a:off x="3866760" y="1414440"/>
            <a:ext cx="346680" cy="10483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1" idx="2"/>
            <a:endCxn id="246" idx="0"/>
          </p:cNvCxnSpPr>
          <p:nvPr/>
        </p:nvCxnSpPr>
        <p:spPr>
          <a:xfrm flipH="1" rot="16200000">
            <a:off x="4925880" y="1402200"/>
            <a:ext cx="346680" cy="10724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41" idx="2"/>
            <a:endCxn id="247" idx="0"/>
          </p:cNvCxnSpPr>
          <p:nvPr/>
        </p:nvCxnSpPr>
        <p:spPr>
          <a:xfrm flipH="1" rot="16200000">
            <a:off x="5999760" y="328320"/>
            <a:ext cx="346680" cy="32202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252" name=""/>
          <p:cNvSpPr/>
          <p:nvPr/>
        </p:nvSpPr>
        <p:spPr>
          <a:xfrm>
            <a:off x="509760" y="4659480"/>
            <a:ext cx="82468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duct House BA responsibility with L. So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4600" indent="-173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TPM BA is integrated into RD BA as both organizations cope with project contr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4600" indent="-173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P BA is integrated in SCM BA in order to better cope with the product cost 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0600" y="4572000"/>
            <a:ext cx="8353440" cy="1706400"/>
          </a:xfrm>
          <a:prstGeom prst="rect">
            <a:avLst/>
          </a:prstGeom>
          <a:noFill/>
          <a:ln w="93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R&amp;D with products and platforms assigned to four R&amp;D Center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19160" y="1409760"/>
            <a:ext cx="807840" cy="5387760"/>
            <a:chOff x="119160" y="1409760"/>
            <a:chExt cx="807840" cy="5387760"/>
          </a:xfrm>
        </p:grpSpPr>
        <p:sp>
          <p:nvSpPr>
            <p:cNvPr id="257" name=""/>
            <p:cNvSpPr/>
            <p:nvPr/>
          </p:nvSpPr>
          <p:spPr>
            <a:xfrm>
              <a:off x="119160" y="1409760"/>
              <a:ext cx="807840" cy="538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6120" y="1476360"/>
              <a:ext cx="72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TP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340760" y="1398600"/>
            <a:ext cx="1650600" cy="5388120"/>
            <a:chOff x="7340760" y="1398600"/>
            <a:chExt cx="1650600" cy="5388120"/>
          </a:xfrm>
        </p:grpSpPr>
        <p:sp>
          <p:nvSpPr>
            <p:cNvPr id="260" name=""/>
            <p:cNvSpPr/>
            <p:nvPr/>
          </p:nvSpPr>
          <p:spPr>
            <a:xfrm>
              <a:off x="734076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9324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25080" y="146844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49040" y="1460520"/>
              <a:ext cx="7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81000" y="1405080"/>
            <a:ext cx="62978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76560" y="341640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112760" y="2235240"/>
            <a:ext cx="549108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59200" y="146988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1112760" y="2236320"/>
            <a:ext cx="28800" cy="378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1131480" y="3578400"/>
            <a:ext cx="204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133640" y="4171680"/>
            <a:ext cx="2044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1134720" y="481932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1137960" y="542088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1130040" y="602244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33360" y="3306600"/>
            <a:ext cx="1173240" cy="53208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Process, Tools,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ethodolog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93840" y="3998880"/>
            <a:ext cx="5079960" cy="33516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5000" y="464184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5000" y="52531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05000" y="58453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35160" y="3900600"/>
            <a:ext cx="1173240" cy="53172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ystem Concepts </a:t>
            </a:r>
            <a:br>
              <a:rPr sz="1300"/>
            </a:b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SW Arch. 3</a:t>
            </a:r>
            <a:r>
              <a:rPr b="0" lang="en-US" sz="900" spc="-1" strike="noStrike" baseline="30000">
                <a:solidFill>
                  <a:srgbClr val="3a0e66"/>
                </a:solidFill>
                <a:latin typeface="Minion"/>
              </a:rPr>
              <a:t>rd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 par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Integration, predevelopm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36600" y="4549680"/>
            <a:ext cx="1173240" cy="53208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Industrialization </a:t>
            </a:r>
            <a:br>
              <a:rPr sz="1300"/>
            </a:b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MD, layout, assemb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concept, Production 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39840" y="5149800"/>
            <a:ext cx="1173240" cy="53172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ystem T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&amp;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31920" y="5754600"/>
            <a:ext cx="1173240" cy="52704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Value Added 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804920" y="1739880"/>
            <a:ext cx="9720" cy="48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08448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999720" y="3824280"/>
            <a:ext cx="4092480" cy="111744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3360240" y="3819240"/>
            <a:ext cx="4092480" cy="112428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23960" y="2378160"/>
            <a:ext cx="103356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unich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anaus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Wrocla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2177640" y="3822840"/>
            <a:ext cx="4092480" cy="111744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22280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06920" y="2378160"/>
            <a:ext cx="103320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Taipe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Hsinch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uzho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5400000">
            <a:off x="4547880" y="3825720"/>
            <a:ext cx="4092840" cy="112392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602400" y="224316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400720" y="225108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7212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V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Kamp-Lintfort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Wroclaw 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Aalb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755440" y="3155760"/>
            <a:ext cx="4087440" cy="1958760"/>
            <a:chOff x="2755440" y="3155760"/>
            <a:chExt cx="4087440" cy="1958760"/>
          </a:xfrm>
        </p:grpSpPr>
        <p:sp>
          <p:nvSpPr>
            <p:cNvPr id="297" name=""/>
            <p:cNvSpPr/>
            <p:nvPr/>
          </p:nvSpPr>
          <p:spPr>
            <a:xfrm flipH="1" flipV="1">
              <a:off x="2755440" y="3157200"/>
              <a:ext cx="1764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 rot="10800000">
              <a:off x="2880360" y="383220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 rot="10800000">
              <a:off x="2890800" y="42753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 rot="10800000">
              <a:off x="2890800" y="472500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771280" y="4462200"/>
              <a:ext cx="111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765520" y="4023000"/>
              <a:ext cx="110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763360" y="4900320"/>
              <a:ext cx="112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765520" y="3571200"/>
              <a:ext cx="110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 rot="10800000">
              <a:off x="2884320" y="33807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3844440" y="3155760"/>
              <a:ext cx="1764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 rot="10800000">
              <a:off x="3969360" y="383040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 rot="10800000">
              <a:off x="3979800" y="4272840"/>
              <a:ext cx="571680" cy="37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 rot="10800000">
              <a:off x="3979800" y="47235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860280" y="446112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854520" y="4020480"/>
              <a:ext cx="10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852360" y="489960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854520" y="3569760"/>
              <a:ext cx="109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 rot="10800000">
              <a:off x="3972600" y="337932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5021280" y="3163680"/>
              <a:ext cx="15840" cy="175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 rot="10800000">
              <a:off x="5146560" y="3839400"/>
              <a:ext cx="57168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 rot="10800000">
              <a:off x="5155200" y="428364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 rot="10800000">
              <a:off x="5155200" y="473328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35320" y="4470120"/>
              <a:ext cx="112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028840" y="403092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028840" y="490788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028840" y="357804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 rot="10800000">
              <a:off x="5149800" y="338868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6137280" y="3171960"/>
              <a:ext cx="1728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 rot="10800000">
              <a:off x="6262560" y="3847320"/>
              <a:ext cx="57168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 rot="10800000">
              <a:off x="6271200" y="429156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 rot="10800000">
              <a:off x="6271200" y="474012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6152760" y="4478400"/>
              <a:ext cx="111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146280" y="4039200"/>
              <a:ext cx="10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144840" y="491580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6146280" y="3585960"/>
              <a:ext cx="10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 rot="10800000">
              <a:off x="6265800" y="339552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88808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I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Beijing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hangha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95600" y="1496880"/>
            <a:ext cx="2546280" cy="60012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Siegfried Bocionek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Yungchai Lee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89080" y="230976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R&amp;D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Technical Product Management with clear Project Management Focu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8" name=""/>
          <p:cNvSpPr/>
          <p:nvPr/>
        </p:nvSpPr>
        <p:spPr>
          <a:xfrm>
            <a:off x="119160" y="1409760"/>
            <a:ext cx="630396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9360" y="147636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340760" y="1398600"/>
            <a:ext cx="1650600" cy="5388120"/>
            <a:chOff x="7340760" y="1398600"/>
            <a:chExt cx="1650600" cy="5388120"/>
          </a:xfrm>
        </p:grpSpPr>
        <p:sp>
          <p:nvSpPr>
            <p:cNvPr id="341" name=""/>
            <p:cNvSpPr/>
            <p:nvPr/>
          </p:nvSpPr>
          <p:spPr>
            <a:xfrm>
              <a:off x="734076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19324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25080" y="146844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49040" y="1460520"/>
              <a:ext cx="7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81800" y="1393920"/>
            <a:ext cx="79848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91600" y="145584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2960" y="2568600"/>
            <a:ext cx="2633760" cy="111132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PM Europe</a:t>
            </a:r>
            <a:br>
              <a:rPr sz="1800"/>
            </a:b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cl. TPM B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Holger Asmus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68600" y="2567160"/>
            <a:ext cx="2633760" cy="111096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PM Asia</a:t>
            </a:r>
            <a:br>
              <a:rPr sz="1800"/>
            </a:b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cl. TPM BO (to be setu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at Hsu / act. Katrin Bra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8920" y="49320"/>
            <a:ext cx="82314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trategic Procure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2" name=""/>
          <p:cNvSpPr/>
          <p:nvPr/>
        </p:nvSpPr>
        <p:spPr>
          <a:xfrm>
            <a:off x="1835280" y="1398600"/>
            <a:ext cx="630396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193240" y="1398600"/>
            <a:ext cx="79848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99000" y="14670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0240" y="146052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0320" y="1403280"/>
            <a:ext cx="79848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6120" y="146520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84240" y="1409760"/>
            <a:ext cx="79848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94400" y="147168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75120" y="1549440"/>
            <a:ext cx="2541600" cy="53028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nion"/>
              </a:rPr>
              <a:t>Teresa W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nion"/>
              </a:rPr>
              <a:t>act. Jens Danneil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16400" y="2558880"/>
            <a:ext cx="110160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Basic System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Framework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BS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38480" y="2558880"/>
            <a:ext cx="110160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Customized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Components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(C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95760" y="2558880"/>
            <a:ext cx="119232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echanics, Plastics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&amp; Assembly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MP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91120" y="2557440"/>
            <a:ext cx="979560" cy="2664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Indir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aterial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I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Site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135160" y="5797440"/>
            <a:ext cx="3705120" cy="432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Global Logistics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35160" y="5291280"/>
            <a:ext cx="3705120" cy="43164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Procurement 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35160" y="4788000"/>
            <a:ext cx="3705120" cy="43164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Procurement  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85160" y="2549520"/>
            <a:ext cx="884160" cy="153972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Processes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Reporting &amp;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Controlling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RC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85160" y="4186080"/>
            <a:ext cx="884160" cy="154008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egal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anagement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&amp; Compliance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LM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>
            <a:stCxn id="361" idx="2"/>
            <a:endCxn id="364" idx="0"/>
          </p:cNvCxnSpPr>
          <p:nvPr/>
        </p:nvCxnSpPr>
        <p:spPr>
          <a:xfrm rot="5400000">
            <a:off x="4979520" y="2292120"/>
            <a:ext cx="479880" cy="547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64" idx="0"/>
            <a:endCxn id="362" idx="0"/>
          </p:cNvCxnSpPr>
          <p:nvPr/>
        </p:nvCxnSpPr>
        <p:spPr>
          <a:xfrm rot="5400000">
            <a:off x="4578480" y="1946160"/>
            <a:ext cx="2520" cy="1226160"/>
          </a:xfrm>
          <a:prstGeom prst="bentConnector3">
            <a:avLst>
              <a:gd name="adj1" fmla="val -1440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3" name=""/>
          <p:cNvCxnSpPr/>
          <p:nvPr/>
        </p:nvCxnSpPr>
        <p:spPr>
          <a:xfrm rot="5400000">
            <a:off x="988200" y="3702600"/>
            <a:ext cx="2948760" cy="656280"/>
          </a:xfrm>
          <a:prstGeom prst="bentConnector4">
            <a:avLst>
              <a:gd name="adj1" fmla="val -7863"/>
              <a:gd name="adj2" fmla="val 125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135160" y="4286160"/>
            <a:ext cx="3703680" cy="4302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Local Procurement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61" idx="2"/>
            <a:endCxn id="363" idx="0"/>
          </p:cNvCxnSpPr>
          <p:nvPr/>
        </p:nvCxnSpPr>
        <p:spPr>
          <a:xfrm rot="5400000">
            <a:off x="3777840" y="1090440"/>
            <a:ext cx="479880" cy="24580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61" idx="2"/>
            <a:endCxn id="365" idx="0"/>
          </p:cNvCxnSpPr>
          <p:nvPr/>
        </p:nvCxnSpPr>
        <p:spPr>
          <a:xfrm flipH="1" rot="16200000">
            <a:off x="5624280" y="1700640"/>
            <a:ext cx="478440" cy="1235880"/>
          </a:xfrm>
          <a:prstGeom prst="bentConnector3">
            <a:avLst>
              <a:gd name="adj1" fmla="val 4977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61" idx="2"/>
            <a:endCxn id="369" idx="0"/>
          </p:cNvCxnSpPr>
          <p:nvPr/>
        </p:nvCxnSpPr>
        <p:spPr>
          <a:xfrm flipH="1" rot="16200000">
            <a:off x="6151320" y="1173600"/>
            <a:ext cx="470520" cy="2282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2135160" y="3782880"/>
            <a:ext cx="3703680" cy="4302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Procurement Engineering (P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7989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xecutive summar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393840" y="911160"/>
            <a:ext cx="823896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BenQ Corp reports a loss of ~150 Mio € for Q4 CY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Losses are due in large part to the merger sit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At the same time profits from IT and CE were not large enough to compensate for these lo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The key to BenQ turnaround is to improve the situation of BM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Despite significant progress (reduction of quarterly run rate by &gt; 40% in Q4 CY2005 / &gt; 100 Mio. €), cost position is not in line with revenue expect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Additional target: 100 Mio € functional cost reduction in 2006 which will also affect employ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Structural adjustments will contribute to Value, Cost, and Sp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al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egional management structure is being reinfor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osef Forer is nominated as Eastern Europe Head (incl. MEA) and will assume regional coordination being part of the Extended Management Board (EM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nis Morel will assume responsibility for Western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ichard Leong has been nominated as Chief Marketing Officer (CM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 will lead Marketing Operations (MO) to drive optimization of roles and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ield marketing moves into sales regions while HQ marketing focuses on building the brand, championing market development, and product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Managers to drive the portfolio process and product road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novation and Technology Management will be split up between Category Management and R&amp;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297160" y="1398600"/>
            <a:ext cx="669456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Supply Chain Management – Applying BenQ principles with regional manufacturing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2" name=""/>
          <p:cNvSpPr/>
          <p:nvPr/>
        </p:nvSpPr>
        <p:spPr>
          <a:xfrm>
            <a:off x="2383200" y="146196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79680" y="1398600"/>
            <a:ext cx="67284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84440" y="14670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0320" y="1403280"/>
            <a:ext cx="67932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6040" y="146520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55720" y="1409760"/>
            <a:ext cx="67932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32400" y="147168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6195960" y="1866960"/>
            <a:ext cx="12254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56320" y="1549440"/>
            <a:ext cx="1438560" cy="60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Global SCM Offi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br>
              <a:rPr sz="9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Kevin 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387160" y="2341440"/>
            <a:ext cx="5648400" cy="4349880"/>
            <a:chOff x="2387160" y="2341440"/>
            <a:chExt cx="5648400" cy="4349880"/>
          </a:xfrm>
        </p:grpSpPr>
        <p:sp>
          <p:nvSpPr>
            <p:cNvPr id="393" name=""/>
            <p:cNvSpPr/>
            <p:nvPr/>
          </p:nvSpPr>
          <p:spPr>
            <a:xfrm flipV="1">
              <a:off x="2403360" y="2346480"/>
              <a:ext cx="477504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608360" y="2341440"/>
              <a:ext cx="0" cy="26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7176600" y="2354400"/>
              <a:ext cx="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879880" y="2362320"/>
              <a:ext cx="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22880" y="5950080"/>
              <a:ext cx="4589640" cy="45216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2320" y="5156280"/>
              <a:ext cx="4588200" cy="452520"/>
            </a:xfrm>
            <a:custGeom>
              <a:avLst/>
              <a:gdLst>
                <a:gd name="textAreaLeft" fmla="*/ 0 w 4588200"/>
                <a:gd name="textAreaRight" fmla="*/ 4588560 w 458820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5920" y="4300560"/>
              <a:ext cx="4589640" cy="45252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0520" y="3489480"/>
              <a:ext cx="4589640" cy="45540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388960" y="2357280"/>
              <a:ext cx="7200" cy="394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5400000">
              <a:off x="2476800" y="3981960"/>
              <a:ext cx="4191120" cy="12276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5400000">
              <a:off x="5065200" y="3976920"/>
              <a:ext cx="4191120" cy="12348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5400000">
              <a:off x="3765240" y="3978720"/>
              <a:ext cx="4191120" cy="12312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05000" y="2575080"/>
              <a:ext cx="11340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LAM</a:t>
              </a:r>
              <a:br>
                <a:rPr sz="1000"/>
              </a:b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Laurent Heisser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92720" y="2575080"/>
              <a:ext cx="11358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AS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Gerold Simbuer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90880" y="2573280"/>
              <a:ext cx="11484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EUROP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Dr. Bernd Schm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92680" y="3013200"/>
              <a:ext cx="11358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M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10400" y="3019320"/>
              <a:ext cx="54288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MA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01160" y="3021120"/>
              <a:ext cx="54288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89120" y="3022560"/>
              <a:ext cx="35640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84400" y="3021120"/>
              <a:ext cx="35424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M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73920" y="3021120"/>
              <a:ext cx="3546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97600" y="6297480"/>
              <a:ext cx="22752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388960" y="5465880"/>
              <a:ext cx="239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387160" y="4545000"/>
              <a:ext cx="241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388960" y="3635280"/>
              <a:ext cx="24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39880" y="3309840"/>
              <a:ext cx="1077480" cy="77940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Order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Fulfill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641320" y="4141800"/>
              <a:ext cx="1079640" cy="78264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M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Material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Oper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37720" y="4975200"/>
              <a:ext cx="1077840" cy="77940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TL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Technology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Lifecycle Mg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39880" y="5811840"/>
              <a:ext cx="1077480" cy="77796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Q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Quality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4190400" y="3603600"/>
              <a:ext cx="3296520" cy="2680920"/>
              <a:chOff x="4190400" y="3603600"/>
              <a:chExt cx="3296520" cy="2680920"/>
            </a:xfrm>
          </p:grpSpPr>
          <p:sp>
            <p:nvSpPr>
              <p:cNvPr id="423" name=""/>
              <p:cNvSpPr/>
              <p:nvPr/>
            </p:nvSpPr>
            <p:spPr>
              <a:xfrm>
                <a:off x="4190400" y="6059160"/>
                <a:ext cx="72684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92880" y="6057720"/>
                <a:ext cx="729000" cy="22500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753600" y="6051600"/>
                <a:ext cx="72792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193280" y="5266440"/>
                <a:ext cx="72684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496120" y="5264640"/>
                <a:ext cx="72900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756840" y="5257080"/>
                <a:ext cx="72792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190400" y="4409640"/>
                <a:ext cx="72684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492880" y="4408200"/>
                <a:ext cx="72900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753600" y="4402440"/>
                <a:ext cx="72792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195800" y="3612600"/>
                <a:ext cx="726840" cy="22500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498280" y="3610800"/>
                <a:ext cx="72900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759000" y="3603600"/>
                <a:ext cx="72792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"/>
          <p:cNvSpPr/>
          <p:nvPr/>
        </p:nvSpPr>
        <p:spPr>
          <a:xfrm flipV="1">
            <a:off x="5133960" y="208908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72080" y="1549440"/>
            <a:ext cx="2678040" cy="59832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Bernd Sch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Gerold Simbürger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Management System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39680" y="1860480"/>
            <a:ext cx="698832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Business and cost control requires increased transparency, speed, and compatibility with BenQ Corp.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Respective controlling and management tools need to be established and / or consolidated / improve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st down programs needs to be executed consequently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Focused attention beyond daily operational business require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9" name=""/>
          <p:cNvSpPr/>
          <p:nvPr/>
        </p:nvSpPr>
        <p:spPr>
          <a:xfrm>
            <a:off x="630360" y="5207040"/>
            <a:ext cx="8102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avid Wang to join the management team as per April 1</a:t>
            </a:r>
            <a:r>
              <a:rPr b="1" lang="en-US" sz="24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3320" y="48960"/>
            <a:ext cx="834228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BenQ Mobile Group governance structure (April 2006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2" name=""/>
          <p:cNvSpPr/>
          <p:nvPr/>
        </p:nvSpPr>
        <p:spPr>
          <a:xfrm>
            <a:off x="806400" y="809640"/>
            <a:ext cx="745344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BenQ Mobile Business Group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Clemens J. Joos (CEO), Jerry Wang (Chairman), Irwin 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795240" y="1368360"/>
            <a:ext cx="5106960" cy="2171880"/>
            <a:chOff x="795240" y="1368360"/>
            <a:chExt cx="5106960" cy="2171880"/>
          </a:xfrm>
        </p:grpSpPr>
        <p:sp>
          <p:nvSpPr>
            <p:cNvPr id="444" name=""/>
            <p:cNvSpPr/>
            <p:nvPr/>
          </p:nvSpPr>
          <p:spPr>
            <a:xfrm>
              <a:off x="795240" y="1368360"/>
              <a:ext cx="5106960" cy="217188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25360" y="1415880"/>
              <a:ext cx="4446720" cy="328680"/>
            </a:xfrm>
            <a:prstGeom prst="rect">
              <a:avLst/>
            </a:prstGeom>
            <a:solidFill>
              <a:srgbClr val="a6a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Product House</a:t>
              </a:r>
              <a:r>
                <a:rPr b="1" lang="zh-TW" sz="1200" spc="-1" strike="noStrike" baseline="30000">
                  <a:solidFill>
                    <a:srgbClr val="3a0e66"/>
                  </a:solidFill>
                  <a:latin typeface="Minion"/>
                  <a:ea typeface="文鼎中黑"/>
                </a:rPr>
                <a:t>1)</a:t>
              </a:r>
              <a:br>
                <a:rPr sz="3200"/>
              </a:b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</a:t>
              </a: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Jochen Eickholt &amp;  Irwin Chen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911160" y="1774800"/>
            <a:ext cx="487512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R&amp;D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iegfried Bocionek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Yungchia Le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11160" y="2216160"/>
            <a:ext cx="487512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CM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Bernd Schmid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Gerold Simbuerg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1160" y="2657520"/>
            <a:ext cx="487512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trategic Procurement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acting Jens Danneil  &amp; 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Teresa Wu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1160" y="3098880"/>
            <a:ext cx="487512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Technical PM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Holger Asmussen &amp;  Pat Hsu &amp;  act. Katrin Bra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0680" y="6232320"/>
            <a:ext cx="6524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975040"/>
                <a:tab algn="l" pos="46641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000" spc="-1" strike="noStrike">
                <a:solidFill>
                  <a:srgbClr val="1e0a63"/>
                </a:solidFill>
                <a:latin typeface="Minion"/>
              </a:rPr>
              <a:t>1) Have dedicated Business Administration (BA) function    2) including Regional Marketing   3) Reporting to Jerry Wa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89120" y="6035760"/>
            <a:ext cx="7470720" cy="24588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89120" y="4081320"/>
            <a:ext cx="2450880" cy="398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Global Marketing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Richard Leong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Sandra Rub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9120" y="3610080"/>
            <a:ext cx="5113080" cy="399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3528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Category  Management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Phil Mulholland &amp; 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Harrison Cha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89120" y="5649840"/>
            <a:ext cx="511308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Customer Care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Stefan Plet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037200" y="3781440"/>
            <a:ext cx="2222640" cy="2524320"/>
            <a:chOff x="6037200" y="3781440"/>
            <a:chExt cx="2222640" cy="2524320"/>
          </a:xfrm>
        </p:grpSpPr>
        <p:sp>
          <p:nvSpPr>
            <p:cNvPr id="456" name=""/>
            <p:cNvSpPr/>
            <p:nvPr/>
          </p:nvSpPr>
          <p:spPr>
            <a:xfrm>
              <a:off x="6037200" y="3781440"/>
              <a:ext cx="222264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19640" y="3809880"/>
              <a:ext cx="2140200" cy="24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Project Office 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Karl Kornwolf &amp; Theresa Che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Strategy &amp; Communication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Marco Stuelpn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QM</a:t>
              </a:r>
              <a:r>
                <a:rPr b="1" lang="zh-TW" sz="1200" spc="-1" strike="noStrike" baseline="30000">
                  <a:solidFill>
                    <a:srgbClr val="3a0e66"/>
                  </a:solidFill>
                  <a:latin typeface="Minion"/>
                  <a:ea typeface="新細明體"/>
                </a:rPr>
                <a:t>1)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Alexander Filler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HR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Nils-Peter Daet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ISR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Matthias Schneider-Hufschmid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6037200" y="1351080"/>
            <a:ext cx="2222640" cy="2350800"/>
            <a:chOff x="6037200" y="1351080"/>
            <a:chExt cx="2222640" cy="2350800"/>
          </a:xfrm>
        </p:grpSpPr>
        <p:sp>
          <p:nvSpPr>
            <p:cNvPr id="459" name=""/>
            <p:cNvSpPr/>
            <p:nvPr/>
          </p:nvSpPr>
          <p:spPr>
            <a:xfrm>
              <a:off x="6037200" y="1351080"/>
              <a:ext cx="2222640" cy="23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19640" y="1406520"/>
              <a:ext cx="20844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Finance</a:t>
              </a: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(Alex Liou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Accounting &amp; Finance, Legal Services, Taxes, Treas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19640" y="2241720"/>
              <a:ext cx="205596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Controlling 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Lydia Sommer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Planning &amp; Controlling, Sales Operations Controlling, Pricing Office, IT, Audit, Corp. 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119640" y="3259080"/>
              <a:ext cx="2055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BMG Management System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David Wang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3452760" y="4068720"/>
            <a:ext cx="2448000" cy="398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ifestyle Design Centre Munich</a:t>
            </a:r>
            <a:r>
              <a:rPr b="1" lang="en-US" sz="12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Jonathan Yin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789120" y="4545000"/>
            <a:ext cx="5244840" cy="1181160"/>
            <a:chOff x="789120" y="4545000"/>
            <a:chExt cx="5244840" cy="1181160"/>
          </a:xfrm>
        </p:grpSpPr>
        <p:sp>
          <p:nvSpPr>
            <p:cNvPr id="465" name=""/>
            <p:cNvSpPr/>
            <p:nvPr/>
          </p:nvSpPr>
          <p:spPr>
            <a:xfrm>
              <a:off x="789120" y="4545000"/>
              <a:ext cx="5111640" cy="1057320"/>
            </a:xfrm>
            <a:prstGeom prst="rect">
              <a:avLst/>
            </a:pr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Sales </a:t>
              </a:r>
              <a:r>
                <a:rPr b="1" lang="en-US" sz="1200" spc="-1" strike="noStrike" baseline="30000">
                  <a:solidFill>
                    <a:srgbClr val="3a0e66"/>
                  </a:solidFill>
                  <a:latin typeface="Minion"/>
                </a:rPr>
                <a:t>1, 2)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26920" y="4735440"/>
              <a:ext cx="2597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Western EUR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Denis More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Eastern EUR / MEA 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Josef For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Sales Coordination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Martin Furuseth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38520" y="4735440"/>
              <a:ext cx="23954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APAC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</a:rPr>
                <a:t> (acting Y.S.Che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LAM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Guy Spillebeen)</a:t>
              </a: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China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</a:rPr>
                <a:t> (Danny HC Ya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3403440" y="4038480"/>
            <a:ext cx="2530800" cy="470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aseline is within reach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82160" y="2006640"/>
            <a:ext cx="7023240" cy="21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nsequent implementation of specified project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Finalization of detailed organizational structure until end of Marc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Secure identified and realized cost run rate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Go the last mile on cost saving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1" name=""/>
          <p:cNvSpPr/>
          <p:nvPr/>
        </p:nvSpPr>
        <p:spPr>
          <a:xfrm>
            <a:off x="579600" y="5572800"/>
            <a:ext cx="810252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efocus on top line profitable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673360" y="3060720"/>
            <a:ext cx="3124080" cy="3009960"/>
          </a:xfrm>
          <a:prstGeom prst="ellipse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2600" y="3489480"/>
            <a:ext cx="1415880" cy="1298520"/>
          </a:xfrm>
          <a:prstGeom prst="ellipse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0200" y="262080"/>
            <a:ext cx="8534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Mobile Business Regaining 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1720" y="1135080"/>
            <a:ext cx="92844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73360" y="1135080"/>
            <a:ext cx="59832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11720" y="3427560"/>
            <a:ext cx="1152720" cy="50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0200" y="1666800"/>
            <a:ext cx="181296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20016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</a:rPr>
              <a:t>Plain-vanilla portfol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27120" y="1666800"/>
            <a:ext cx="367848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Market lea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Compelling on lifestyle benefi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Potent multimedia fun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36800" y="3859200"/>
            <a:ext cx="685800" cy="609480"/>
          </a:xfrm>
          <a:prstGeom prst="rightArrow">
            <a:avLst>
              <a:gd name="adj1" fmla="val 50000"/>
              <a:gd name="adj2" fmla="val 52094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45040" y="1135080"/>
            <a:ext cx="29419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ASP over last five quar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00400" y="5105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rcRect l="0" t="1417" r="0" b="0"/>
          <a:stretch/>
        </p:blipFill>
        <p:spPr>
          <a:xfrm>
            <a:off x="3224160" y="3429000"/>
            <a:ext cx="522360" cy="107172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rcRect l="0" t="3543" r="0" b="0"/>
          <a:stretch/>
        </p:blipFill>
        <p:spPr>
          <a:xfrm>
            <a:off x="4021200" y="3368520"/>
            <a:ext cx="420480" cy="11052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rcRect l="0" t="0" r="3296" b="0"/>
          <a:stretch/>
        </p:blipFill>
        <p:spPr>
          <a:xfrm>
            <a:off x="4695840" y="3489480"/>
            <a:ext cx="480960" cy="860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346560" y="4289400"/>
            <a:ext cx="7347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81320" y="4289400"/>
            <a:ext cx="7351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2979720" y="4719600"/>
            <a:ext cx="763560" cy="9097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3591000" y="4780080"/>
            <a:ext cx="981000" cy="8841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6"/>
          <a:stretch/>
        </p:blipFill>
        <p:spPr>
          <a:xfrm>
            <a:off x="4511520" y="4719600"/>
            <a:ext cx="1051200" cy="10350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4754520" y="5396040"/>
            <a:ext cx="7365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84640" y="5396040"/>
            <a:ext cx="7347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57480" y="5396040"/>
            <a:ext cx="7369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54520" y="4289400"/>
            <a:ext cx="7365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6334200" y="2568600"/>
          <a:ext cx="2246400" cy="258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34200" y="2568600"/>
                    <a:ext cx="22464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6692760" y="2936880"/>
            <a:ext cx="2022480" cy="685800"/>
          </a:xfrm>
          <a:custGeom>
            <a:avLst/>
            <a:gdLst/>
            <a:ahLst/>
            <a:rect l="l" t="t" r="r" b="b"/>
            <a:pathLst>
              <a:path w="1497" h="506">
                <a:moveTo>
                  <a:pt x="0" y="0"/>
                </a:moveTo>
                <a:cubicBezTo>
                  <a:pt x="136" y="140"/>
                  <a:pt x="272" y="280"/>
                  <a:pt x="408" y="363"/>
                </a:cubicBezTo>
                <a:cubicBezTo>
                  <a:pt x="544" y="446"/>
                  <a:pt x="672" y="506"/>
                  <a:pt x="816" y="499"/>
                </a:cubicBezTo>
                <a:cubicBezTo>
                  <a:pt x="960" y="492"/>
                  <a:pt x="1157" y="371"/>
                  <a:pt x="1270" y="318"/>
                </a:cubicBezTo>
                <a:cubicBezTo>
                  <a:pt x="1383" y="265"/>
                  <a:pt x="1459" y="205"/>
                  <a:pt x="1497" y="182"/>
                </a:cubicBezTo>
              </a:path>
            </a:pathLst>
          </a:custGeom>
          <a:noFill/>
          <a:ln w="38160">
            <a:solidFill>
              <a:srgbClr val="a6a0c2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3080" y="3859200"/>
            <a:ext cx="442800" cy="4921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71480" y="3859200"/>
            <a:ext cx="442800" cy="49068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201680" y="3859200"/>
            <a:ext cx="4399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8920" y="47160"/>
            <a:ext cx="77821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aunching BenQ-Siemens with a 3-event strategy targeting diverse key audienc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2" name=""/>
          <p:cNvSpPr/>
          <p:nvPr/>
        </p:nvSpPr>
        <p:spPr>
          <a:xfrm>
            <a:off x="190440" y="1473120"/>
            <a:ext cx="8788320" cy="3949920"/>
          </a:xfrm>
          <a:custGeom>
            <a:avLst/>
            <a:gdLst/>
            <a:ahLst/>
            <a:rect l="l" t="t" r="r" b="b"/>
            <a:pathLst>
              <a:path w="5506" h="2627">
                <a:moveTo>
                  <a:pt x="0" y="1988"/>
                </a:moveTo>
                <a:cubicBezTo>
                  <a:pt x="56" y="1877"/>
                  <a:pt x="99" y="1319"/>
                  <a:pt x="341" y="1319"/>
                </a:cubicBezTo>
                <a:cubicBezTo>
                  <a:pt x="583" y="1319"/>
                  <a:pt x="879" y="2626"/>
                  <a:pt x="1214" y="2626"/>
                </a:cubicBezTo>
                <a:cubicBezTo>
                  <a:pt x="1549" y="2626"/>
                  <a:pt x="1778" y="966"/>
                  <a:pt x="2088" y="966"/>
                </a:cubicBezTo>
                <a:cubicBezTo>
                  <a:pt x="2398" y="966"/>
                  <a:pt x="2651" y="2627"/>
                  <a:pt x="2961" y="2626"/>
                </a:cubicBezTo>
                <a:cubicBezTo>
                  <a:pt x="3271" y="2625"/>
                  <a:pt x="3490" y="607"/>
                  <a:pt x="3840" y="606"/>
                </a:cubicBezTo>
                <a:cubicBezTo>
                  <a:pt x="4190" y="605"/>
                  <a:pt x="4385" y="2626"/>
                  <a:pt x="4707" y="2626"/>
                </a:cubicBezTo>
                <a:cubicBezTo>
                  <a:pt x="5029" y="2626"/>
                  <a:pt x="5340" y="547"/>
                  <a:pt x="5506" y="0"/>
                </a:cubicBezTo>
              </a:path>
            </a:pathLst>
          </a:custGeom>
          <a:noFill/>
          <a:ln w="38160">
            <a:solidFill>
              <a:srgbClr val="b09f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70200" y="2244600"/>
            <a:ext cx="7080120" cy="0"/>
          </a:xfrm>
          <a:prstGeom prst="line">
            <a:avLst/>
          </a:prstGeom>
          <a:ln w="28440">
            <a:solidFill>
              <a:srgbClr val="8076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648180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91720" y="264492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89864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51680" y="264492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06080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45800" y="264492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78000" y="3171960"/>
            <a:ext cx="9936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8000" y="5008680"/>
            <a:ext cx="822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arget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481800" y="1192320"/>
            <a:ext cx="2205000" cy="4365360"/>
            <a:chOff x="6481800" y="1192320"/>
            <a:chExt cx="2205000" cy="4365360"/>
          </a:xfrm>
        </p:grpSpPr>
        <p:sp>
          <p:nvSpPr>
            <p:cNvPr id="513" name=""/>
            <p:cNvSpPr/>
            <p:nvPr/>
          </p:nvSpPr>
          <p:spPr>
            <a:xfrm>
              <a:off x="6481800" y="1197000"/>
              <a:ext cx="220500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4" name="" descr=""/>
            <p:cNvPicPr/>
            <p:nvPr/>
          </p:nvPicPr>
          <p:blipFill>
            <a:blip r:embed="rId1"/>
            <a:stretch/>
          </p:blipFill>
          <p:spPr>
            <a:xfrm>
              <a:off x="7365960" y="2333520"/>
              <a:ext cx="595440" cy="522360"/>
            </a:xfrm>
            <a:prstGeom prst="rect">
              <a:avLst/>
            </a:prstGeom>
            <a:ln w="9360">
              <a:solidFill>
                <a:srgbClr val="5f5f5f"/>
              </a:solidFill>
              <a:miter/>
            </a:ln>
          </p:spPr>
        </p:pic>
        <p:sp>
          <p:nvSpPr>
            <p:cNvPr id="515" name=""/>
            <p:cNvSpPr/>
            <p:nvPr/>
          </p:nvSpPr>
          <p:spPr>
            <a:xfrm>
              <a:off x="6481800" y="3171960"/>
              <a:ext cx="2205000" cy="11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eBIT 2006 Han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nsumer launch of "Exploration"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0800000">
              <a:off x="655164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81800" y="5008680"/>
              <a:ext cx="2184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nsumer and general 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6481800" y="1192320"/>
              <a:ext cx="2205000" cy="101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9" name=""/>
          <p:cNvGrpSpPr/>
          <p:nvPr/>
        </p:nvGrpSpPr>
        <p:grpSpPr>
          <a:xfrm>
            <a:off x="1798560" y="1197000"/>
            <a:ext cx="2227320" cy="5183640"/>
            <a:chOff x="1798560" y="1197000"/>
            <a:chExt cx="2227320" cy="5183640"/>
          </a:xfrm>
        </p:grpSpPr>
        <p:sp>
          <p:nvSpPr>
            <p:cNvPr id="520" name=""/>
            <p:cNvSpPr/>
            <p:nvPr/>
          </p:nvSpPr>
          <p:spPr>
            <a:xfrm>
              <a:off x="1889280" y="1197000"/>
              <a:ext cx="195552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22320" y="3171960"/>
              <a:ext cx="22035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rand 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3"/>
            <a:stretch/>
          </p:blipFill>
          <p:spPr>
            <a:xfrm>
              <a:off x="1889280" y="1197000"/>
              <a:ext cx="19555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rot="10800000">
              <a:off x="179856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2320" y="5008680"/>
              <a:ext cx="20894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op tier news, business and </a:t>
              </a:r>
              <a:br>
                <a:rPr sz="1800"/>
              </a:b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dustry medi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ailored analyst briefin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2540160" y="2268360"/>
              <a:ext cx="765000" cy="854280"/>
              <a:chOff x="2540160" y="2268360"/>
              <a:chExt cx="765000" cy="854280"/>
            </a:xfrm>
          </p:grpSpPr>
          <p:pic>
            <p:nvPicPr>
              <p:cNvPr id="5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40160" y="2268360"/>
                <a:ext cx="765000" cy="76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7" name=""/>
              <p:cNvSpPr/>
              <p:nvPr/>
            </p:nvSpPr>
            <p:spPr>
              <a:xfrm>
                <a:off x="2565360" y="2392200"/>
                <a:ext cx="73656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57240"/>
                    <a:tab algn="l" pos="1914480"/>
                    <a:tab algn="l" pos="2871720"/>
                    <a:tab algn="l" pos="3828960"/>
                    <a:tab algn="l" pos="4786200"/>
                    <a:tab algn="l" pos="5743440"/>
                    <a:tab algn="l" pos="6700680"/>
                    <a:tab algn="l" pos="7658280"/>
                    <a:tab algn="l" pos="8615520"/>
                    <a:tab algn="l" pos="9572760"/>
                    <a:tab algn="l" pos="105300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  <a:ea typeface="文鼎中黑"/>
                  </a:rPr>
                  <a:t>BenQ-Sieme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"/>
          <p:cNvGrpSpPr/>
          <p:nvPr/>
        </p:nvGrpSpPr>
        <p:grpSpPr>
          <a:xfrm>
            <a:off x="4060800" y="1197000"/>
            <a:ext cx="2205000" cy="5457960"/>
            <a:chOff x="4060800" y="1197000"/>
            <a:chExt cx="2205000" cy="5457960"/>
          </a:xfrm>
        </p:grpSpPr>
        <p:sp>
          <p:nvSpPr>
            <p:cNvPr id="529" name=""/>
            <p:cNvSpPr/>
            <p:nvPr/>
          </p:nvSpPr>
          <p:spPr>
            <a:xfrm>
              <a:off x="4060800" y="1197000"/>
              <a:ext cx="220500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0" name="" descr=""/>
            <p:cNvPicPr/>
            <p:nvPr/>
          </p:nvPicPr>
          <p:blipFill>
            <a:blip r:embed="rId5"/>
            <a:stretch/>
          </p:blipFill>
          <p:spPr>
            <a:xfrm>
              <a:off x="4060800" y="1197000"/>
              <a:ext cx="22050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4060800" y="3171960"/>
              <a:ext cx="2205000" cy="17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GSM Barcelo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irst detailed hands-on exposure of BenQ-Siemens to larger B2B and press aud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0800000">
              <a:off x="411804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060800" y="5008680"/>
              <a:ext cx="218448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ocus on technology and trade pr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uilding on momentum from brand 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4" name="" descr=""/>
            <p:cNvPicPr/>
            <p:nvPr/>
          </p:nvPicPr>
          <p:blipFill>
            <a:blip r:embed="rId6"/>
            <a:stretch/>
          </p:blipFill>
          <p:spPr>
            <a:xfrm>
              <a:off x="4572000" y="2414520"/>
              <a:ext cx="1190520" cy="4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CeBIT Impress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206280" y="1135080"/>
            <a:ext cx="1343160" cy="10080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206280" y="2147760"/>
            <a:ext cx="1346400" cy="100836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206280" y="3156120"/>
            <a:ext cx="1346400" cy="10080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206280" y="4164120"/>
            <a:ext cx="1346400" cy="1008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1595520" y="1130400"/>
            <a:ext cx="3708360" cy="24667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6"/>
          <a:stretch/>
        </p:blipFill>
        <p:spPr>
          <a:xfrm>
            <a:off x="5357880" y="3699000"/>
            <a:ext cx="3708360" cy="24732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7"/>
          <a:stretch/>
        </p:blipFill>
        <p:spPr>
          <a:xfrm>
            <a:off x="5357880" y="1125360"/>
            <a:ext cx="3708360" cy="24735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8"/>
          <a:stretch/>
        </p:blipFill>
        <p:spPr>
          <a:xfrm>
            <a:off x="209520" y="5172120"/>
            <a:ext cx="1343160" cy="10065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9"/>
          <a:stretch/>
        </p:blipFill>
        <p:spPr>
          <a:xfrm>
            <a:off x="1595520" y="3701880"/>
            <a:ext cx="3724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7989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xecutive summary (cont.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393840" y="911160"/>
            <a:ext cx="8238960" cy="61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</a:rPr>
              <a:t>Structural adjustments will contribute to Value, Cost, and Speed (con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hou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realization of synergies within the two product houses is not satisfy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refore they are consolidated and headed jointly by Dr. Jochen Eickholt &amp; Dr. Irw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house structures will be standardized and simpl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obs and tasks from Ulm are transferred to Munich or Kamp Lintfort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Customer Care will be positioned as the first independent global after-sales-company for the consumer electronics industry (exclusive partner for BenQ Mobile products, preferred partner for BenQ Corp. in Europe, and soliciting third party busine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avid Wang to join the management team to drive forward the BMG Management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new Lifestyle Design Center in Munich will be headed by Jonathan Y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urnaround efforts are becoming vi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uccessful brand launch trilogy is restoring customer confidence and creating consumer enthusia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enQ-Siemens dominated the media agenda during CeBIT 2006 with 5 times as many press clippings as all competitors together around the first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w products with exciting lifestyle benefits are already driving the 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Leadership position has been gained in innovation (e.g. HSDPA, OLED), in design and user experience (e.g.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terials, mechanics, miniaturization)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, and multimedia and applications (e.g. cameras, Google sear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Leading operators are listing our products – one major German operator even delisted Samsung in favor of BenQ-Sieme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eline is within reach:  Last mile on cost saving to go, refocus on top line profitable growth subsequent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560" y="1787400"/>
            <a:ext cx="7515360" cy="358632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49320"/>
            <a:ext cx="798984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Key target for Q1 CY2006 was to achieve operational and market stabilit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1252440" y="2077920"/>
            <a:ext cx="631692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topping volume erosion in Q3 and Q4 CY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ecure transition / carve out of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Reorganize / integrate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Reduce cost to achieve 500 Mio € cost sav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hieve credibility with consumers: Outstanding operator listings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09196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328752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268884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48416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388584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4200" y="47160"/>
            <a:ext cx="862344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 Corp reports a loss of ~150 Mio € for Q4 CY2005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7040" y="1071720"/>
            <a:ext cx="81342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4320" indent="-182880">
              <a:lnSpc>
                <a:spcPct val="100000"/>
              </a:lnSpc>
              <a:spcAft>
                <a:spcPts val="901"/>
              </a:spcAft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新細明體"/>
              </a:rPr>
              <a:t>Losses are due in large part to the merger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Handset product line was focused low margin products –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products with little or no competitive strength were cleare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Unscheduled delays (missed time-to-market) occurred in releasing new, competitive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During the transition, some divisions incurred additional expenses when adjusting their inventories and closing bad ac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We are still bound to some material providers by long-term contracts – 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Cost-down measures will become effective not until Q2 CY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Aft>
                <a:spcPts val="901"/>
              </a:spcAft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新細明體"/>
              </a:rPr>
              <a:t>At the same time, profits from IT and CE were not large enough to compensate for the losses in the handset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5424480"/>
            <a:ext cx="8298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he key to BenQ turnaround is to improve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he situation of BM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-163800"/>
            <a:ext cx="85536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unctional cost were taken down while safeguarding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perational capability (R&amp;D, CM &amp; Sales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"/>
          <p:cNvSpPr/>
          <p:nvPr/>
        </p:nvSpPr>
        <p:spPr>
          <a:xfrm>
            <a:off x="4811760" y="1225440"/>
            <a:ext cx="4114800" cy="495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11760" y="1225440"/>
            <a:ext cx="4114800" cy="4287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1128600"/>
            <a:ext cx="32990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OpEx, Jan. 2006 vs. Jan.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9560" y="1225440"/>
            <a:ext cx="4114800" cy="495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9560" y="1225440"/>
            <a:ext cx="4114800" cy="4287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7800" y="1280880"/>
            <a:ext cx="32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OpEx, Q4 2005 vs. Q4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308240" y="2265480"/>
          <a:ext cx="2970000" cy="29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8240" y="2265480"/>
                    <a:ext cx="2970000" cy="29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098800" y="1946160"/>
            <a:ext cx="1385640" cy="111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5195880"/>
            <a:ext cx="13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Q4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93960" y="519588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Q4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6040" y="2367000"/>
            <a:ext cx="54936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-4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98720" y="2298600"/>
            <a:ext cx="46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G&amp;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3560" y="2738520"/>
            <a:ext cx="107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Selling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571920"/>
            <a:ext cx="95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96920" y="4500720"/>
            <a:ext cx="469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718240" y="2265480"/>
          <a:ext cx="2970000" cy="29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8240" y="2265480"/>
                    <a:ext cx="2970000" cy="29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508800" y="2066760"/>
            <a:ext cx="13860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6400" y="2273400"/>
            <a:ext cx="54900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-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08720" y="2309760"/>
            <a:ext cx="46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G&amp;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03920" y="2708280"/>
            <a:ext cx="107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Selling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19840" y="3446640"/>
            <a:ext cx="957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6920" y="441468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3280" y="5195880"/>
            <a:ext cx="13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Jan.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03960" y="519588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Jan.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62240" y="5508720"/>
            <a:ext cx="1469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iemens MD and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81360" y="5630040"/>
            <a:ext cx="1393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48480" y="5508720"/>
            <a:ext cx="14889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iemens MD and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76960" y="5630040"/>
            <a:ext cx="1393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982960" y="1717200"/>
            <a:ext cx="1428840" cy="730440"/>
            <a:chOff x="2982960" y="1717200"/>
            <a:chExt cx="1428840" cy="730440"/>
          </a:xfrm>
        </p:grpSpPr>
        <p:sp>
          <p:nvSpPr>
            <p:cNvPr id="102" name=""/>
            <p:cNvSpPr/>
            <p:nvPr/>
          </p:nvSpPr>
          <p:spPr>
            <a:xfrm>
              <a:off x="2982960" y="1733400"/>
              <a:ext cx="1428840" cy="698760"/>
            </a:xfrm>
            <a:prstGeom prst="ellipse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83680" y="1717200"/>
              <a:ext cx="14277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st re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&gt; 100 Mio 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 hidden="1"/>
          <p:cNvSpPr/>
          <p:nvPr/>
        </p:nvSpPr>
        <p:spPr>
          <a:xfrm>
            <a:off x="52560" y="-74520"/>
            <a:ext cx="50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0440" y="4932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Despite significant progress, cost position is not in line with revenue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5760" y="1108080"/>
            <a:ext cx="520668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Better alignment of CM and S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rovement of market intimacy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alization of synergy potent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Further BoM sav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dditional cut of functional 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Spe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lignment of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Further reduction of R&amp;D complex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3358800" y="2948040"/>
            <a:ext cx="4359240" cy="374760"/>
          </a:xfrm>
          <a:prstGeom prst="triangle">
            <a:avLst>
              <a:gd name="adj" fmla="val 50000"/>
            </a:avLst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7240" y="1686960"/>
            <a:ext cx="3060720" cy="29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</a:rPr>
              <a:t>Structural adjust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al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all lo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structure and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9120" y="556632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arget: Additional 100 Mio € functional cost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eduction in 2006 will also affect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000" y="925560"/>
            <a:ext cx="727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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160" y="2254320"/>
            <a:ext cx="75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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160" y="4013280"/>
            <a:ext cx="75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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6280" y="33120"/>
            <a:ext cx="850104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Customer Care is a well managed organization 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37960" y="932040"/>
            <a:ext cx="8785440" cy="5560200"/>
            <a:chOff x="237960" y="932040"/>
            <a:chExt cx="8785440" cy="5560200"/>
          </a:xfrm>
        </p:grpSpPr>
        <p:grpSp>
          <p:nvGrpSpPr>
            <p:cNvPr id="116" name=""/>
            <p:cNvGrpSpPr/>
            <p:nvPr/>
          </p:nvGrpSpPr>
          <p:grpSpPr>
            <a:xfrm>
              <a:off x="237960" y="932040"/>
              <a:ext cx="8785440" cy="5560200"/>
              <a:chOff x="237960" y="932040"/>
              <a:chExt cx="8785440" cy="5560200"/>
            </a:xfrm>
          </p:grpSpPr>
          <p:sp>
            <p:nvSpPr>
              <p:cNvPr id="117" name=""/>
              <p:cNvSpPr/>
              <p:nvPr/>
            </p:nvSpPr>
            <p:spPr>
              <a:xfrm>
                <a:off x="4091040" y="932040"/>
                <a:ext cx="4932360" cy="4381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46800" anchor="ctr">
                <a:noAutofit/>
              </a:bodyPr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et up CC as the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first global after-sales-company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the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onsumer electronics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indust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pin-out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all international service activities 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of BMG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into a separate legal entity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(CC NewCo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Exclusive partner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BenQ Mobile produc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Preferred partner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BenQ Corp. in Eur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olicit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third party busines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8892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New Company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to be set up asap,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transition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scheduled for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end of June, 2006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7960" y="5545080"/>
                <a:ext cx="8418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8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... developing from a cost to a profit center </a:t>
                </a:r>
                <a:br>
                  <a:rPr sz="2800"/>
                </a:br>
                <a:r>
                  <a:rPr b="1" lang="zh-TW" sz="28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for further profitable growt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 rot="10800000">
              <a:off x="5536800" y="4205160"/>
              <a:ext cx="1724040" cy="176400"/>
            </a:xfrm>
            <a:prstGeom prst="triangle">
              <a:avLst>
                <a:gd name="adj" fmla="val 50000"/>
              </a:avLst>
            </a:prstGeom>
            <a:solidFill>
              <a:srgbClr val="a6a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79280" y="933480"/>
            <a:ext cx="4030920" cy="4395600"/>
          </a:xfrm>
          <a:custGeom>
            <a:avLst/>
            <a:gdLst>
              <a:gd name="textAreaLeft" fmla="*/ 0 w 4030920"/>
              <a:gd name="textAreaRight" fmla="*/ 4031280 w 4030920"/>
              <a:gd name="textAreaTop" fmla="*/ 0 h 4395600"/>
              <a:gd name="textAreaBottom" fmla="*/ 4395960 h 439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5" y="0"/>
                </a:lnTo>
                <a:lnTo>
                  <a:pt x="21600" y="10800"/>
                </a:lnTo>
                <a:lnTo>
                  <a:pt x="197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Top tier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in internal (BenQ) and external benchma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Operational  process excell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Global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foot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and people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dditional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cope and scale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could further drive CC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quisition of additional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business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(e.g. BenQ Cor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quisition of additional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volume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(3</a:t>
            </a:r>
            <a:r>
              <a:rPr b="0" lang="en-US" sz="20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rd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party mobile busi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6280" y="-163800"/>
            <a:ext cx="850104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ite consolidation will be consequently executed, jobs and tasks from Ulm are transferred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"/>
          <p:cNvSpPr/>
          <p:nvPr/>
        </p:nvSpPr>
        <p:spPr>
          <a:xfrm>
            <a:off x="520560" y="1496880"/>
            <a:ext cx="7515360" cy="462600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52440" y="1787400"/>
            <a:ext cx="631692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All jobs are preserved – no layoff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The jobs will be located in Munich Headquarters</a:t>
            </a:r>
            <a:br>
              <a:rPr sz="2200"/>
            </a:b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(or in Kamp Lintfort if desir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Actual tasks are shifted with the workpl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Better utilization of as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Full involvement in core pro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Right sizing of infra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8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4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ScheubleS</cp:lastModifiedBy>
  <dcterms:modified xsi:type="dcterms:W3CDTF">2006-03-17T17:02:46Z</dcterms:modified>
  <cp:revision>526</cp:revision>
  <dc:subject/>
  <dc:title>All-hands meeting</dc:title>
</cp:coreProperties>
</file>