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17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3.wmf" ContentType="image/x-wmf"/>
  <Override PartName="/ppt/media/image15.jpeg" ContentType="image/jpeg"/>
  <Override PartName="/ppt/media/image2.jpeg" ContentType="image/jpeg"/>
  <Override PartName="/ppt/media/image23.jpeg" ContentType="image/jpeg"/>
  <Override PartName="/ppt/media/image10.png" ContentType="image/png"/>
  <Override PartName="/ppt/media/image27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4.wmf" ContentType="image/x-wmf"/>
  <Override PartName="/ppt/media/image21.jpeg" ContentType="image/jpeg"/>
  <Override PartName="/ppt/media/image16.jpeg" ContentType="image/jpeg"/>
  <Override PartName="/ppt/media/image20.png" ContentType="image/png"/>
  <Override PartName="/ppt/media/image28.jpeg" ContentType="image/jpeg"/>
  <Override PartName="/ppt/media/image18.png" ContentType="image/png"/>
  <Override PartName="/ppt/media/image14.png" ContentType="image/png"/>
  <Override PartName="/ppt/media/image5.png" ContentType="image/png"/>
  <Override PartName="/ppt/media/image2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6404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Click to move the slide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4680" y="4718160"/>
            <a:ext cx="4987800" cy="4464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1668FAC-5B52-4D01-88DA-3124E8842AD2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FF09F16-76A7-4375-9C2A-41C663584066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552920"/>
            <a:ext cx="55404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 txBox="1"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0BEC1E7-071B-46DC-B003-A2E9F5E0482F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552920"/>
            <a:ext cx="55404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262080"/>
            <a:ext cx="8553600" cy="198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"/>
          <p:cNvSpPr/>
          <p:nvPr/>
        </p:nvSpPr>
        <p:spPr>
          <a:xfrm>
            <a:off x="371520" y="648180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3/17; CJJ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6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996240" y="6481800"/>
            <a:ext cx="6537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r"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fld id="{8B2EF8AD-D92D-46AD-A561-8B432A60351F}" type="slidenum"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.wmf"/><Relationship Id="rId9" Type="http://schemas.openxmlformats.org/officeDocument/2006/relationships/hyperlink" Target="http://www.phoneyworld.com/handsets/overview.aspx?phone=siemens_a70" TargetMode="External"/><Relationship Id="rId10" Type="http://schemas.openxmlformats.org/officeDocument/2006/relationships/image" Target="../media/image12.png"/><Relationship Id="rId11" Type="http://schemas.openxmlformats.org/officeDocument/2006/relationships/hyperlink" Target="http://www.phoneyworld.com/handsets/overview.aspx?phone=siemens_a75" TargetMode="External"/><Relationship Id="rId12" Type="http://schemas.openxmlformats.org/officeDocument/2006/relationships/image" Target="../media/image13.png"/><Relationship Id="rId13" Type="http://schemas.openxmlformats.org/officeDocument/2006/relationships/hyperlink" Target="http://www.phoneyworld.com/handsets/overview.aspx?phone=siemens_ax75" TargetMode="External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9320" y="4211640"/>
            <a:ext cx="8458200" cy="48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Minion"/>
              </a:rPr>
              <a:t>Webcast / All-hands Meeting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9" name=""/>
          <p:cNvSpPr/>
          <p:nvPr/>
        </p:nvSpPr>
        <p:spPr>
          <a:xfrm>
            <a:off x="409680" y="5095800"/>
            <a:ext cx="4572000" cy="76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Clemens J. Jo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Munich – March 17,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14680" y="1576440"/>
            <a:ext cx="3421080" cy="1608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2980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Sales organization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7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34880" y="1038240"/>
            <a:ext cx="8247240" cy="46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1" marL="184320" indent="-1828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Reinforcement of regional management 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1360" indent="-255600">
              <a:lnSpc>
                <a:spcPct val="100000"/>
              </a:lnSpc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Direct reporting line to CEO – No Global Sales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1360" indent="-255600">
              <a:lnSpc>
                <a:spcPct val="100000"/>
              </a:lnSpc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Asia responsibilities reassigned to HQ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84320" indent="-182880">
              <a:lnSpc>
                <a:spcPct val="100000"/>
              </a:lnSpc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Denis Morel will assume responsibility for Western Euro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84320" indent="-182880">
              <a:lnSpc>
                <a:spcPct val="100000"/>
              </a:lnSpc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Josef Forer is nominated as Eastern Europe He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1360" indent="-255600">
              <a:lnSpc>
                <a:spcPct val="100000"/>
              </a:lnSpc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He will assume regional coordination and be a member of the Extended Management Board (EMB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1360" indent="-255600">
              <a:lnSpc>
                <a:spcPct val="100000"/>
              </a:lnSpc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MEA will be assigned to E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84320" indent="-182880">
              <a:lnSpc>
                <a:spcPct val="100000"/>
              </a:lnSpc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Realignment of Sales BA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1360" indent="-255600">
              <a:lnSpc>
                <a:spcPct val="100000"/>
              </a:lnSpc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Regional Business Administration (RM BA) and Sales Operations and Controlling (SOC) need to be closer aligned to further streamline proce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TW" sz="2800" spc="-1" strike="noStrike">
                <a:solidFill>
                  <a:srgbClr val="3a0e66"/>
                </a:solidFill>
                <a:latin typeface="Minion"/>
              </a:rPr>
              <a:t>Realigning the Marketing Organization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1514520"/>
            <a:ext cx="8305920" cy="38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84320" indent="-1828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Complementary partner to Category Management where both organizations share ONE GOAL of achieving profitable growth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Marketing to focus on building the brand, championing market development and product communications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Move of field marketing into regions to be closer to the sales regions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Marketing Operations (MO) function installed to drive optimization of roles and processes to stabilize and continuously improve the global marketing organization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8077320" y="3646440"/>
            <a:ext cx="0" cy="1634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235400" y="1954080"/>
            <a:ext cx="0" cy="16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58920" y="3009960"/>
            <a:ext cx="3316320" cy="3063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62160" y="2185920"/>
            <a:ext cx="3306600" cy="82404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51000" y="1103400"/>
            <a:ext cx="3313080" cy="863640"/>
          </a:xfrm>
          <a:prstGeom prst="rect">
            <a:avLst/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54320" y="3782880"/>
            <a:ext cx="1000440" cy="912960"/>
          </a:xfrm>
          <a:prstGeom prst="rect">
            <a:avLst/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84120" y="3782880"/>
            <a:ext cx="1443240" cy="9129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787480" y="3782880"/>
            <a:ext cx="1211400" cy="9129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3782880"/>
            <a:ext cx="1074960" cy="9129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500960" y="3782880"/>
            <a:ext cx="1569960" cy="912960"/>
          </a:xfrm>
          <a:prstGeom prst="rect">
            <a:avLst/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08400" y="3782880"/>
            <a:ext cx="1000440" cy="912960"/>
          </a:xfrm>
          <a:prstGeom prst="rect">
            <a:avLst/>
          </a:prstGeom>
          <a:solidFill>
            <a:srgbClr val="d9d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3200" y="281160"/>
            <a:ext cx="701064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MG Global Marketing Organization 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3" name=""/>
          <p:cNvSpPr/>
          <p:nvPr/>
        </p:nvSpPr>
        <p:spPr>
          <a:xfrm>
            <a:off x="1093680" y="5675400"/>
            <a:ext cx="2596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Functional Responsibilit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Richard Leo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98360" y="5099040"/>
            <a:ext cx="2596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Functional Responsibilit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Sandra Rub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18360" y="1228680"/>
            <a:ext cx="4021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Chief Marketing Officer (CM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Richard Leo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8440" y="2151000"/>
            <a:ext cx="386568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Marketing Operations (MO)</a:t>
            </a:r>
            <a:br>
              <a:rPr sz="2000"/>
            </a:b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Management &amp; CMO Deputy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Sandra Rub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9080" y="3792600"/>
            <a:ext cx="1256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Tra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tefan Lo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3800" y="3790800"/>
            <a:ext cx="1936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ccount Market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&amp; Commun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imo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channewitz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45360" y="3772080"/>
            <a:ext cx="1334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erform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ontrol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Kevina Ken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65400" y="3772080"/>
            <a:ext cx="1127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Brand &amp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Mar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Nina Bra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991400" y="3772080"/>
            <a:ext cx="1247400" cy="946440"/>
          </a:xfrm>
          <a:prstGeom prst="rect">
            <a:avLst/>
          </a:prstGeom>
          <a:solidFill>
            <a:srgbClr val="807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Marketing 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Intellig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Mathias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Gilo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537320" y="3784680"/>
            <a:ext cx="1657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Region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WE, EE, LAM, As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2760" y="2952720"/>
            <a:ext cx="310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CMO/MO Ass. F. Biberge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44480" y="3619440"/>
            <a:ext cx="0" cy="16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97360" y="3618000"/>
            <a:ext cx="0" cy="16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56240" y="3619440"/>
            <a:ext cx="0" cy="16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86240" y="3624120"/>
            <a:ext cx="0" cy="1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144880" y="3624120"/>
            <a:ext cx="0" cy="1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6320" y="5235480"/>
            <a:ext cx="474840" cy="32724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2800" y="5775480"/>
            <a:ext cx="474480" cy="326880"/>
          </a:xfrm>
          <a:prstGeom prst="rect">
            <a:avLst/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468760" y="1542960"/>
            <a:ext cx="1038240" cy="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75240" y="2639880"/>
            <a:ext cx="1038240" cy="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507000" y="1527120"/>
            <a:ext cx="0" cy="105732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507000" y="2201760"/>
            <a:ext cx="295560" cy="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02560" y="1793880"/>
            <a:ext cx="135072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28400" y="1851120"/>
            <a:ext cx="1533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Busines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dmin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ilke Cor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69080" y="3606840"/>
            <a:ext cx="129528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180120" y="3782880"/>
            <a:ext cx="1243080" cy="912960"/>
          </a:xfrm>
          <a:prstGeom prst="rect">
            <a:avLst/>
          </a:prstGeom>
          <a:solidFill>
            <a:srgbClr val="d9d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4760" y="3772080"/>
            <a:ext cx="1476000" cy="946440"/>
          </a:xfrm>
          <a:prstGeom prst="rect">
            <a:avLst/>
          </a:prstGeom>
          <a:solidFill>
            <a:srgbClr val="807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Regional Mkt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Suppor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Andre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Mue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23960" y="360684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56480" y="3594240"/>
            <a:ext cx="0" cy="16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3320" y="50400"/>
            <a:ext cx="8118360" cy="8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TW" sz="2800" spc="-1" strike="noStrike">
                <a:solidFill>
                  <a:srgbClr val="3a0e66"/>
                </a:solidFill>
                <a:latin typeface="Minion"/>
              </a:rPr>
              <a:t>Realigning the Category Management Organization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880" y="1298520"/>
            <a:ext cx="8601120" cy="44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84320" indent="-182880">
              <a:spcBef>
                <a:spcPts val="55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Complementary partner to Global Marketing where both organizations share ONE GOAL of achieving profitable growth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55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Develop the four categories through product development, portfolio and lifecycle management 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55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Category Managers to drive the portfolio process and product roadmap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55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Translate the expected market requirements into marketable value propositions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55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Kickoff of innovative projects to address mid-term market disruptions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55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Reassign technical functions (e.g. SW architecture, etc.) to R&amp;D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55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Assign IPR and standardization resources to BMG ISR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" y="5115240"/>
            <a:ext cx="8102520" cy="9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540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Details of transfer will be specified within March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MG Category Management Organization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6" name=""/>
          <p:cNvSpPr/>
          <p:nvPr/>
        </p:nvSpPr>
        <p:spPr>
          <a:xfrm>
            <a:off x="5006880" y="17845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591240" y="17845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79600" y="849240"/>
            <a:ext cx="4608360" cy="64944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Category Management</a:t>
            </a:r>
            <a:br>
              <a:rPr sz="2000"/>
            </a:b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Phil Mulholland &amp; Harrison Chang (depu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68360" y="1928880"/>
            <a:ext cx="2519280" cy="5763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CM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Hans-Joachim G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8360" y="2647800"/>
            <a:ext cx="2519280" cy="5763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CM Image &amp;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Bettina Siegw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8360" y="3368520"/>
            <a:ext cx="2519280" cy="5763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CM Affordable Qu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Katrin Brau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68360" y="4089240"/>
            <a:ext cx="2519280" cy="5763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CM Pa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Stefan Rei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8360" y="4808520"/>
            <a:ext cx="2519280" cy="5763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CM VA Enhanc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Gernot v. Natz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230880" y="1928880"/>
            <a:ext cx="2157480" cy="5763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Portfolio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Dr. Sebastian Ha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43240" y="1928880"/>
            <a:ext cx="1800360" cy="110952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Innovation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Technology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Uwe Syd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59240" y="3181320"/>
            <a:ext cx="1584360" cy="6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Innovation</a:t>
            </a:r>
            <a:br>
              <a:rPr sz="1600"/>
            </a:b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59240" y="3902040"/>
            <a:ext cx="158436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Technology &amp;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Requi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519960" y="6032520"/>
            <a:ext cx="1800000" cy="649440"/>
          </a:xfrm>
          <a:prstGeom prst="rect">
            <a:avLst/>
          </a:prstGeom>
          <a:solidFill>
            <a:srgbClr val="e3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Consumer Insigh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Gilo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519960" y="2647800"/>
            <a:ext cx="180000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Portfolio Strategy &amp; 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519960" y="3368520"/>
            <a:ext cx="180000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Key Custo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Strategy &amp; Mgm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519960" y="4087800"/>
            <a:ext cx="180000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The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519960" y="5097600"/>
            <a:ext cx="180000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Applications &amp; </a:t>
            </a: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Partner Developmt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99240" y="16416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06880" y="178452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214880" y="3035160"/>
            <a:ext cx="0" cy="129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214880" y="43340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214880" y="35402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6300360" y="2505240"/>
            <a:ext cx="3240" cy="31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303960" y="28656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303960" y="36561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303960" y="43038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303960" y="56721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68360" y="5529240"/>
            <a:ext cx="2522520" cy="576360"/>
          </a:xfrm>
          <a:prstGeom prst="flowChartProcess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CM Taipe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Chinlung 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"/>
          <p:cNvCxnSpPr>
            <a:stCxn id="178" idx="2"/>
            <a:endCxn id="179" idx="3"/>
          </p:cNvCxnSpPr>
          <p:nvPr/>
        </p:nvCxnSpPr>
        <p:spPr>
          <a:xfrm rot="5400000">
            <a:off x="3026160" y="1459440"/>
            <a:ext cx="719640" cy="797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178" idx="2"/>
            <a:endCxn id="180" idx="3"/>
          </p:cNvCxnSpPr>
          <p:nvPr/>
        </p:nvCxnSpPr>
        <p:spPr>
          <a:xfrm rot="5400000">
            <a:off x="2666520" y="1819080"/>
            <a:ext cx="1438920" cy="797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6" name=""/>
          <p:cNvCxnSpPr>
            <a:stCxn id="178" idx="2"/>
            <a:endCxn id="181" idx="3"/>
          </p:cNvCxnSpPr>
          <p:nvPr/>
        </p:nvCxnSpPr>
        <p:spPr>
          <a:xfrm rot="5400000">
            <a:off x="2306160" y="2179440"/>
            <a:ext cx="2159640" cy="797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7" name=""/>
          <p:cNvCxnSpPr>
            <a:stCxn id="178" idx="2"/>
            <a:endCxn id="182" idx="3"/>
          </p:cNvCxnSpPr>
          <p:nvPr/>
        </p:nvCxnSpPr>
        <p:spPr>
          <a:xfrm rot="5400000">
            <a:off x="1945800" y="2539800"/>
            <a:ext cx="2880360" cy="797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8" name=""/>
          <p:cNvCxnSpPr>
            <a:stCxn id="178" idx="2"/>
            <a:endCxn id="183" idx="3"/>
          </p:cNvCxnSpPr>
          <p:nvPr/>
        </p:nvCxnSpPr>
        <p:spPr>
          <a:xfrm rot="5400000">
            <a:off x="1586160" y="2899440"/>
            <a:ext cx="3599640" cy="797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9" name=""/>
          <p:cNvCxnSpPr>
            <a:stCxn id="178" idx="2"/>
            <a:endCxn id="203" idx="3"/>
          </p:cNvCxnSpPr>
          <p:nvPr/>
        </p:nvCxnSpPr>
        <p:spPr>
          <a:xfrm rot="5400000">
            <a:off x="1227240" y="3261240"/>
            <a:ext cx="4320360" cy="7945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10" name=""/>
          <p:cNvSpPr/>
          <p:nvPr/>
        </p:nvSpPr>
        <p:spPr>
          <a:xfrm flipH="1">
            <a:off x="3782520" y="164160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6084360" y="11383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948360" y="851040"/>
            <a:ext cx="1511280" cy="647640"/>
          </a:xfrm>
          <a:prstGeom prst="flowChartProcess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Roland Schmid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356000" y="5126040"/>
            <a:ext cx="1584360" cy="6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Disrup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Techn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213080" y="4259160"/>
            <a:ext cx="0" cy="129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213080" y="555768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516720" y="4594320"/>
            <a:ext cx="180036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User Experi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00720" y="48830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79280" y="-163800"/>
            <a:ext cx="91440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BMG Product House Set-Up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Reasoning for bringing both Product Houses tog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069920" y="1776240"/>
            <a:ext cx="0" cy="3152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35080" y="993600"/>
            <a:ext cx="8624880" cy="1036800"/>
          </a:xfrm>
          <a:prstGeom prst="rect">
            <a:avLst/>
          </a:prstGeom>
          <a:solidFill>
            <a:srgbClr val="cfc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17440" y="993600"/>
            <a:ext cx="2246400" cy="1036800"/>
          </a:xfrm>
          <a:custGeom>
            <a:avLst/>
            <a:gdLst>
              <a:gd name="textAreaLeft" fmla="*/ 0 w 2246400"/>
              <a:gd name="textAreaRight" fmla="*/ 2246760 w 2246400"/>
              <a:gd name="textAreaTop" fmla="*/ 0 h 1036800"/>
              <a:gd name="textAreaBottom" fmla="*/ 1037160 h 103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463" y="0"/>
                </a:lnTo>
                <a:lnTo>
                  <a:pt x="21600" y="10800"/>
                </a:lnTo>
                <a:lnTo>
                  <a:pt x="1746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7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inion"/>
              </a:rPr>
              <a:t>BMG Product 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62120" y="987480"/>
            <a:ext cx="62978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+ Realizing synergies / communal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+ Standardized targets, structures, KPIs &amp; 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+ Simplified structure with clear responsibil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+ Faster alignment of 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739800" y="2073240"/>
            <a:ext cx="8120160" cy="1953720"/>
            <a:chOff x="739800" y="2073240"/>
            <a:chExt cx="8120160" cy="1953720"/>
          </a:xfrm>
        </p:grpSpPr>
        <p:sp>
          <p:nvSpPr>
            <p:cNvPr id="224" name=""/>
            <p:cNvSpPr/>
            <p:nvPr/>
          </p:nvSpPr>
          <p:spPr>
            <a:xfrm>
              <a:off x="755640" y="2109960"/>
              <a:ext cx="8104320" cy="126036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9800" y="2109960"/>
              <a:ext cx="1717560" cy="1260360"/>
            </a:xfrm>
            <a:custGeom>
              <a:avLst/>
              <a:gdLst>
                <a:gd name="textAreaLeft" fmla="*/ 0 w 1717560"/>
                <a:gd name="textAreaRight" fmla="*/ 1717920 w 1717560"/>
                <a:gd name="textAreaTop" fmla="*/ 0 h 1260360"/>
                <a:gd name="textAreaBottom" fmla="*/ 1260720 h 12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807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BMG PH RD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Research &amp;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Develop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62120" y="2073240"/>
              <a:ext cx="6297840" cy="195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Increased efficiency – reuse of technologies &amp; higher utiliz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Clearer program responsibil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More speed and market flexibility than totally centralistic 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Global systems &amp; software architecture, predevelopments &amp; innov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Developing global platform strateg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-  Alignment needs on system concept and proces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739800" y="3446640"/>
            <a:ext cx="8120160" cy="1333800"/>
            <a:chOff x="739800" y="3446640"/>
            <a:chExt cx="8120160" cy="1333800"/>
          </a:xfrm>
        </p:grpSpPr>
        <p:sp>
          <p:nvSpPr>
            <p:cNvPr id="228" name=""/>
            <p:cNvSpPr/>
            <p:nvPr/>
          </p:nvSpPr>
          <p:spPr>
            <a:xfrm>
              <a:off x="755640" y="3454560"/>
              <a:ext cx="8104320" cy="108576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39800" y="3454560"/>
              <a:ext cx="1717560" cy="1085760"/>
            </a:xfrm>
            <a:custGeom>
              <a:avLst/>
              <a:gdLst>
                <a:gd name="textAreaLeft" fmla="*/ 0 w 1717560"/>
                <a:gd name="textAreaRight" fmla="*/ 1717920 w 1717560"/>
                <a:gd name="textAreaTop" fmla="*/ 0 h 1085760"/>
                <a:gd name="textAreaBottom" fmla="*/ 1086120 h 10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807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BMG PH TPM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Technical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Product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562120" y="3446640"/>
              <a:ext cx="6297840" cy="13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Driving product realization across all Product House 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SPEED and COST focus (T2M, T2V as well as product cost, qualit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Project management excell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End2end responsibility – from cradle to gra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-  Potential conflicts with product line manag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739800" y="4611600"/>
            <a:ext cx="8120160" cy="941400"/>
            <a:chOff x="739800" y="4611600"/>
            <a:chExt cx="8120160" cy="941400"/>
          </a:xfrm>
        </p:grpSpPr>
        <p:sp>
          <p:nvSpPr>
            <p:cNvPr id="232" name=""/>
            <p:cNvSpPr/>
            <p:nvPr/>
          </p:nvSpPr>
          <p:spPr>
            <a:xfrm>
              <a:off x="755640" y="4611600"/>
              <a:ext cx="8104320" cy="94140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39800" y="4611600"/>
              <a:ext cx="1717560" cy="941400"/>
            </a:xfrm>
            <a:custGeom>
              <a:avLst/>
              <a:gdLst>
                <a:gd name="textAreaLeft" fmla="*/ 0 w 1717560"/>
                <a:gd name="textAreaRight" fmla="*/ 1717920 w 1717560"/>
                <a:gd name="textAreaTop" fmla="*/ 0 h 941400"/>
                <a:gd name="textAreaBottom" fmla="*/ 941760 h 94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807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BMG PH SP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Strategic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Procur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562120" y="4888080"/>
              <a:ext cx="629784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Synergy, Simplification, Better Resources Sharing &amp; Negotiation Pow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739800" y="5629320"/>
            <a:ext cx="8120160" cy="1229760"/>
            <a:chOff x="739800" y="5629320"/>
            <a:chExt cx="8120160" cy="1229760"/>
          </a:xfrm>
        </p:grpSpPr>
        <p:sp>
          <p:nvSpPr>
            <p:cNvPr id="236" name=""/>
            <p:cNvSpPr/>
            <p:nvPr/>
          </p:nvSpPr>
          <p:spPr>
            <a:xfrm>
              <a:off x="755640" y="5629320"/>
              <a:ext cx="8104320" cy="93960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39800" y="5629320"/>
              <a:ext cx="1717560" cy="939600"/>
            </a:xfrm>
            <a:custGeom>
              <a:avLst/>
              <a:gdLst>
                <a:gd name="textAreaLeft" fmla="*/ 0 w 1717560"/>
                <a:gd name="textAreaRight" fmla="*/ 1717920 w 1717560"/>
                <a:gd name="textAreaTop" fmla="*/ 0 h 939600"/>
                <a:gd name="textAreaBottom" fmla="*/ 939960 h 93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807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BMG PH SCM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Supply Chain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562120" y="5670720"/>
              <a:ext cx="6297840" cy="11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Manufacturing is part of regional operations – fitting to BenQ princip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Manufacturing can possibly be basis for multiple product ran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Global functions of QM, OF, TLM &amp; MO with regional off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8920" y="256680"/>
            <a:ext cx="8231400" cy="4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MG Product House Set-Up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0" name=""/>
          <p:cNvSpPr/>
          <p:nvPr/>
        </p:nvSpPr>
        <p:spPr>
          <a:xfrm>
            <a:off x="7470720" y="349740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14720" y="1009800"/>
            <a:ext cx="4697280" cy="755640"/>
          </a:xfrm>
          <a:prstGeom prst="rect">
            <a:avLst/>
          </a:prstGeom>
          <a:solidFill>
            <a:srgbClr val="460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573280" y="1228680"/>
            <a:ext cx="3832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Minion"/>
              </a:rPr>
              <a:t>Dr. Jochen Eickholt &amp; Dr. Irwin Ch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366840" y="2111400"/>
            <a:ext cx="8417880" cy="2312640"/>
            <a:chOff x="366840" y="2111400"/>
            <a:chExt cx="8417880" cy="2312640"/>
          </a:xfrm>
        </p:grpSpPr>
        <p:sp>
          <p:nvSpPr>
            <p:cNvPr id="244" name=""/>
            <p:cNvSpPr/>
            <p:nvPr/>
          </p:nvSpPr>
          <p:spPr>
            <a:xfrm>
              <a:off x="366840" y="2111400"/>
              <a:ext cx="2005560" cy="231264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000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a0e66"/>
                  </a:solidFill>
                  <a:latin typeface="Minion"/>
                </a:rPr>
                <a:t>PH TP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Technical Product</a:t>
              </a:r>
              <a:br>
                <a:rPr sz="1600"/>
              </a:b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Holger Asmussen /</a:t>
              </a:r>
              <a:br>
                <a:rPr sz="1600"/>
              </a:b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Pat Hsu / </a:t>
              </a:r>
              <a:br>
                <a:rPr sz="1600"/>
              </a:b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act. Katrin Brau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511000" y="2111400"/>
              <a:ext cx="2009520" cy="231264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000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a0e66"/>
                  </a:solidFill>
                  <a:latin typeface="Minion"/>
                </a:rPr>
                <a:t>PH 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Research &amp; </a:t>
              </a:r>
              <a:br>
                <a:rPr sz="1600"/>
              </a:b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Develop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Dr. Siegfried Bocione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Dr. Yungchia Lee</a:t>
              </a:r>
              <a:br>
                <a:rPr sz="1600"/>
              </a:b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(deput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632120" y="2111400"/>
              <a:ext cx="2005920" cy="231264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000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a0e66"/>
                  </a:solidFill>
                  <a:latin typeface="Minion"/>
                </a:rPr>
                <a:t>PH 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Strategic</a:t>
              </a:r>
              <a:br>
                <a:rPr sz="1600"/>
              </a:b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Procur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Teresa W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act. Jens Danneil</a:t>
              </a:r>
              <a:br>
                <a:rPr sz="1600"/>
              </a:b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(deput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780960" y="2111400"/>
              <a:ext cx="2003760" cy="231264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000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a0e66"/>
                  </a:solidFill>
                  <a:latin typeface="Minion"/>
                </a:rPr>
                <a:t>PH SC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Supply Chain</a:t>
              </a:r>
              <a:br>
                <a:rPr sz="1600"/>
              </a:b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Dr. Bernd Schmi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Gerold Simbürger</a:t>
              </a:r>
              <a:br>
                <a:rPr sz="1600"/>
              </a:b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(deput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48" name=""/>
          <p:cNvCxnSpPr>
            <a:stCxn id="241" idx="2"/>
            <a:endCxn id="244" idx="0"/>
          </p:cNvCxnSpPr>
          <p:nvPr/>
        </p:nvCxnSpPr>
        <p:spPr>
          <a:xfrm rot="5400000">
            <a:off x="2793600" y="341280"/>
            <a:ext cx="346680" cy="319464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49" name=""/>
          <p:cNvCxnSpPr>
            <a:stCxn id="241" idx="2"/>
            <a:endCxn id="245" idx="0"/>
          </p:cNvCxnSpPr>
          <p:nvPr/>
        </p:nvCxnSpPr>
        <p:spPr>
          <a:xfrm rot="5400000">
            <a:off x="3866760" y="1414440"/>
            <a:ext cx="346680" cy="104832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0" name=""/>
          <p:cNvCxnSpPr>
            <a:stCxn id="241" idx="2"/>
            <a:endCxn id="246" idx="0"/>
          </p:cNvCxnSpPr>
          <p:nvPr/>
        </p:nvCxnSpPr>
        <p:spPr>
          <a:xfrm flipH="1" rot="16200000">
            <a:off x="4925880" y="1402200"/>
            <a:ext cx="346680" cy="107244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1" name=""/>
          <p:cNvCxnSpPr>
            <a:stCxn id="241" idx="2"/>
            <a:endCxn id="247" idx="0"/>
          </p:cNvCxnSpPr>
          <p:nvPr/>
        </p:nvCxnSpPr>
        <p:spPr>
          <a:xfrm flipH="1" rot="16200000">
            <a:off x="5999760" y="328320"/>
            <a:ext cx="346680" cy="32202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</a:ln>
        </p:spPr>
      </p:cxnSp>
      <p:sp>
        <p:nvSpPr>
          <p:cNvPr id="252" name=""/>
          <p:cNvSpPr/>
          <p:nvPr/>
        </p:nvSpPr>
        <p:spPr>
          <a:xfrm>
            <a:off x="509760" y="4659480"/>
            <a:ext cx="8246880" cy="15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Product House BA responsibility with L. Som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4600" indent="-1731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TPM BA is integrated into RD BA as both organizations cope with project contro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4600" indent="-1731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SP BA is integrated in SCM BA in order to better cope with the product cost challe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0600" y="4572000"/>
            <a:ext cx="8353440" cy="1706400"/>
          </a:xfrm>
          <a:prstGeom prst="rect">
            <a:avLst/>
          </a:prstGeom>
          <a:noFill/>
          <a:ln w="93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78920" y="-163800"/>
            <a:ext cx="8231400" cy="12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MG Product House Set-Up: R&amp;D with products and platforms assigned to four R&amp;D Center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119160" y="1409760"/>
            <a:ext cx="807840" cy="5387760"/>
            <a:chOff x="119160" y="1409760"/>
            <a:chExt cx="807840" cy="5387760"/>
          </a:xfrm>
        </p:grpSpPr>
        <p:sp>
          <p:nvSpPr>
            <p:cNvPr id="257" name=""/>
            <p:cNvSpPr/>
            <p:nvPr/>
          </p:nvSpPr>
          <p:spPr>
            <a:xfrm>
              <a:off x="119160" y="1409760"/>
              <a:ext cx="807840" cy="538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86120" y="1476360"/>
              <a:ext cx="72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de-DE" sz="2000" spc="-1" strike="noStrike">
                  <a:solidFill>
                    <a:srgbClr val="3a0e66"/>
                  </a:solidFill>
                  <a:latin typeface="Minion"/>
                </a:rPr>
                <a:t>TP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7340760" y="1398600"/>
            <a:ext cx="1650600" cy="5388120"/>
            <a:chOff x="7340760" y="1398600"/>
            <a:chExt cx="1650600" cy="5388120"/>
          </a:xfrm>
        </p:grpSpPr>
        <p:sp>
          <p:nvSpPr>
            <p:cNvPr id="260" name=""/>
            <p:cNvSpPr/>
            <p:nvPr/>
          </p:nvSpPr>
          <p:spPr>
            <a:xfrm>
              <a:off x="7340760" y="1398600"/>
              <a:ext cx="798120" cy="538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193240" y="1398600"/>
              <a:ext cx="798120" cy="538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525080" y="1468440"/>
              <a:ext cx="48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de-DE" sz="2000" spc="-1" strike="noStrike">
                  <a:solidFill>
                    <a:srgbClr val="3a0e66"/>
                  </a:solidFill>
                  <a:latin typeface="Minion"/>
                </a:rPr>
                <a:t>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249040" y="1460520"/>
              <a:ext cx="72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de-DE" sz="2000" spc="-1" strike="noStrike">
                  <a:solidFill>
                    <a:srgbClr val="3a0e66"/>
                  </a:solidFill>
                  <a:latin typeface="Minion"/>
                </a:rPr>
                <a:t>SC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112680" y="936720"/>
            <a:ext cx="8894880" cy="420480"/>
          </a:xfrm>
          <a:prstGeom prst="triangle">
            <a:avLst>
              <a:gd name="adj" fmla="val 50000"/>
            </a:avLst>
          </a:prstGeom>
          <a:solidFill>
            <a:srgbClr val="460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nion"/>
              </a:rPr>
              <a:t>Product 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981000" y="1405080"/>
            <a:ext cx="6297840" cy="538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76560" y="3416400"/>
            <a:ext cx="5079960" cy="334800"/>
          </a:xfrm>
          <a:custGeom>
            <a:avLst/>
            <a:gdLst>
              <a:gd name="textAreaLeft" fmla="*/ 0 w 5079960"/>
              <a:gd name="textAreaRight" fmla="*/ 5080320 w 507996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20" y="0"/>
                </a:lnTo>
                <a:lnTo>
                  <a:pt x="21600" y="10800"/>
                </a:lnTo>
                <a:lnTo>
                  <a:pt x="20820" y="21600"/>
                </a:lnTo>
                <a:lnTo>
                  <a:pt x="0" y="21600"/>
                </a:lnTo>
                <a:lnTo>
                  <a:pt x="780" y="10800"/>
                </a:lnTo>
                <a:close/>
              </a:path>
            </a:pathLst>
          </a:custGeom>
          <a:solidFill>
            <a:srgbClr val="a6a0c2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1112760" y="2235240"/>
            <a:ext cx="5491080" cy="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159200" y="1469880"/>
            <a:ext cx="7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R&amp;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1112760" y="2236320"/>
            <a:ext cx="28800" cy="378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1131480" y="3578400"/>
            <a:ext cx="2048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133640" y="4171680"/>
            <a:ext cx="20448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 flipV="1">
            <a:off x="1134720" y="4819320"/>
            <a:ext cx="20484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 flipV="1">
            <a:off x="1137960" y="5420880"/>
            <a:ext cx="20484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1130040" y="6022440"/>
            <a:ext cx="20484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33360" y="3306600"/>
            <a:ext cx="1173240" cy="532080"/>
          </a:xfrm>
          <a:prstGeom prst="rect">
            <a:avLst/>
          </a:prstGeom>
          <a:solidFill>
            <a:srgbClr val="a6a0c2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Process, Tools,</a:t>
            </a:r>
            <a:br>
              <a:rPr sz="1300"/>
            </a:b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Methodolog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193840" y="3998880"/>
            <a:ext cx="5079960" cy="335160"/>
          </a:xfrm>
          <a:custGeom>
            <a:avLst/>
            <a:gdLst>
              <a:gd name="textAreaLeft" fmla="*/ 0 w 5079960"/>
              <a:gd name="textAreaRight" fmla="*/ 5080320 w 507996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20" y="0"/>
                </a:lnTo>
                <a:lnTo>
                  <a:pt x="21600" y="10800"/>
                </a:lnTo>
                <a:lnTo>
                  <a:pt x="20820" y="21600"/>
                </a:lnTo>
                <a:lnTo>
                  <a:pt x="0" y="21600"/>
                </a:lnTo>
                <a:lnTo>
                  <a:pt x="780" y="10800"/>
                </a:lnTo>
                <a:close/>
              </a:path>
            </a:pathLst>
          </a:custGeom>
          <a:solidFill>
            <a:srgbClr val="a6a0c2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05000" y="4641840"/>
            <a:ext cx="5079960" cy="334800"/>
          </a:xfrm>
          <a:custGeom>
            <a:avLst/>
            <a:gdLst>
              <a:gd name="textAreaLeft" fmla="*/ 0 w 5079960"/>
              <a:gd name="textAreaRight" fmla="*/ 5080320 w 507996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20" y="0"/>
                </a:lnTo>
                <a:lnTo>
                  <a:pt x="21600" y="10800"/>
                </a:lnTo>
                <a:lnTo>
                  <a:pt x="20820" y="21600"/>
                </a:lnTo>
                <a:lnTo>
                  <a:pt x="0" y="21600"/>
                </a:lnTo>
                <a:lnTo>
                  <a:pt x="780" y="10800"/>
                </a:lnTo>
                <a:close/>
              </a:path>
            </a:pathLst>
          </a:custGeom>
          <a:solidFill>
            <a:srgbClr val="a6a0c2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05000" y="5253120"/>
            <a:ext cx="5079960" cy="334800"/>
          </a:xfrm>
          <a:custGeom>
            <a:avLst/>
            <a:gdLst>
              <a:gd name="textAreaLeft" fmla="*/ 0 w 5079960"/>
              <a:gd name="textAreaRight" fmla="*/ 5080320 w 507996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20" y="0"/>
                </a:lnTo>
                <a:lnTo>
                  <a:pt x="21600" y="10800"/>
                </a:lnTo>
                <a:lnTo>
                  <a:pt x="20820" y="21600"/>
                </a:lnTo>
                <a:lnTo>
                  <a:pt x="0" y="21600"/>
                </a:lnTo>
                <a:lnTo>
                  <a:pt x="780" y="10800"/>
                </a:lnTo>
                <a:close/>
              </a:path>
            </a:pathLst>
          </a:custGeom>
          <a:solidFill>
            <a:srgbClr val="a6a0c2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05000" y="5845320"/>
            <a:ext cx="5079960" cy="334800"/>
          </a:xfrm>
          <a:custGeom>
            <a:avLst/>
            <a:gdLst>
              <a:gd name="textAreaLeft" fmla="*/ 0 w 5079960"/>
              <a:gd name="textAreaRight" fmla="*/ 5080320 w 507996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20" y="0"/>
                </a:lnTo>
                <a:lnTo>
                  <a:pt x="21600" y="10800"/>
                </a:lnTo>
                <a:lnTo>
                  <a:pt x="20820" y="21600"/>
                </a:lnTo>
                <a:lnTo>
                  <a:pt x="0" y="21600"/>
                </a:lnTo>
                <a:lnTo>
                  <a:pt x="780" y="10800"/>
                </a:lnTo>
                <a:close/>
              </a:path>
            </a:pathLst>
          </a:custGeom>
          <a:solidFill>
            <a:srgbClr val="a6a0c2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35160" y="3900600"/>
            <a:ext cx="1173240" cy="531720"/>
          </a:xfrm>
          <a:prstGeom prst="rect">
            <a:avLst/>
          </a:prstGeom>
          <a:solidFill>
            <a:srgbClr val="a6a0c2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System Concepts </a:t>
            </a:r>
            <a:br>
              <a:rPr sz="1300"/>
            </a:b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SW Arch. 3</a:t>
            </a:r>
            <a:r>
              <a:rPr b="0" lang="en-US" sz="900" spc="-1" strike="noStrike" baseline="30000">
                <a:solidFill>
                  <a:srgbClr val="3a0e66"/>
                </a:solidFill>
                <a:latin typeface="Minion"/>
              </a:rPr>
              <a:t>rd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 par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Integration, predevelopm</a:t>
            </a:r>
            <a:r>
              <a:rPr b="1" lang="en-US" sz="1000" spc="-1" strike="noStrike">
                <a:solidFill>
                  <a:srgbClr val="3a0e66"/>
                </a:solidFill>
                <a:latin typeface="Minio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236600" y="4549680"/>
            <a:ext cx="1173240" cy="532080"/>
          </a:xfrm>
          <a:prstGeom prst="rect">
            <a:avLst/>
          </a:prstGeom>
          <a:solidFill>
            <a:srgbClr val="a6a0c2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Industrialization </a:t>
            </a:r>
            <a:br>
              <a:rPr sz="1300"/>
            </a:b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MD, layout, assembl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concept, Production I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239840" y="5149800"/>
            <a:ext cx="1173240" cy="531720"/>
          </a:xfrm>
          <a:prstGeom prst="rect">
            <a:avLst/>
          </a:prstGeom>
          <a:solidFill>
            <a:srgbClr val="a6a0c2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System Tes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&amp; Approv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231920" y="5754600"/>
            <a:ext cx="1173240" cy="527040"/>
          </a:xfrm>
          <a:prstGeom prst="rect">
            <a:avLst/>
          </a:prstGeom>
          <a:solidFill>
            <a:srgbClr val="a6a0c2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Value Added </a:t>
            </a:r>
            <a:br>
              <a:rPr sz="1300"/>
            </a:b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4804920" y="1739880"/>
            <a:ext cx="9720" cy="48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3084480" y="2230560"/>
            <a:ext cx="0" cy="26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5400000">
            <a:off x="999720" y="3824280"/>
            <a:ext cx="4092480" cy="1117440"/>
          </a:xfrm>
          <a:prstGeom prst="rect">
            <a:avLst/>
          </a:prstGeom>
          <a:solidFill>
            <a:srgbClr val="cfcdd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5400000">
            <a:off x="3360240" y="3819240"/>
            <a:ext cx="4092480" cy="1124280"/>
          </a:xfrm>
          <a:prstGeom prst="rect">
            <a:avLst/>
          </a:prstGeom>
          <a:solidFill>
            <a:srgbClr val="cfcdd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523960" y="2378160"/>
            <a:ext cx="1033560" cy="78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</a:rPr>
              <a:t>(I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Munich</a:t>
            </a:r>
            <a:br>
              <a:rPr sz="1300"/>
            </a:b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Manaus</a:t>
            </a:r>
            <a:br>
              <a:rPr sz="1300"/>
            </a:b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Wroclaw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rot="5400000">
            <a:off x="2177640" y="3822840"/>
            <a:ext cx="4092480" cy="1117440"/>
          </a:xfrm>
          <a:prstGeom prst="rect">
            <a:avLst/>
          </a:prstGeom>
          <a:solidFill>
            <a:srgbClr val="cfcdd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4222800" y="2230560"/>
            <a:ext cx="0" cy="26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706920" y="2378160"/>
            <a:ext cx="1033200" cy="78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</a:rPr>
              <a:t>(II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Taipe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Hsinch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Suzho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rot="5400000">
            <a:off x="4547880" y="3825720"/>
            <a:ext cx="4092840" cy="1123920"/>
          </a:xfrm>
          <a:prstGeom prst="rect">
            <a:avLst/>
          </a:prstGeom>
          <a:solidFill>
            <a:srgbClr val="cfcdd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6602400" y="2243160"/>
            <a:ext cx="0" cy="264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5400720" y="2251080"/>
            <a:ext cx="0" cy="264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072120" y="2376360"/>
            <a:ext cx="1046160" cy="78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</a:rPr>
              <a:t>(IV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Kamp-Lintfort</a:t>
            </a:r>
            <a:br>
              <a:rPr sz="1300"/>
            </a:b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Wroclaw </a:t>
            </a:r>
            <a:br>
              <a:rPr sz="1300"/>
            </a:b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Aalbor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2755440" y="3155760"/>
            <a:ext cx="4087440" cy="1958760"/>
            <a:chOff x="2755440" y="3155760"/>
            <a:chExt cx="4087440" cy="1958760"/>
          </a:xfrm>
        </p:grpSpPr>
        <p:sp>
          <p:nvSpPr>
            <p:cNvPr id="297" name=""/>
            <p:cNvSpPr/>
            <p:nvPr/>
          </p:nvSpPr>
          <p:spPr>
            <a:xfrm flipH="1" flipV="1">
              <a:off x="2755440" y="3157200"/>
              <a:ext cx="17640" cy="1755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 flipV="1" rot="10800000">
              <a:off x="2880360" y="3832200"/>
              <a:ext cx="57132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M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 flipV="1" rot="10800000">
              <a:off x="2890800" y="4275360"/>
              <a:ext cx="57168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H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 flipV="1" rot="10800000">
              <a:off x="2890800" y="4725000"/>
              <a:ext cx="57168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S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2771280" y="4462200"/>
              <a:ext cx="1112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2765520" y="4023000"/>
              <a:ext cx="1108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2763360" y="4900320"/>
              <a:ext cx="1126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2765520" y="3571200"/>
              <a:ext cx="1108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 rot="10800000">
              <a:off x="2884320" y="3380760"/>
              <a:ext cx="57168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Prog.</a:t>
              </a:r>
              <a:br>
                <a:rPr sz="1300"/>
              </a:b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Mg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 flipV="1">
              <a:off x="3844440" y="3155760"/>
              <a:ext cx="17640" cy="1755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 flipV="1" rot="10800000">
              <a:off x="3969360" y="3830400"/>
              <a:ext cx="57132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M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 flipV="1" rot="10800000">
              <a:off x="3979800" y="4272840"/>
              <a:ext cx="571680" cy="37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H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 flipV="1" rot="10800000">
              <a:off x="3979800" y="4723560"/>
              <a:ext cx="57168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S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3860280" y="4461120"/>
              <a:ext cx="111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854520" y="4020480"/>
              <a:ext cx="109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3852360" y="4899600"/>
              <a:ext cx="111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3854520" y="3569760"/>
              <a:ext cx="109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 flipV="1" rot="10800000">
              <a:off x="3972600" y="3379320"/>
              <a:ext cx="57132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Prog.</a:t>
              </a:r>
              <a:br>
                <a:rPr sz="1300"/>
              </a:b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Mg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 flipV="1">
              <a:off x="5021280" y="3163680"/>
              <a:ext cx="15840" cy="1756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 flipV="1" rot="10800000">
              <a:off x="5146560" y="3839400"/>
              <a:ext cx="571680" cy="37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M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 flipV="1" rot="10800000">
              <a:off x="5155200" y="4283640"/>
              <a:ext cx="57132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H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 flipV="1" rot="10800000">
              <a:off x="5155200" y="4733280"/>
              <a:ext cx="57132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S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5035320" y="4470120"/>
              <a:ext cx="1126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5028840" y="4030920"/>
              <a:ext cx="111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028840" y="4907880"/>
              <a:ext cx="111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5028840" y="3578040"/>
              <a:ext cx="111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 flipV="1" rot="10800000">
              <a:off x="5149800" y="3388680"/>
              <a:ext cx="57168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Prog.</a:t>
              </a:r>
              <a:br>
                <a:rPr sz="1300"/>
              </a:b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Mg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 flipV="1">
              <a:off x="6137280" y="3171960"/>
              <a:ext cx="17280" cy="1755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 flipV="1" rot="10800000">
              <a:off x="6262560" y="3847320"/>
              <a:ext cx="571680" cy="37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M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 flipV="1" rot="10800000">
              <a:off x="6271200" y="4291560"/>
              <a:ext cx="57132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H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 rot="10800000">
              <a:off x="6271200" y="4740120"/>
              <a:ext cx="57132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S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6152760" y="4478400"/>
              <a:ext cx="1112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6146280" y="4039200"/>
              <a:ext cx="109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6144840" y="4915800"/>
              <a:ext cx="111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6146280" y="3585960"/>
              <a:ext cx="109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 flipV="1" rot="10800000">
              <a:off x="6265800" y="3395520"/>
              <a:ext cx="57168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Prog.</a:t>
              </a:r>
              <a:br>
                <a:rPr sz="1300"/>
              </a:b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Mg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4888080" y="2376360"/>
            <a:ext cx="1046160" cy="78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</a:rPr>
              <a:t>(III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Beijing</a:t>
            </a:r>
            <a:br>
              <a:rPr sz="1300"/>
            </a:b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Shangha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495600" y="1496880"/>
            <a:ext cx="2546280" cy="600120"/>
          </a:xfrm>
          <a:prstGeom prst="rect">
            <a:avLst/>
          </a:prstGeom>
          <a:solidFill>
            <a:srgbClr val="460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inion"/>
              </a:rPr>
              <a:t>Dr. Siegfried Bocionek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Minion"/>
              </a:rPr>
              <a:t>Dr. Yungchai Lee (depu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189080" y="2309760"/>
            <a:ext cx="13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R&amp;D Ce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78920" y="-163800"/>
            <a:ext cx="8231400" cy="12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MG Product House Set-Up: Technical Product Management with clear Project Management Focu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8" name=""/>
          <p:cNvSpPr/>
          <p:nvPr/>
        </p:nvSpPr>
        <p:spPr>
          <a:xfrm>
            <a:off x="119160" y="1409760"/>
            <a:ext cx="6303960" cy="53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9360" y="1476360"/>
            <a:ext cx="7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T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7340760" y="1398600"/>
            <a:ext cx="1650600" cy="5388120"/>
            <a:chOff x="7340760" y="1398600"/>
            <a:chExt cx="1650600" cy="5388120"/>
          </a:xfrm>
        </p:grpSpPr>
        <p:sp>
          <p:nvSpPr>
            <p:cNvPr id="341" name=""/>
            <p:cNvSpPr/>
            <p:nvPr/>
          </p:nvSpPr>
          <p:spPr>
            <a:xfrm>
              <a:off x="7340760" y="1398600"/>
              <a:ext cx="798120" cy="538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193240" y="1398600"/>
              <a:ext cx="798120" cy="538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525080" y="1468440"/>
              <a:ext cx="48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de-DE" sz="2000" spc="-1" strike="noStrike">
                  <a:solidFill>
                    <a:srgbClr val="3a0e66"/>
                  </a:solidFill>
                  <a:latin typeface="Minion"/>
                </a:rPr>
                <a:t>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249040" y="1460520"/>
              <a:ext cx="72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de-DE" sz="2000" spc="-1" strike="noStrike">
                  <a:solidFill>
                    <a:srgbClr val="3a0e66"/>
                  </a:solidFill>
                  <a:latin typeface="Minion"/>
                </a:rPr>
                <a:t>SC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112680" y="936720"/>
            <a:ext cx="8894880" cy="420480"/>
          </a:xfrm>
          <a:prstGeom prst="triangle">
            <a:avLst>
              <a:gd name="adj" fmla="val 50000"/>
            </a:avLst>
          </a:prstGeom>
          <a:solidFill>
            <a:srgbClr val="460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nion"/>
              </a:rPr>
              <a:t>Product 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481800" y="1393920"/>
            <a:ext cx="798480" cy="53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591600" y="1455840"/>
            <a:ext cx="53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42960" y="2568600"/>
            <a:ext cx="2633760" cy="1111320"/>
          </a:xfrm>
          <a:prstGeom prst="rect">
            <a:avLst/>
          </a:prstGeom>
          <a:solidFill>
            <a:srgbClr val="cfcdd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TPM Europe</a:t>
            </a:r>
            <a:br>
              <a:rPr sz="1800"/>
            </a:b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incl. TPM BO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Holger Asmuss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468600" y="2567160"/>
            <a:ext cx="2633760" cy="1110960"/>
          </a:xfrm>
          <a:prstGeom prst="rect">
            <a:avLst/>
          </a:prstGeom>
          <a:solidFill>
            <a:srgbClr val="cfcdd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TPM Asia</a:t>
            </a:r>
            <a:br>
              <a:rPr sz="1800"/>
            </a:b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incl. TPM BO (to be setu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Pat Hsu / act. Katrin Bra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78920" y="49320"/>
            <a:ext cx="823140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MG Product House Set-Up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Strategic Procuremen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2" name=""/>
          <p:cNvSpPr/>
          <p:nvPr/>
        </p:nvSpPr>
        <p:spPr>
          <a:xfrm>
            <a:off x="1835280" y="1398600"/>
            <a:ext cx="6303960" cy="538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193240" y="1398600"/>
            <a:ext cx="798480" cy="538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899000" y="146700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220240" y="1460520"/>
            <a:ext cx="72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S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12680" y="936720"/>
            <a:ext cx="8894880" cy="420480"/>
          </a:xfrm>
          <a:prstGeom prst="triangle">
            <a:avLst>
              <a:gd name="adj" fmla="val 50000"/>
            </a:avLst>
          </a:prstGeom>
          <a:solidFill>
            <a:srgbClr val="460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nion"/>
              </a:rPr>
              <a:t>Product 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30320" y="1403280"/>
            <a:ext cx="798480" cy="538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86120" y="1465200"/>
            <a:ext cx="7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T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984240" y="1409760"/>
            <a:ext cx="798480" cy="53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94400" y="1471680"/>
            <a:ext cx="53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75120" y="1549440"/>
            <a:ext cx="2541600" cy="530280"/>
          </a:xfrm>
          <a:prstGeom prst="rect">
            <a:avLst/>
          </a:prstGeom>
          <a:solidFill>
            <a:srgbClr val="460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Minion"/>
              </a:rPr>
              <a:t>Teresa W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Minion"/>
              </a:rPr>
              <a:t>act. Jens Danneil (depu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16400" y="2558880"/>
            <a:ext cx="1101600" cy="375300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Basic System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Framework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(BS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238480" y="2558880"/>
            <a:ext cx="1101600" cy="375300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Customized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Components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 (C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595760" y="2558880"/>
            <a:ext cx="1192320" cy="375300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Mechanics, Plastics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 &amp; Assembly P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(MP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991120" y="2557440"/>
            <a:ext cx="979560" cy="266400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Indire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Material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(I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Site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135160" y="5797440"/>
            <a:ext cx="3705120" cy="43200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Global Logistics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135160" y="5291280"/>
            <a:ext cx="3705120" cy="43164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Local Procurement  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35160" y="4788000"/>
            <a:ext cx="3705120" cy="43164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Local Procurement  Braz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085160" y="2549520"/>
            <a:ext cx="884160" cy="153972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Processes,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Reporting &amp;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 Controlling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(RC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085160" y="4186080"/>
            <a:ext cx="884160" cy="154008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Legal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Management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&amp; Compliance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(LM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1" name=""/>
          <p:cNvCxnSpPr>
            <a:stCxn id="361" idx="2"/>
            <a:endCxn id="364" idx="0"/>
          </p:cNvCxnSpPr>
          <p:nvPr/>
        </p:nvCxnSpPr>
        <p:spPr>
          <a:xfrm rot="5400000">
            <a:off x="4979520" y="2292120"/>
            <a:ext cx="479880" cy="547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72" name=""/>
          <p:cNvCxnSpPr>
            <a:stCxn id="364" idx="0"/>
            <a:endCxn id="362" idx="0"/>
          </p:cNvCxnSpPr>
          <p:nvPr/>
        </p:nvCxnSpPr>
        <p:spPr>
          <a:xfrm rot="5400000">
            <a:off x="4578480" y="1946160"/>
            <a:ext cx="2520" cy="1226160"/>
          </a:xfrm>
          <a:prstGeom prst="bentConnector3">
            <a:avLst>
              <a:gd name="adj1" fmla="val -1440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73" name=""/>
          <p:cNvCxnSpPr/>
          <p:nvPr/>
        </p:nvCxnSpPr>
        <p:spPr>
          <a:xfrm rot="5400000">
            <a:off x="988200" y="3702600"/>
            <a:ext cx="2948760" cy="656280"/>
          </a:xfrm>
          <a:prstGeom prst="bentConnector4">
            <a:avLst>
              <a:gd name="adj1" fmla="val -7863"/>
              <a:gd name="adj2" fmla="val 12524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74" name=""/>
          <p:cNvSpPr/>
          <p:nvPr/>
        </p:nvSpPr>
        <p:spPr>
          <a:xfrm>
            <a:off x="2135160" y="4286160"/>
            <a:ext cx="3703680" cy="43020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Local Procurement K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361" idx="2"/>
            <a:endCxn id="363" idx="0"/>
          </p:cNvCxnSpPr>
          <p:nvPr/>
        </p:nvCxnSpPr>
        <p:spPr>
          <a:xfrm rot="5400000">
            <a:off x="3777840" y="1090440"/>
            <a:ext cx="479880" cy="24580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6" name=""/>
          <p:cNvCxnSpPr>
            <a:stCxn id="361" idx="2"/>
            <a:endCxn id="365" idx="0"/>
          </p:cNvCxnSpPr>
          <p:nvPr/>
        </p:nvCxnSpPr>
        <p:spPr>
          <a:xfrm flipH="1" rot="16200000">
            <a:off x="5624280" y="1700640"/>
            <a:ext cx="478440" cy="1235880"/>
          </a:xfrm>
          <a:prstGeom prst="bentConnector3">
            <a:avLst>
              <a:gd name="adj1" fmla="val 4977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7" name=""/>
          <p:cNvCxnSpPr>
            <a:stCxn id="361" idx="2"/>
            <a:endCxn id="369" idx="0"/>
          </p:cNvCxnSpPr>
          <p:nvPr/>
        </p:nvCxnSpPr>
        <p:spPr>
          <a:xfrm flipH="1" rot="16200000">
            <a:off x="6151320" y="1173600"/>
            <a:ext cx="470520" cy="22820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8" name=""/>
          <p:cNvSpPr/>
          <p:nvPr/>
        </p:nvSpPr>
        <p:spPr>
          <a:xfrm>
            <a:off x="2135160" y="3782880"/>
            <a:ext cx="3703680" cy="43020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Procurement Engineering (P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798984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Executive summary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3" name=""/>
          <p:cNvSpPr/>
          <p:nvPr/>
        </p:nvSpPr>
        <p:spPr>
          <a:xfrm>
            <a:off x="393840" y="911160"/>
            <a:ext cx="8238960" cy="57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zh-TW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BenQ Corp reports a loss of ~150 Mio € for Q4 CY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Losses are due in large part to the merger sit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At the same time profits from IT and CE were not large enough to compensate for these lo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zh-TW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The key to BenQ turnaround is to improve the situation of BM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Despite significant progress (reduction of quarterly run rate by &gt; 40% in Q4 CY2005 / &gt; 100 Mio. €), cost position is not in line with revenue expecta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Additional target: 100 Mio € functional cost reduction in 2006 which will also affect employe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zh-TW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Structural adjustments will contribute to Value, Cost, and Spe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ales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Regional management structure is being reinforc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Josef Forer is nominated as Eastern Europe Head (incl. MEA) and will assume regional coordination being part of the Extended Management Board (EM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enis Morel will assume responsibility for Western Eur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Richard Leong has been nominated as Chief Marketing Officer (CM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andra Rubart will lead Marketing Operations (MO) to drive optimization of roles and proc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Field marketing moves into sales regions while HQ marketing focuses on building the brand, championing market development, and product commun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ategory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ategory Managers to drive the portfolio process and product road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Innovation and Technology Management will be split up between Category Management and R&amp;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2297160" y="1398600"/>
            <a:ext cx="6694560" cy="538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78920" y="-163800"/>
            <a:ext cx="8231400" cy="12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MG Product House Set-Up: Supply Chain Management – Applying BenQ principles with regional manufacturing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2" name=""/>
          <p:cNvSpPr/>
          <p:nvPr/>
        </p:nvSpPr>
        <p:spPr>
          <a:xfrm>
            <a:off x="2383200" y="1461960"/>
            <a:ext cx="72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S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12680" y="936720"/>
            <a:ext cx="8894880" cy="420480"/>
          </a:xfrm>
          <a:prstGeom prst="triangle">
            <a:avLst>
              <a:gd name="adj" fmla="val 50000"/>
            </a:avLst>
          </a:prstGeom>
          <a:solidFill>
            <a:srgbClr val="460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nion"/>
              </a:rPr>
              <a:t>Product 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579680" y="1398600"/>
            <a:ext cx="672840" cy="538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684440" y="146700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30320" y="1403280"/>
            <a:ext cx="679320" cy="538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6040" y="1465200"/>
            <a:ext cx="79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TP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55720" y="1409760"/>
            <a:ext cx="679320" cy="53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932400" y="1471680"/>
            <a:ext cx="53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6195960" y="1866960"/>
            <a:ext cx="122544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456320" y="1549440"/>
            <a:ext cx="1438560" cy="60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Global SCM Offic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br>
              <a:rPr sz="9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Kevin 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2387160" y="2341440"/>
            <a:ext cx="5648400" cy="4349880"/>
            <a:chOff x="2387160" y="2341440"/>
            <a:chExt cx="5648400" cy="4349880"/>
          </a:xfrm>
        </p:grpSpPr>
        <p:sp>
          <p:nvSpPr>
            <p:cNvPr id="393" name=""/>
            <p:cNvSpPr/>
            <p:nvPr/>
          </p:nvSpPr>
          <p:spPr>
            <a:xfrm flipV="1">
              <a:off x="2403360" y="2346480"/>
              <a:ext cx="4775040" cy="7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4608360" y="2341440"/>
              <a:ext cx="0" cy="26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7176600" y="2354400"/>
              <a:ext cx="0" cy="264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5879880" y="2362320"/>
              <a:ext cx="0" cy="264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422880" y="5950080"/>
              <a:ext cx="4589640" cy="452160"/>
            </a:xfrm>
            <a:custGeom>
              <a:avLst/>
              <a:gdLst>
                <a:gd name="textAreaLeft" fmla="*/ 0 w 4589640"/>
                <a:gd name="textAreaRight" fmla="*/ 4590000 w 4589640"/>
                <a:gd name="textAreaTop" fmla="*/ 0 h 452160"/>
                <a:gd name="textAreaBottom" fmla="*/ 452520 h 45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614" y="0"/>
                  </a:lnTo>
                  <a:lnTo>
                    <a:pt x="21600" y="10800"/>
                  </a:lnTo>
                  <a:lnTo>
                    <a:pt x="20614" y="21600"/>
                  </a:lnTo>
                  <a:lnTo>
                    <a:pt x="0" y="21600"/>
                  </a:lnTo>
                  <a:lnTo>
                    <a:pt x="986" y="10800"/>
                  </a:lnTo>
                  <a:close/>
                </a:path>
              </a:pathLst>
            </a:custGeom>
            <a:solidFill>
              <a:srgbClr val="a6a0c2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442320" y="5156280"/>
              <a:ext cx="4588200" cy="452520"/>
            </a:xfrm>
            <a:custGeom>
              <a:avLst/>
              <a:gdLst>
                <a:gd name="textAreaLeft" fmla="*/ 0 w 4588200"/>
                <a:gd name="textAreaRight" fmla="*/ 4588560 w 4588200"/>
                <a:gd name="textAreaTop" fmla="*/ 0 h 452520"/>
                <a:gd name="textAreaBottom" fmla="*/ 452880 h 45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614" y="0"/>
                  </a:lnTo>
                  <a:lnTo>
                    <a:pt x="21600" y="10800"/>
                  </a:lnTo>
                  <a:lnTo>
                    <a:pt x="20614" y="21600"/>
                  </a:lnTo>
                  <a:lnTo>
                    <a:pt x="0" y="21600"/>
                  </a:lnTo>
                  <a:lnTo>
                    <a:pt x="986" y="10800"/>
                  </a:lnTo>
                  <a:close/>
                </a:path>
              </a:pathLst>
            </a:custGeom>
            <a:solidFill>
              <a:srgbClr val="a6a0c2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445920" y="4300560"/>
              <a:ext cx="4589640" cy="452520"/>
            </a:xfrm>
            <a:custGeom>
              <a:avLst/>
              <a:gdLst>
                <a:gd name="textAreaLeft" fmla="*/ 0 w 4589640"/>
                <a:gd name="textAreaRight" fmla="*/ 4590000 w 4589640"/>
                <a:gd name="textAreaTop" fmla="*/ 0 h 452520"/>
                <a:gd name="textAreaBottom" fmla="*/ 452880 h 45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614" y="0"/>
                  </a:lnTo>
                  <a:lnTo>
                    <a:pt x="21600" y="10800"/>
                  </a:lnTo>
                  <a:lnTo>
                    <a:pt x="20614" y="21600"/>
                  </a:lnTo>
                  <a:lnTo>
                    <a:pt x="0" y="21600"/>
                  </a:lnTo>
                  <a:lnTo>
                    <a:pt x="986" y="10800"/>
                  </a:lnTo>
                  <a:close/>
                </a:path>
              </a:pathLst>
            </a:custGeom>
            <a:solidFill>
              <a:srgbClr val="a6a0c2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440520" y="3489480"/>
              <a:ext cx="4589640" cy="455400"/>
            </a:xfrm>
            <a:custGeom>
              <a:avLst/>
              <a:gdLst>
                <a:gd name="textAreaLeft" fmla="*/ 0 w 4589640"/>
                <a:gd name="textAreaRight" fmla="*/ 4590000 w 4589640"/>
                <a:gd name="textAreaTop" fmla="*/ 0 h 455400"/>
                <a:gd name="textAreaBottom" fmla="*/ 455760 h 45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614" y="0"/>
                  </a:lnTo>
                  <a:lnTo>
                    <a:pt x="21600" y="10800"/>
                  </a:lnTo>
                  <a:lnTo>
                    <a:pt x="20614" y="21600"/>
                  </a:lnTo>
                  <a:lnTo>
                    <a:pt x="0" y="21600"/>
                  </a:lnTo>
                  <a:lnTo>
                    <a:pt x="986" y="10800"/>
                  </a:lnTo>
                  <a:close/>
                </a:path>
              </a:pathLst>
            </a:custGeom>
            <a:solidFill>
              <a:srgbClr val="a6a0c2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2388960" y="2357280"/>
              <a:ext cx="7200" cy="394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rot="5400000">
              <a:off x="2476800" y="3981960"/>
              <a:ext cx="4191120" cy="1227600"/>
            </a:xfrm>
            <a:prstGeom prst="rect">
              <a:avLst/>
            </a:prstGeom>
            <a:solidFill>
              <a:srgbClr val="cfcdd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rot="5400000">
              <a:off x="5065200" y="3976920"/>
              <a:ext cx="4191120" cy="1234800"/>
            </a:xfrm>
            <a:prstGeom prst="rect">
              <a:avLst/>
            </a:prstGeom>
            <a:solidFill>
              <a:srgbClr val="cfcdd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rot="5400000">
              <a:off x="3765240" y="3978720"/>
              <a:ext cx="4191120" cy="1231200"/>
            </a:xfrm>
            <a:prstGeom prst="rect">
              <a:avLst/>
            </a:prstGeom>
            <a:solidFill>
              <a:srgbClr val="cfcdd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005000" y="2575080"/>
              <a:ext cx="113400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t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100" spc="-1" strike="noStrike">
                  <a:solidFill>
                    <a:srgbClr val="3a0e66"/>
                  </a:solidFill>
                  <a:latin typeface="Minion"/>
                </a:rPr>
                <a:t>SCM LAM</a:t>
              </a:r>
              <a:br>
                <a:rPr sz="1000"/>
              </a:br>
              <a:r>
                <a:rPr b="0" lang="en-US" sz="1000" spc="-1" strike="noStrike">
                  <a:solidFill>
                    <a:srgbClr val="3a0e66"/>
                  </a:solidFill>
                  <a:latin typeface="Minion"/>
                </a:rPr>
                <a:t>Laurent Heisser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292720" y="2575080"/>
              <a:ext cx="113580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t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100" spc="-1" strike="noStrike">
                  <a:solidFill>
                    <a:srgbClr val="3a0e66"/>
                  </a:solidFill>
                  <a:latin typeface="Minion"/>
                </a:rPr>
                <a:t>SCM ASI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000" spc="-1" strike="noStrike">
                  <a:solidFill>
                    <a:srgbClr val="3a0e66"/>
                  </a:solidFill>
                  <a:latin typeface="Minion"/>
                </a:rPr>
                <a:t>Gerold Simbuerg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590880" y="2573280"/>
              <a:ext cx="114840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t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100" spc="-1" strike="noStrike">
                  <a:solidFill>
                    <a:srgbClr val="3a0e66"/>
                  </a:solidFill>
                  <a:latin typeface="Minion"/>
                </a:rPr>
                <a:t>SCM EUROP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000" spc="-1" strike="noStrike">
                  <a:solidFill>
                    <a:srgbClr val="3a0e66"/>
                  </a:solidFill>
                  <a:latin typeface="Minion"/>
                </a:rPr>
                <a:t>Dr. Bernd Schmi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92680" y="3013200"/>
              <a:ext cx="113580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3600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100" spc="-1" strike="noStrike">
                  <a:solidFill>
                    <a:srgbClr val="3a0e66"/>
                  </a:solidFill>
                  <a:latin typeface="Minion"/>
                </a:rPr>
                <a:t>BM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010400" y="3019320"/>
              <a:ext cx="542880" cy="25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3600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100" spc="-1" strike="noStrike">
                  <a:solidFill>
                    <a:srgbClr val="3a0e66"/>
                  </a:solidFill>
                  <a:latin typeface="Minion"/>
                </a:rPr>
                <a:t>MA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601160" y="3021120"/>
              <a:ext cx="542880" cy="25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3600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100" spc="-1" strike="noStrike">
                  <a:solidFill>
                    <a:srgbClr val="3a0e66"/>
                  </a:solidFill>
                  <a:latin typeface="Minion"/>
                </a:rPr>
                <a:t>BQX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289120" y="3022560"/>
              <a:ext cx="356400" cy="25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3600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100" spc="-1" strike="noStrike">
                  <a:solidFill>
                    <a:srgbClr val="3a0e66"/>
                  </a:solidFill>
                  <a:latin typeface="Minion"/>
                </a:rPr>
                <a:t>BQ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684400" y="3021120"/>
              <a:ext cx="35424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3600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100" spc="-1" strike="noStrike">
                  <a:solidFill>
                    <a:srgbClr val="3a0e66"/>
                  </a:solidFill>
                  <a:latin typeface="Minion"/>
                </a:rPr>
                <a:t>BM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073920" y="3021120"/>
              <a:ext cx="35460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3600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100" spc="-1" strike="noStrike">
                  <a:solidFill>
                    <a:srgbClr val="3a0e66"/>
                  </a:solidFill>
                  <a:latin typeface="Minion"/>
                </a:rPr>
                <a:t>BQ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397600" y="6297480"/>
              <a:ext cx="227520" cy="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2388960" y="5465880"/>
              <a:ext cx="239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2387160" y="4545000"/>
              <a:ext cx="241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2388960" y="3635280"/>
              <a:ext cx="24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639880" y="3309840"/>
              <a:ext cx="1077480" cy="779400"/>
            </a:xfrm>
            <a:prstGeom prst="rect">
              <a:avLst/>
            </a:prstGeom>
            <a:solidFill>
              <a:srgbClr val="a6a0c2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Minion"/>
                </a:rPr>
                <a:t>SCM OF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inion"/>
                </a:rPr>
                <a:t>Order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Minion"/>
                </a:rPr>
                <a:t>Fulfill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641320" y="4141800"/>
              <a:ext cx="1079640" cy="782640"/>
            </a:xfrm>
            <a:prstGeom prst="rect">
              <a:avLst/>
            </a:prstGeom>
            <a:solidFill>
              <a:srgbClr val="a6a0c2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Minion"/>
                </a:rPr>
                <a:t>SCM M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inion"/>
                </a:rPr>
                <a:t>Material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Minion"/>
                </a:rPr>
                <a:t>Opera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637720" y="4975200"/>
              <a:ext cx="1077840" cy="779400"/>
            </a:xfrm>
            <a:prstGeom prst="rect">
              <a:avLst/>
            </a:prstGeom>
            <a:solidFill>
              <a:srgbClr val="a6a0c2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Minion"/>
                </a:rPr>
                <a:t>SCM TL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inion"/>
                </a:rPr>
                <a:t>Technology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Minion"/>
                </a:rPr>
                <a:t>Lifecycle Mg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639880" y="5811840"/>
              <a:ext cx="1077480" cy="777960"/>
            </a:xfrm>
            <a:prstGeom prst="rect">
              <a:avLst/>
            </a:prstGeom>
            <a:solidFill>
              <a:srgbClr val="a6a0c2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Minion"/>
                </a:rPr>
                <a:t>SCM Q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inion"/>
                </a:rPr>
                <a:t>Quality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Minion"/>
                </a:rPr>
                <a:t>Manag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4190400" y="3603600"/>
              <a:ext cx="3296520" cy="2680920"/>
              <a:chOff x="4190400" y="3603600"/>
              <a:chExt cx="3296520" cy="2680920"/>
            </a:xfrm>
          </p:grpSpPr>
          <p:sp>
            <p:nvSpPr>
              <p:cNvPr id="423" name=""/>
              <p:cNvSpPr/>
              <p:nvPr/>
            </p:nvSpPr>
            <p:spPr>
              <a:xfrm>
                <a:off x="4190400" y="6059160"/>
                <a:ext cx="726840" cy="22536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492880" y="6057720"/>
                <a:ext cx="729000" cy="22500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753600" y="6051600"/>
                <a:ext cx="727920" cy="22392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193280" y="5266440"/>
                <a:ext cx="726840" cy="22392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496120" y="5264640"/>
                <a:ext cx="729000" cy="22392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756840" y="5257080"/>
                <a:ext cx="727920" cy="22536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190400" y="4409640"/>
                <a:ext cx="726840" cy="22536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5492880" y="4408200"/>
                <a:ext cx="729000" cy="22536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753600" y="4402440"/>
                <a:ext cx="727920" cy="22392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195800" y="3612600"/>
                <a:ext cx="726840" cy="22500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498280" y="3610800"/>
                <a:ext cx="729000" cy="22536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759000" y="3603600"/>
                <a:ext cx="727920" cy="22536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5" name=""/>
          <p:cNvSpPr/>
          <p:nvPr/>
        </p:nvSpPr>
        <p:spPr>
          <a:xfrm flipV="1">
            <a:off x="5133960" y="2089080"/>
            <a:ext cx="0" cy="26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772080" y="1549440"/>
            <a:ext cx="2678040" cy="598320"/>
          </a:xfrm>
          <a:prstGeom prst="rect">
            <a:avLst/>
          </a:prstGeom>
          <a:solidFill>
            <a:srgbClr val="460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inion"/>
              </a:rPr>
              <a:t>Dr. Bernd Schm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inion"/>
              </a:rPr>
              <a:t>Gerold Simbürger (depu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MG Management System 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039680" y="1860480"/>
            <a:ext cx="698832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84320" indent="-1828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Business and cost control requires increased transparency, speed, and compatibility with BenQ Corp.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Respective controlling and management tools need to be established and / or consolidated / improved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Cost down programs needs to be executed consequently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Focused attention beyond daily operational business required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9" name=""/>
          <p:cNvSpPr/>
          <p:nvPr/>
        </p:nvSpPr>
        <p:spPr>
          <a:xfrm>
            <a:off x="630360" y="5207040"/>
            <a:ext cx="81025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540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David Wang to join the management team as per April 1</a:t>
            </a:r>
            <a:r>
              <a:rPr b="1" lang="en-US" sz="2400" spc="-1" strike="noStrike" baseline="30000">
                <a:solidFill>
                  <a:srgbClr val="3a0e66"/>
                </a:solidFill>
                <a:latin typeface="Minion"/>
                <a:ea typeface="文鼎中黑"/>
              </a:rPr>
              <a:t>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3320" y="48960"/>
            <a:ext cx="8342280" cy="8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TW" sz="2800" spc="-1" strike="noStrike">
                <a:solidFill>
                  <a:srgbClr val="3a0e66"/>
                </a:solidFill>
                <a:latin typeface="Minion"/>
              </a:rPr>
              <a:t>BenQ Mobile Group governance structure (April 2006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2" name=""/>
          <p:cNvSpPr/>
          <p:nvPr/>
        </p:nvSpPr>
        <p:spPr>
          <a:xfrm>
            <a:off x="806400" y="809640"/>
            <a:ext cx="7453440" cy="4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BenQ Mobile Business Group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Clemens J. Joos (CEO), Jerry Wang (Chairman), Irwin C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795240" y="1368360"/>
            <a:ext cx="5106960" cy="2171880"/>
            <a:chOff x="795240" y="1368360"/>
            <a:chExt cx="5106960" cy="2171880"/>
          </a:xfrm>
        </p:grpSpPr>
        <p:sp>
          <p:nvSpPr>
            <p:cNvPr id="444" name=""/>
            <p:cNvSpPr/>
            <p:nvPr/>
          </p:nvSpPr>
          <p:spPr>
            <a:xfrm>
              <a:off x="795240" y="1368360"/>
              <a:ext cx="5106960" cy="2171880"/>
            </a:xfrm>
            <a:prstGeom prst="rect">
              <a:avLst/>
            </a:prstGeom>
            <a:solidFill>
              <a:srgbClr val="a6a0c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125360" y="1415880"/>
              <a:ext cx="4446720" cy="328680"/>
            </a:xfrm>
            <a:prstGeom prst="rect">
              <a:avLst/>
            </a:prstGeom>
            <a:solidFill>
              <a:srgbClr val="a6a0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Product House</a:t>
              </a:r>
              <a:r>
                <a:rPr b="1" lang="zh-TW" sz="1200" spc="-1" strike="noStrike" baseline="30000">
                  <a:solidFill>
                    <a:srgbClr val="3a0e66"/>
                  </a:solidFill>
                  <a:latin typeface="Minion"/>
                  <a:ea typeface="文鼎中黑"/>
                </a:rPr>
                <a:t>1)</a:t>
              </a:r>
              <a:br>
                <a:rPr sz="3200"/>
              </a:br>
              <a:r>
                <a:rPr b="1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 </a:t>
              </a:r>
              <a:r>
                <a:rPr b="0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(</a:t>
              </a:r>
              <a:r>
                <a:rPr b="1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Jochen Eickholt &amp;  Irwin Chen</a:t>
              </a:r>
              <a:r>
                <a:rPr b="0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911160" y="1774800"/>
            <a:ext cx="4875120" cy="4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R&amp;D </a:t>
            </a:r>
            <a:r>
              <a:rPr b="1" lang="zh-TW" sz="1200" spc="-1" strike="noStrike" baseline="30000">
                <a:solidFill>
                  <a:srgbClr val="3a0e66"/>
                </a:solidFill>
                <a:latin typeface="Minion"/>
              </a:rPr>
              <a:t>1)</a:t>
            </a:r>
            <a:br>
              <a:rPr sz="1200"/>
            </a:b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(</a:t>
            </a: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Siegfried Bocionek</a:t>
            </a: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  &amp; Yungchia Le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911160" y="2216160"/>
            <a:ext cx="4875120" cy="4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SCM </a:t>
            </a:r>
            <a:r>
              <a:rPr b="1" lang="zh-TW" sz="1200" spc="-1" strike="noStrike" baseline="30000">
                <a:solidFill>
                  <a:srgbClr val="3a0e66"/>
                </a:solidFill>
                <a:latin typeface="Minion"/>
              </a:rPr>
              <a:t>1)</a:t>
            </a: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 </a:t>
            </a:r>
            <a:br>
              <a:rPr sz="1200"/>
            </a:b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(</a:t>
            </a: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Bernd Schmid</a:t>
            </a: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  &amp; Gerold Simbuerg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911160" y="2657520"/>
            <a:ext cx="4875120" cy="41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Strategic Procurement </a:t>
            </a:r>
            <a:r>
              <a:rPr b="1" lang="zh-TW" sz="1200" spc="-1" strike="noStrike" baseline="30000">
                <a:solidFill>
                  <a:srgbClr val="3a0e66"/>
                </a:solidFill>
                <a:latin typeface="Minion"/>
              </a:rPr>
              <a:t>1)</a:t>
            </a: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 </a:t>
            </a:r>
            <a:br>
              <a:rPr sz="1200"/>
            </a:b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(acting Jens Danneil  &amp; </a:t>
            </a: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Teresa Wu</a:t>
            </a: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1160" y="3098880"/>
            <a:ext cx="4875120" cy="41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Technical PM </a:t>
            </a:r>
            <a:r>
              <a:rPr b="1" lang="zh-TW" sz="1200" spc="-1" strike="noStrike" baseline="30000">
                <a:solidFill>
                  <a:srgbClr val="3a0e66"/>
                </a:solidFill>
                <a:latin typeface="Minion"/>
              </a:rPr>
              <a:t>1)</a:t>
            </a: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(Holger Asmussen &amp;  Pat Hsu &amp;  act. Katrin Bra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90680" y="6232320"/>
            <a:ext cx="6524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975040"/>
                <a:tab algn="l" pos="46641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000" spc="-1" strike="noStrike">
                <a:solidFill>
                  <a:srgbClr val="1e0a63"/>
                </a:solidFill>
                <a:latin typeface="Minion"/>
              </a:rPr>
              <a:t>1) Have dedicated Business Administration (BA) function    2) including Regional Marketing   3) Reporting to Jerry Wa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89120" y="6035760"/>
            <a:ext cx="7470720" cy="245880"/>
          </a:xfrm>
          <a:prstGeom prst="rect">
            <a:avLst/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Loca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89120" y="4081320"/>
            <a:ext cx="2450880" cy="39852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Global Marketing</a:t>
            </a:r>
            <a:r>
              <a:rPr b="1" lang="zh-TW" sz="1200" spc="-1" strike="noStrike" baseline="30000">
                <a:solidFill>
                  <a:srgbClr val="3a0e66"/>
                </a:solidFill>
                <a:latin typeface="Minion"/>
                <a:ea typeface="文鼎中黑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(</a:t>
            </a: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Richard Leong</a:t>
            </a: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  &amp; Sandra Rubar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89120" y="3610080"/>
            <a:ext cx="5113080" cy="3999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35280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Category  Management </a:t>
            </a:r>
            <a:r>
              <a:rPr b="1" lang="zh-TW" sz="1200" spc="-1" strike="noStrike" baseline="30000">
                <a:solidFill>
                  <a:srgbClr val="3a0e66"/>
                </a:solidFill>
                <a:latin typeface="Minion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(</a:t>
            </a: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Phil Mulholland &amp; </a:t>
            </a: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Harrison Cha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89120" y="5649840"/>
            <a:ext cx="5113080" cy="34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Customer Care </a:t>
            </a:r>
            <a:r>
              <a:rPr b="1" lang="zh-TW" sz="1200" spc="-1" strike="noStrike" baseline="30000">
                <a:solidFill>
                  <a:srgbClr val="3a0e66"/>
                </a:solidFill>
                <a:latin typeface="Minion"/>
              </a:rPr>
              <a:t>1)</a:t>
            </a:r>
            <a:br>
              <a:rPr sz="1200"/>
            </a:b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(Stefan Plets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6037200" y="3781440"/>
            <a:ext cx="2222640" cy="2524320"/>
            <a:chOff x="6037200" y="3781440"/>
            <a:chExt cx="2222640" cy="2524320"/>
          </a:xfrm>
        </p:grpSpPr>
        <p:sp>
          <p:nvSpPr>
            <p:cNvPr id="456" name=""/>
            <p:cNvSpPr/>
            <p:nvPr/>
          </p:nvSpPr>
          <p:spPr>
            <a:xfrm>
              <a:off x="6037200" y="3781440"/>
              <a:ext cx="2222640" cy="220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119640" y="3809880"/>
              <a:ext cx="2140200" cy="249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Project Office </a:t>
              </a:r>
              <a:br>
                <a:rPr sz="1200"/>
              </a:br>
              <a:r>
                <a:rPr b="0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(Karl Kornwolf &amp; Theresa Chen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Strategy &amp; Communication</a:t>
              </a:r>
              <a:br>
                <a:rPr sz="1200"/>
              </a:br>
              <a:r>
                <a:rPr b="0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(Marco Stuelpner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QM</a:t>
              </a:r>
              <a:r>
                <a:rPr b="1" lang="zh-TW" sz="1200" spc="-1" strike="noStrike" baseline="30000">
                  <a:solidFill>
                    <a:srgbClr val="3a0e66"/>
                  </a:solidFill>
                  <a:latin typeface="Minion"/>
                  <a:ea typeface="新細明體"/>
                </a:rPr>
                <a:t>1)</a:t>
              </a:r>
              <a:br>
                <a:rPr sz="1200"/>
              </a:br>
              <a:r>
                <a:rPr b="0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(Alexander Filler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HR</a:t>
              </a:r>
              <a:br>
                <a:rPr sz="1200"/>
              </a:br>
              <a:r>
                <a:rPr b="0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(Nils-Peter Daetz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ISR</a:t>
              </a:r>
              <a:br>
                <a:rPr sz="1200"/>
              </a:br>
              <a:r>
                <a:rPr b="0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(Matthias Schneider-Hufschmid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6037200" y="1351080"/>
            <a:ext cx="2222640" cy="2350800"/>
            <a:chOff x="6037200" y="1351080"/>
            <a:chExt cx="2222640" cy="2350800"/>
          </a:xfrm>
        </p:grpSpPr>
        <p:sp>
          <p:nvSpPr>
            <p:cNvPr id="459" name=""/>
            <p:cNvSpPr/>
            <p:nvPr/>
          </p:nvSpPr>
          <p:spPr>
            <a:xfrm>
              <a:off x="6037200" y="1351080"/>
              <a:ext cx="2222640" cy="235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119640" y="1406520"/>
              <a:ext cx="208440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200" spc="-1" strike="noStrike">
                  <a:solidFill>
                    <a:srgbClr val="3a0e66"/>
                  </a:solidFill>
                  <a:latin typeface="Minion"/>
                </a:rPr>
                <a:t>Finance</a:t>
              </a:r>
              <a:r>
                <a:rPr b="0" lang="en-US" sz="1200" spc="-1" strike="noStrike">
                  <a:solidFill>
                    <a:srgbClr val="3a0e66"/>
                  </a:solidFill>
                  <a:latin typeface="Minio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200" spc="-1" strike="noStrike">
                  <a:solidFill>
                    <a:srgbClr val="3a0e66"/>
                  </a:solidFill>
                  <a:latin typeface="Minion"/>
                </a:rPr>
                <a:t>(Alex Liou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200" spc="-1" strike="noStrike">
                  <a:solidFill>
                    <a:srgbClr val="3a0e66"/>
                  </a:solidFill>
                  <a:latin typeface="Minion"/>
                </a:rPr>
                <a:t>Accounting &amp; Finance, Legal Services, Taxes, Treasu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119640" y="2241720"/>
              <a:ext cx="2055960" cy="10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</a:rPr>
                <a:t>Controlling </a:t>
              </a:r>
              <a:br>
                <a:rPr sz="1200"/>
              </a:br>
              <a:r>
                <a:rPr b="0" lang="zh-TW" sz="1200" spc="-1" strike="noStrike">
                  <a:solidFill>
                    <a:srgbClr val="3a0e66"/>
                  </a:solidFill>
                  <a:latin typeface="Minion"/>
                </a:rPr>
                <a:t>(Lydia Sommer)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zh-TW" sz="1200" spc="-1" strike="noStrike">
                  <a:solidFill>
                    <a:srgbClr val="3a0e66"/>
                  </a:solidFill>
                  <a:latin typeface="Minion"/>
                </a:rPr>
                <a:t>Planning &amp; Controlling, Sales Operations Controlling, Pricing Office, IT, Audit, Corp. Servic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119640" y="3259080"/>
              <a:ext cx="20559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</a:rPr>
                <a:t>BMG Management System</a:t>
              </a:r>
              <a:br>
                <a:rPr sz="1200"/>
              </a:br>
              <a:r>
                <a:rPr b="0" lang="zh-TW" sz="1200" spc="-1" strike="noStrike">
                  <a:solidFill>
                    <a:srgbClr val="3a0e66"/>
                  </a:solidFill>
                  <a:latin typeface="Minion"/>
                </a:rPr>
                <a:t>(David Wang)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3452760" y="4068720"/>
            <a:ext cx="2448000" cy="39852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Lifestyle Design Centre Munich</a:t>
            </a:r>
            <a:r>
              <a:rPr b="1" lang="en-US" sz="1200" spc="-1" strike="noStrike" baseline="30000">
                <a:solidFill>
                  <a:srgbClr val="3a0e66"/>
                </a:solidFill>
                <a:latin typeface="Minion"/>
                <a:ea typeface="文鼎中黑"/>
              </a:rPr>
              <a:t>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(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Jonathan Yin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789120" y="4545000"/>
            <a:ext cx="5244840" cy="1181160"/>
            <a:chOff x="789120" y="4545000"/>
            <a:chExt cx="5244840" cy="1181160"/>
          </a:xfrm>
        </p:grpSpPr>
        <p:sp>
          <p:nvSpPr>
            <p:cNvPr id="465" name=""/>
            <p:cNvSpPr/>
            <p:nvPr/>
          </p:nvSpPr>
          <p:spPr>
            <a:xfrm>
              <a:off x="789120" y="4545000"/>
              <a:ext cx="5111640" cy="1057320"/>
            </a:xfrm>
            <a:prstGeom prst="rect">
              <a:avLst/>
            </a:prstGeom>
            <a:solidFill>
              <a:srgbClr val="cfcdd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760" rIns="77760" tIns="38880" bIns="3888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200" spc="-1" strike="noStrike">
                  <a:solidFill>
                    <a:srgbClr val="3a0e66"/>
                  </a:solidFill>
                  <a:latin typeface="Minion"/>
                </a:rPr>
                <a:t> </a:t>
              </a:r>
              <a:r>
                <a:rPr b="1" lang="en-US" sz="1200" spc="-1" strike="noStrike">
                  <a:solidFill>
                    <a:srgbClr val="3a0e66"/>
                  </a:solidFill>
                  <a:latin typeface="Minion"/>
                </a:rPr>
                <a:t>Sales </a:t>
              </a:r>
              <a:r>
                <a:rPr b="1" lang="en-US" sz="1200" spc="-1" strike="noStrike" baseline="30000">
                  <a:solidFill>
                    <a:srgbClr val="3a0e66"/>
                  </a:solidFill>
                  <a:latin typeface="Minion"/>
                </a:rPr>
                <a:t>1, 2)</a:t>
              </a:r>
              <a:br>
                <a:rPr sz="1200"/>
              </a:b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26920" y="4735440"/>
              <a:ext cx="25974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</a:rPr>
                <a:t>Western EUR</a:t>
              </a:r>
              <a:r>
                <a:rPr b="0" lang="zh-TW" sz="1200" spc="-1" strike="noStrike">
                  <a:solidFill>
                    <a:srgbClr val="3a0e66"/>
                  </a:solidFill>
                  <a:latin typeface="Minion"/>
                </a:rPr>
                <a:t> (Denis Morel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</a:rPr>
                <a:t>Eastern EUR / MEA </a:t>
              </a:r>
              <a:r>
                <a:rPr b="0" lang="zh-TW" sz="1200" spc="-1" strike="noStrike">
                  <a:solidFill>
                    <a:srgbClr val="3a0e66"/>
                  </a:solidFill>
                  <a:latin typeface="Minion"/>
                </a:rPr>
                <a:t>(Josef Forer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</a:rPr>
                <a:t>Sales Coordination</a:t>
              </a:r>
              <a:r>
                <a:rPr b="0" lang="zh-TW" sz="1200" spc="-1" strike="noStrike">
                  <a:solidFill>
                    <a:srgbClr val="3a0e66"/>
                  </a:solidFill>
                  <a:latin typeface="Minion"/>
                </a:rPr>
                <a:t> (Martin Furuseth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638520" y="4735440"/>
              <a:ext cx="239544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de-DE" sz="1200" spc="-1" strike="noStrike">
                  <a:solidFill>
                    <a:srgbClr val="3a0e66"/>
                  </a:solidFill>
                  <a:latin typeface="Minion"/>
                </a:rPr>
                <a:t>APAC</a:t>
              </a:r>
              <a:r>
                <a:rPr b="0" lang="de-DE" sz="1200" spc="-1" strike="noStrike">
                  <a:solidFill>
                    <a:srgbClr val="3a0e66"/>
                  </a:solidFill>
                  <a:latin typeface="Minion"/>
                </a:rPr>
                <a:t> (acting Y.S.Cheng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</a:rPr>
                <a:t>LAM</a:t>
              </a:r>
              <a:r>
                <a:rPr b="0" lang="zh-TW" sz="1200" spc="-1" strike="noStrike">
                  <a:solidFill>
                    <a:srgbClr val="3a0e66"/>
                  </a:solidFill>
                  <a:latin typeface="Minion"/>
                </a:rPr>
                <a:t> (Guy Spillebeen)</a:t>
              </a:r>
              <a:r>
                <a:rPr b="1" lang="de-DE" sz="1200" spc="-1" strike="noStrike">
                  <a:solidFill>
                    <a:srgbClr val="3a0e66"/>
                  </a:solidFill>
                  <a:latin typeface="Minio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de-DE" sz="1200" spc="-1" strike="noStrike">
                  <a:solidFill>
                    <a:srgbClr val="3a0e66"/>
                  </a:solidFill>
                  <a:latin typeface="Minion"/>
                </a:rPr>
                <a:t>China</a:t>
              </a:r>
              <a:r>
                <a:rPr b="0" lang="de-DE" sz="1200" spc="-1" strike="noStrike">
                  <a:solidFill>
                    <a:srgbClr val="3a0e66"/>
                  </a:solidFill>
                  <a:latin typeface="Minion"/>
                </a:rPr>
                <a:t> (Danny HC Yao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3403440" y="4038480"/>
            <a:ext cx="2530800" cy="470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aseline is within reach 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082160" y="2006640"/>
            <a:ext cx="7023240" cy="21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Consequent implementation of specified projects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Finalization of detailed organizational structure until end of March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Secure identified and realized cost run rate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Go the last mile on cost savings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1" name=""/>
          <p:cNvSpPr/>
          <p:nvPr/>
        </p:nvSpPr>
        <p:spPr>
          <a:xfrm>
            <a:off x="579600" y="5572800"/>
            <a:ext cx="8102520" cy="4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540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Refocus on top line profitable grow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2673360" y="3060720"/>
            <a:ext cx="3124080" cy="3009960"/>
          </a:xfrm>
          <a:prstGeom prst="ellipse">
            <a:avLst/>
          </a:prstGeom>
          <a:solidFill>
            <a:srgbClr val="cfc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82600" y="3489480"/>
            <a:ext cx="1415880" cy="1298520"/>
          </a:xfrm>
          <a:prstGeom prst="ellipse">
            <a:avLst/>
          </a:prstGeom>
          <a:solidFill>
            <a:srgbClr val="cfc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60200" y="262080"/>
            <a:ext cx="8534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TW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Mobile Business Regaining Str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1720" y="1135080"/>
            <a:ext cx="928440" cy="4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Minion"/>
              </a:rPr>
              <a:t>Fro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673360" y="1135080"/>
            <a:ext cx="598320" cy="4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Minion"/>
              </a:rPr>
              <a:t>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211720" y="3427560"/>
            <a:ext cx="1152720" cy="502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60200" y="1666800"/>
            <a:ext cx="1812960" cy="10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200160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Minion"/>
              </a:rPr>
              <a:t>Plain-vanilla portfoli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427120" y="1666800"/>
            <a:ext cx="3678480" cy="16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lvl="1" marL="184320" indent="-182880">
              <a:lnSpc>
                <a:spcPct val="100000"/>
              </a:lnSpc>
              <a:buClr>
                <a:srgbClr val="0000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Minion"/>
                <a:ea typeface="新細明體"/>
              </a:rPr>
              <a:t>Market lead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184320" indent="-182880">
              <a:lnSpc>
                <a:spcPct val="100000"/>
              </a:lnSpc>
              <a:buClr>
                <a:srgbClr val="0000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Minion"/>
                <a:ea typeface="新細明體"/>
              </a:rPr>
              <a:t>Compelling on lifestyle benefi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184320" indent="-182880">
              <a:lnSpc>
                <a:spcPct val="100000"/>
              </a:lnSpc>
              <a:buClr>
                <a:srgbClr val="0000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Minion"/>
                <a:ea typeface="新細明體"/>
              </a:rPr>
              <a:t>Potent multimedia func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936800" y="3859200"/>
            <a:ext cx="685800" cy="609480"/>
          </a:xfrm>
          <a:prstGeom prst="rightArrow">
            <a:avLst>
              <a:gd name="adj1" fmla="val 50000"/>
              <a:gd name="adj2" fmla="val 52094"/>
            </a:avLst>
          </a:prstGeom>
          <a:noFill/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945040" y="1135080"/>
            <a:ext cx="294192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Minion"/>
              </a:rPr>
              <a:t>ASP over last five quar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200400" y="51055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rcRect l="0" t="1417" r="0" b="0"/>
          <a:stretch/>
        </p:blipFill>
        <p:spPr>
          <a:xfrm>
            <a:off x="3224160" y="3429000"/>
            <a:ext cx="522360" cy="107172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2"/>
          <a:srcRect l="0" t="3543" r="0" b="0"/>
          <a:stretch/>
        </p:blipFill>
        <p:spPr>
          <a:xfrm>
            <a:off x="4021200" y="3368520"/>
            <a:ext cx="420480" cy="110520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3"/>
          <a:srcRect l="0" t="0" r="3296" b="0"/>
          <a:stretch/>
        </p:blipFill>
        <p:spPr>
          <a:xfrm>
            <a:off x="4695840" y="3489480"/>
            <a:ext cx="480960" cy="86040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3346560" y="4289400"/>
            <a:ext cx="7347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Minion"/>
              </a:rPr>
              <a:t>S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081320" y="4289400"/>
            <a:ext cx="73512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Minion"/>
              </a:rPr>
              <a:t>S6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4"/>
          <a:stretch/>
        </p:blipFill>
        <p:spPr>
          <a:xfrm>
            <a:off x="2979720" y="4719600"/>
            <a:ext cx="763560" cy="90972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5"/>
          <a:stretch/>
        </p:blipFill>
        <p:spPr>
          <a:xfrm>
            <a:off x="3591000" y="4780080"/>
            <a:ext cx="981000" cy="88416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6"/>
          <a:stretch/>
        </p:blipFill>
        <p:spPr>
          <a:xfrm>
            <a:off x="4511520" y="4719600"/>
            <a:ext cx="1051200" cy="1035000"/>
          </a:xfrm>
          <a:prstGeom prst="rect">
            <a:avLst/>
          </a:prstGeom>
          <a:ln w="0">
            <a:noFill/>
          </a:ln>
        </p:spPr>
      </p:pic>
      <p:sp>
        <p:nvSpPr>
          <p:cNvPr id="491" name=""/>
          <p:cNvSpPr/>
          <p:nvPr/>
        </p:nvSpPr>
        <p:spPr>
          <a:xfrm>
            <a:off x="4754520" y="5396040"/>
            <a:ext cx="7365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Minion"/>
              </a:rPr>
              <a:t>EF9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284640" y="5396040"/>
            <a:ext cx="7347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Minion"/>
              </a:rPr>
              <a:t>S8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957480" y="5396040"/>
            <a:ext cx="73692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Minion"/>
              </a:rPr>
              <a:t>EF5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754520" y="4289400"/>
            <a:ext cx="7365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Minion"/>
              </a:rPr>
              <a:t>EF8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6334200" y="2568600"/>
          <a:ext cx="2246400" cy="2584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34200" y="2568600"/>
                    <a:ext cx="2246400" cy="25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"/>
          <p:cNvSpPr/>
          <p:nvPr/>
        </p:nvSpPr>
        <p:spPr>
          <a:xfrm>
            <a:off x="6692760" y="2936880"/>
            <a:ext cx="2022480" cy="685800"/>
          </a:xfrm>
          <a:custGeom>
            <a:avLst/>
            <a:gdLst/>
            <a:ahLst/>
            <a:rect l="l" t="t" r="r" b="b"/>
            <a:pathLst>
              <a:path w="1497" h="506">
                <a:moveTo>
                  <a:pt x="0" y="0"/>
                </a:moveTo>
                <a:cubicBezTo>
                  <a:pt x="136" y="140"/>
                  <a:pt x="272" y="280"/>
                  <a:pt x="408" y="363"/>
                </a:cubicBezTo>
                <a:cubicBezTo>
                  <a:pt x="544" y="446"/>
                  <a:pt x="672" y="506"/>
                  <a:pt x="816" y="499"/>
                </a:cubicBezTo>
                <a:cubicBezTo>
                  <a:pt x="960" y="492"/>
                  <a:pt x="1157" y="371"/>
                  <a:pt x="1270" y="318"/>
                </a:cubicBezTo>
                <a:cubicBezTo>
                  <a:pt x="1383" y="265"/>
                  <a:pt x="1459" y="205"/>
                  <a:pt x="1497" y="182"/>
                </a:cubicBezTo>
              </a:path>
            </a:pathLst>
          </a:custGeom>
          <a:noFill/>
          <a:ln w="38160">
            <a:solidFill>
              <a:srgbClr val="a6a0c2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8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43080" y="3859200"/>
            <a:ext cx="442800" cy="49212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71480" y="3859200"/>
            <a:ext cx="442800" cy="49068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201680" y="3859200"/>
            <a:ext cx="439920" cy="4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78920" y="47160"/>
            <a:ext cx="778212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Launching BenQ-Siemens with a 3-event strategy targeting diverse key audience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02" name=""/>
          <p:cNvSpPr/>
          <p:nvPr/>
        </p:nvSpPr>
        <p:spPr>
          <a:xfrm>
            <a:off x="190440" y="1473120"/>
            <a:ext cx="8788320" cy="3949920"/>
          </a:xfrm>
          <a:custGeom>
            <a:avLst/>
            <a:gdLst/>
            <a:ahLst/>
            <a:rect l="l" t="t" r="r" b="b"/>
            <a:pathLst>
              <a:path w="5506" h="2627">
                <a:moveTo>
                  <a:pt x="0" y="1988"/>
                </a:moveTo>
                <a:cubicBezTo>
                  <a:pt x="56" y="1877"/>
                  <a:pt x="99" y="1319"/>
                  <a:pt x="341" y="1319"/>
                </a:cubicBezTo>
                <a:cubicBezTo>
                  <a:pt x="583" y="1319"/>
                  <a:pt x="879" y="2626"/>
                  <a:pt x="1214" y="2626"/>
                </a:cubicBezTo>
                <a:cubicBezTo>
                  <a:pt x="1549" y="2626"/>
                  <a:pt x="1778" y="966"/>
                  <a:pt x="2088" y="966"/>
                </a:cubicBezTo>
                <a:cubicBezTo>
                  <a:pt x="2398" y="966"/>
                  <a:pt x="2651" y="2627"/>
                  <a:pt x="2961" y="2626"/>
                </a:cubicBezTo>
                <a:cubicBezTo>
                  <a:pt x="3271" y="2625"/>
                  <a:pt x="3490" y="607"/>
                  <a:pt x="3840" y="606"/>
                </a:cubicBezTo>
                <a:cubicBezTo>
                  <a:pt x="4190" y="605"/>
                  <a:pt x="4385" y="2626"/>
                  <a:pt x="4707" y="2626"/>
                </a:cubicBezTo>
                <a:cubicBezTo>
                  <a:pt x="5029" y="2626"/>
                  <a:pt x="5340" y="547"/>
                  <a:pt x="5506" y="0"/>
                </a:cubicBezTo>
              </a:path>
            </a:pathLst>
          </a:custGeom>
          <a:noFill/>
          <a:ln w="38160">
            <a:solidFill>
              <a:srgbClr val="b09fc2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870200" y="2244600"/>
            <a:ext cx="7080120" cy="0"/>
          </a:xfrm>
          <a:prstGeom prst="line">
            <a:avLst/>
          </a:prstGeom>
          <a:ln w="28440">
            <a:solidFill>
              <a:srgbClr val="8076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6481800" y="2285280"/>
            <a:ext cx="228600" cy="252360"/>
          </a:xfrm>
          <a:prstGeom prst="triangle">
            <a:avLst>
              <a:gd name="adj" fmla="val 50000"/>
            </a:avLst>
          </a:prstGeom>
          <a:solidFill>
            <a:srgbClr val="755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291720" y="2644920"/>
            <a:ext cx="60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M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1898640" y="2285280"/>
            <a:ext cx="228600" cy="252360"/>
          </a:xfrm>
          <a:prstGeom prst="triangle">
            <a:avLst>
              <a:gd name="adj" fmla="val 50000"/>
            </a:avLst>
          </a:prstGeom>
          <a:solidFill>
            <a:srgbClr val="755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651680" y="2644920"/>
            <a:ext cx="721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Janu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4060800" y="2285280"/>
            <a:ext cx="228600" cy="252360"/>
          </a:xfrm>
          <a:prstGeom prst="triangle">
            <a:avLst>
              <a:gd name="adj" fmla="val 50000"/>
            </a:avLst>
          </a:prstGeom>
          <a:solidFill>
            <a:srgbClr val="755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745800" y="2644920"/>
            <a:ext cx="855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Febru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78000" y="3171960"/>
            <a:ext cx="993600" cy="6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Pl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78000" y="5008680"/>
            <a:ext cx="8222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Target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6481800" y="1192320"/>
            <a:ext cx="2205000" cy="4365360"/>
            <a:chOff x="6481800" y="1192320"/>
            <a:chExt cx="2205000" cy="4365360"/>
          </a:xfrm>
        </p:grpSpPr>
        <p:sp>
          <p:nvSpPr>
            <p:cNvPr id="513" name=""/>
            <p:cNvSpPr/>
            <p:nvPr/>
          </p:nvSpPr>
          <p:spPr>
            <a:xfrm>
              <a:off x="6481800" y="1197000"/>
              <a:ext cx="2205000" cy="1006560"/>
            </a:xfrm>
            <a:prstGeom prst="rect">
              <a:avLst/>
            </a:prstGeom>
            <a:noFill/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4" name="" descr=""/>
            <p:cNvPicPr/>
            <p:nvPr/>
          </p:nvPicPr>
          <p:blipFill>
            <a:blip r:embed="rId1"/>
            <a:stretch/>
          </p:blipFill>
          <p:spPr>
            <a:xfrm>
              <a:off x="7365960" y="2333520"/>
              <a:ext cx="595440" cy="522360"/>
            </a:xfrm>
            <a:prstGeom prst="rect">
              <a:avLst/>
            </a:prstGeom>
            <a:ln w="9360">
              <a:solidFill>
                <a:srgbClr val="5f5f5f"/>
              </a:solidFill>
              <a:miter/>
            </a:ln>
          </p:spPr>
        </p:pic>
        <p:sp>
          <p:nvSpPr>
            <p:cNvPr id="515" name=""/>
            <p:cNvSpPr/>
            <p:nvPr/>
          </p:nvSpPr>
          <p:spPr>
            <a:xfrm>
              <a:off x="6481800" y="3171960"/>
              <a:ext cx="2205000" cy="11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eBIT 2006 Hano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onsumer launch of "Exploration" B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10800000">
              <a:off x="6551640" y="4662000"/>
              <a:ext cx="1882800" cy="187560"/>
            </a:xfrm>
            <a:prstGeom prst="triangle">
              <a:avLst>
                <a:gd name="adj" fmla="val 50000"/>
              </a:avLst>
            </a:prstGeom>
            <a:solidFill>
              <a:srgbClr val="807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481800" y="5008680"/>
              <a:ext cx="21844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95400" indent="-9396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onsumer and general 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8" name="" descr=""/>
            <p:cNvPicPr/>
            <p:nvPr/>
          </p:nvPicPr>
          <p:blipFill>
            <a:blip r:embed="rId2"/>
            <a:stretch/>
          </p:blipFill>
          <p:spPr>
            <a:xfrm>
              <a:off x="6481800" y="1192320"/>
              <a:ext cx="2205000" cy="1011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9" name=""/>
          <p:cNvGrpSpPr/>
          <p:nvPr/>
        </p:nvGrpSpPr>
        <p:grpSpPr>
          <a:xfrm>
            <a:off x="1798560" y="1197000"/>
            <a:ext cx="2227320" cy="5183640"/>
            <a:chOff x="1798560" y="1197000"/>
            <a:chExt cx="2227320" cy="5183640"/>
          </a:xfrm>
        </p:grpSpPr>
        <p:sp>
          <p:nvSpPr>
            <p:cNvPr id="520" name=""/>
            <p:cNvSpPr/>
            <p:nvPr/>
          </p:nvSpPr>
          <p:spPr>
            <a:xfrm>
              <a:off x="1889280" y="1197000"/>
              <a:ext cx="1955520" cy="1006560"/>
            </a:xfrm>
            <a:prstGeom prst="rect">
              <a:avLst/>
            </a:prstGeom>
            <a:noFill/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822320" y="3171960"/>
              <a:ext cx="2203560" cy="63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Berlin &amp; Beij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Brand laun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2" name="" descr=""/>
            <p:cNvPicPr/>
            <p:nvPr/>
          </p:nvPicPr>
          <p:blipFill>
            <a:blip r:embed="rId3"/>
            <a:stretch/>
          </p:blipFill>
          <p:spPr>
            <a:xfrm>
              <a:off x="1889280" y="1197000"/>
              <a:ext cx="195552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 rot="10800000">
              <a:off x="1798560" y="4662000"/>
              <a:ext cx="1882800" cy="187560"/>
            </a:xfrm>
            <a:prstGeom prst="triangle">
              <a:avLst>
                <a:gd name="adj" fmla="val 50000"/>
              </a:avLst>
            </a:prstGeom>
            <a:solidFill>
              <a:srgbClr val="807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822320" y="5008680"/>
              <a:ext cx="208944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95400" indent="-9396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Top tier news, business and </a:t>
              </a:r>
              <a:br>
                <a:rPr sz="1800"/>
              </a:b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industry media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5400" indent="-9396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Tailored analyst briefing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5" name=""/>
            <p:cNvGrpSpPr/>
            <p:nvPr/>
          </p:nvGrpSpPr>
          <p:grpSpPr>
            <a:xfrm>
              <a:off x="2540160" y="2268360"/>
              <a:ext cx="765000" cy="854280"/>
              <a:chOff x="2540160" y="2268360"/>
              <a:chExt cx="765000" cy="854280"/>
            </a:xfrm>
          </p:grpSpPr>
          <p:pic>
            <p:nvPicPr>
              <p:cNvPr id="52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540160" y="2268360"/>
                <a:ext cx="765000" cy="765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7" name=""/>
              <p:cNvSpPr/>
              <p:nvPr/>
            </p:nvSpPr>
            <p:spPr>
              <a:xfrm>
                <a:off x="2565360" y="2392200"/>
                <a:ext cx="736560" cy="73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57240"/>
                    <a:tab algn="l" pos="1914480"/>
                    <a:tab algn="l" pos="2871720"/>
                    <a:tab algn="l" pos="3828960"/>
                    <a:tab algn="l" pos="4786200"/>
                    <a:tab algn="l" pos="5743440"/>
                    <a:tab algn="l" pos="6700680"/>
                    <a:tab algn="l" pos="7658280"/>
                    <a:tab algn="l" pos="8615520"/>
                    <a:tab algn="l" pos="9572760"/>
                    <a:tab algn="l" pos="105300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Minion"/>
                    <a:ea typeface="文鼎中黑"/>
                  </a:rPr>
                  <a:t>BenQ-Siemen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8" name=""/>
          <p:cNvGrpSpPr/>
          <p:nvPr/>
        </p:nvGrpSpPr>
        <p:grpSpPr>
          <a:xfrm>
            <a:off x="4060800" y="1197000"/>
            <a:ext cx="2205000" cy="5457960"/>
            <a:chOff x="4060800" y="1197000"/>
            <a:chExt cx="2205000" cy="5457960"/>
          </a:xfrm>
        </p:grpSpPr>
        <p:sp>
          <p:nvSpPr>
            <p:cNvPr id="529" name=""/>
            <p:cNvSpPr/>
            <p:nvPr/>
          </p:nvSpPr>
          <p:spPr>
            <a:xfrm>
              <a:off x="4060800" y="1197000"/>
              <a:ext cx="2205000" cy="1006560"/>
            </a:xfrm>
            <a:prstGeom prst="rect">
              <a:avLst/>
            </a:prstGeom>
            <a:noFill/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0" name="" descr=""/>
            <p:cNvPicPr/>
            <p:nvPr/>
          </p:nvPicPr>
          <p:blipFill>
            <a:blip r:embed="rId5"/>
            <a:stretch/>
          </p:blipFill>
          <p:spPr>
            <a:xfrm>
              <a:off x="4060800" y="1197000"/>
              <a:ext cx="220500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1" name=""/>
            <p:cNvSpPr/>
            <p:nvPr/>
          </p:nvSpPr>
          <p:spPr>
            <a:xfrm>
              <a:off x="4060800" y="3171960"/>
              <a:ext cx="2205000" cy="173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3GSM Barcelo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First detailed hands-on exposure of BenQ-Siemens to larger B2B and press audie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rot="10800000">
              <a:off x="4118040" y="4662000"/>
              <a:ext cx="1882800" cy="187560"/>
            </a:xfrm>
            <a:prstGeom prst="triangle">
              <a:avLst>
                <a:gd name="adj" fmla="val 50000"/>
              </a:avLst>
            </a:prstGeom>
            <a:solidFill>
              <a:srgbClr val="807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060800" y="5008680"/>
              <a:ext cx="2184480" cy="16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95400" indent="-9396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Focus on technology and trade pres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5400" indent="-9396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Building on momentum from brand laun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4" name="" descr=""/>
            <p:cNvPicPr/>
            <p:nvPr/>
          </p:nvPicPr>
          <p:blipFill>
            <a:blip r:embed="rId6"/>
            <a:stretch/>
          </p:blipFill>
          <p:spPr>
            <a:xfrm>
              <a:off x="4572000" y="2414520"/>
              <a:ext cx="1190520" cy="428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Minion"/>
              </a:rPr>
              <a:t>CeBIT Impression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206280" y="1135080"/>
            <a:ext cx="1343160" cy="100800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2"/>
          <a:stretch/>
        </p:blipFill>
        <p:spPr>
          <a:xfrm>
            <a:off x="206280" y="2147760"/>
            <a:ext cx="1346400" cy="100836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3"/>
          <a:stretch/>
        </p:blipFill>
        <p:spPr>
          <a:xfrm>
            <a:off x="206280" y="3156120"/>
            <a:ext cx="1346400" cy="100800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4"/>
          <a:stretch/>
        </p:blipFill>
        <p:spPr>
          <a:xfrm>
            <a:off x="206280" y="4164120"/>
            <a:ext cx="1346400" cy="100800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5"/>
          <a:stretch/>
        </p:blipFill>
        <p:spPr>
          <a:xfrm>
            <a:off x="1595520" y="1130400"/>
            <a:ext cx="3708360" cy="246672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6"/>
          <a:stretch/>
        </p:blipFill>
        <p:spPr>
          <a:xfrm>
            <a:off x="5357880" y="3699000"/>
            <a:ext cx="3708360" cy="247320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7"/>
          <a:stretch/>
        </p:blipFill>
        <p:spPr>
          <a:xfrm>
            <a:off x="5357880" y="1125360"/>
            <a:ext cx="3708360" cy="247356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8"/>
          <a:stretch/>
        </p:blipFill>
        <p:spPr>
          <a:xfrm>
            <a:off x="209520" y="5172120"/>
            <a:ext cx="1343160" cy="100656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9"/>
          <a:stretch/>
        </p:blipFill>
        <p:spPr>
          <a:xfrm>
            <a:off x="1595520" y="3701880"/>
            <a:ext cx="372420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8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2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0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6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798984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Executive summary (cont.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6" name=""/>
          <p:cNvSpPr/>
          <p:nvPr/>
        </p:nvSpPr>
        <p:spPr>
          <a:xfrm>
            <a:off x="393840" y="911160"/>
            <a:ext cx="8238960" cy="61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zh-TW" sz="1400" spc="-1" strike="noStrike">
                <a:solidFill>
                  <a:srgbClr val="3a0e66"/>
                </a:solidFill>
                <a:latin typeface="Minion"/>
              </a:rPr>
              <a:t>Structural adjustments will contribute to Value, Cost, and Speed (cont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roduct hou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8715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The realization of synergies within the two product houses is not satisfy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8715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Therefore they are consolidated and headed jointly by Dr. Jochen Eickholt &amp; Dr. Irwin Ch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8715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roduct house structures will be standardized and simplifi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8715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Jobs and tasks from Ulm are transferred to Munich or Kamp Lintfort</a:t>
            </a: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Customer Care will be positioned as the first independent global after-sales-company for the consumer electronics industry (exclusive partner for BenQ Mobile products, preferred partner for BenQ Corp. in Europe, and soliciting third party busines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avid Wang to join the management team to drive forward the BMG Management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The new Lifestyle Design Center in Munich will be headed by Jonathan Y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Turnaround efforts are becoming vis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uccessful brand launch trilogy is restoring customer confidence and creating consumer enthusias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BenQ-Siemens dominated the media agenda during CeBIT 2006 with 5 times as many press clippings as all competitors together around the first 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New products with exciting lifestyle benefits are already driving the A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Leadership position has been gained in innovation (e.g. HSDPA, OLED), in design and user experience (e.g. </a:t>
            </a: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aterials, mechanics, miniaturization)</a:t>
            </a: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, and multimedia and applications (e.g. cameras, Google searc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Leading operators are listing our products – one major German operator even delisted Samsung in favor of BenQ-Sieme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Baseline is within reach:  Last mile on cost saving to go, refocus on top line profitable growth subsequentl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0560" y="1787400"/>
            <a:ext cx="7515360" cy="3586320"/>
          </a:xfrm>
          <a:prstGeom prst="rect">
            <a:avLst/>
          </a:prstGeom>
          <a:solidFill>
            <a:srgbClr val="cfc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49320"/>
            <a:ext cx="798984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Key target for Q1 CY2006 was to achieve operational and market stability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0" name=""/>
          <p:cNvSpPr/>
          <p:nvPr/>
        </p:nvSpPr>
        <p:spPr>
          <a:xfrm>
            <a:off x="1252440" y="2077920"/>
            <a:ext cx="6316920" cy="30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Stopping volume erosion in Q3 and Q4 CY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Secure transition / carve out of 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Reorganize / integrate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Reduce cost to achieve 500 Mio € cost sav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Achieve credibility with consumers: Outstanding operator listings 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2091960"/>
            <a:ext cx="49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3287520"/>
            <a:ext cx="49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2688840"/>
            <a:ext cx="49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4484160"/>
            <a:ext cx="49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3885840"/>
            <a:ext cx="49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4200" y="47160"/>
            <a:ext cx="8623440" cy="8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enQ Corp reports a loss of ~150 Mio € for Q4 CY2005 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7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7040" y="1071720"/>
            <a:ext cx="813420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84320" indent="-182880">
              <a:lnSpc>
                <a:spcPct val="100000"/>
              </a:lnSpc>
              <a:spcAft>
                <a:spcPts val="901"/>
              </a:spcAft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新細明體"/>
              </a:rPr>
              <a:t>Losses are due in large part to the merger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452520" indent="-266760">
              <a:lnSpc>
                <a:spcPct val="100000"/>
              </a:lnSpc>
              <a:spcAft>
                <a:spcPts val="751"/>
              </a:spcAft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Handset product line was focused low margin products – </a:t>
            </a:r>
            <a:br>
              <a:rPr sz="2000"/>
            </a:b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products with little or no competitive strength were cleared 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452520" indent="-266760">
              <a:lnSpc>
                <a:spcPct val="100000"/>
              </a:lnSpc>
              <a:spcAft>
                <a:spcPts val="751"/>
              </a:spcAft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Unscheduled delays (missed time-to-market) occurred in releasing new, competitive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452520" indent="-266760">
              <a:lnSpc>
                <a:spcPct val="100000"/>
              </a:lnSpc>
              <a:spcAft>
                <a:spcPts val="751"/>
              </a:spcAft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During the transition, some divisions incurred additional expenses when adjusting their inventories and closing bad accou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452520" indent="-266760">
              <a:lnSpc>
                <a:spcPct val="100000"/>
              </a:lnSpc>
              <a:spcAft>
                <a:spcPts val="751"/>
              </a:spcAft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We are still bound to some material providers by long-term contracts –  </a:t>
            </a:r>
            <a:br>
              <a:rPr sz="2000"/>
            </a:b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Cost-down measures will become effective not until Q2 CY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84320" indent="-182880">
              <a:lnSpc>
                <a:spcPct val="100000"/>
              </a:lnSpc>
              <a:spcAft>
                <a:spcPts val="901"/>
              </a:spcAft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新細明體"/>
              </a:rPr>
              <a:t>At the same time, profits from IT and CE were not large enough to compensate for the losses in the handset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5424480"/>
            <a:ext cx="82980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The key to BenQ turnaround is to improve 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the situation of BM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-163800"/>
            <a:ext cx="8553600" cy="12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Functional cost were taken down while safeguarding 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operational capability (R&amp;D, CM &amp; Sales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1" name=""/>
          <p:cNvSpPr/>
          <p:nvPr/>
        </p:nvSpPr>
        <p:spPr>
          <a:xfrm>
            <a:off x="4811760" y="1225440"/>
            <a:ext cx="4114800" cy="495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11760" y="1225440"/>
            <a:ext cx="4114800" cy="428760"/>
          </a:xfrm>
          <a:prstGeom prst="rect">
            <a:avLst/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19640" y="1128600"/>
            <a:ext cx="32990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OpEx, Jan. 2006 vs. Jan.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9560" y="1225440"/>
            <a:ext cx="4114800" cy="495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9560" y="1225440"/>
            <a:ext cx="4114800" cy="428760"/>
          </a:xfrm>
          <a:prstGeom prst="rect">
            <a:avLst/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47800" y="1280880"/>
            <a:ext cx="329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OpEx, Q4 2005 vs. Q4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308240" y="2265480"/>
          <a:ext cx="2970000" cy="29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8240" y="2265480"/>
                    <a:ext cx="2970000" cy="29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2098800" y="1946160"/>
            <a:ext cx="1385640" cy="111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03280" y="5195880"/>
            <a:ext cx="1390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Q4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793960" y="5195880"/>
            <a:ext cx="138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Q4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16040" y="2367000"/>
            <a:ext cx="549360" cy="272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-41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98720" y="2298600"/>
            <a:ext cx="468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G&amp;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93560" y="2738520"/>
            <a:ext cx="1073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Selling Ex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3571920"/>
            <a:ext cx="95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96920" y="4500720"/>
            <a:ext cx="4698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R&amp;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5718240" y="2265480"/>
          <a:ext cx="2970000" cy="293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8240" y="2265480"/>
                    <a:ext cx="2970000" cy="29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6508800" y="2066760"/>
            <a:ext cx="138600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6400" y="2273400"/>
            <a:ext cx="549000" cy="272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-2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508720" y="2309760"/>
            <a:ext cx="468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G&amp;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903920" y="2708280"/>
            <a:ext cx="1073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Selling Ex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19840" y="3446640"/>
            <a:ext cx="9572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06920" y="4414680"/>
            <a:ext cx="47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R&amp;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13280" y="5195880"/>
            <a:ext cx="1390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Jan.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03960" y="5195880"/>
            <a:ext cx="138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Jan.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62240" y="5508720"/>
            <a:ext cx="14698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Siemens MD and </a:t>
            </a:r>
            <a:br>
              <a:rPr sz="1600"/>
            </a:b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BenQ Wirel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81360" y="5630040"/>
            <a:ext cx="13939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BenQ </a:t>
            </a:r>
            <a:br>
              <a:rPr sz="1600"/>
            </a:b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Mob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48480" y="5508720"/>
            <a:ext cx="14889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Siemens MD and </a:t>
            </a:r>
            <a:br>
              <a:rPr sz="1600"/>
            </a:b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BenQ Wirel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176960" y="5630040"/>
            <a:ext cx="13939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BenQ </a:t>
            </a:r>
            <a:br>
              <a:rPr sz="1600"/>
            </a:b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Mob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982960" y="1717200"/>
            <a:ext cx="1428840" cy="730440"/>
            <a:chOff x="2982960" y="1717200"/>
            <a:chExt cx="1428840" cy="730440"/>
          </a:xfrm>
        </p:grpSpPr>
        <p:sp>
          <p:nvSpPr>
            <p:cNvPr id="102" name=""/>
            <p:cNvSpPr/>
            <p:nvPr/>
          </p:nvSpPr>
          <p:spPr>
            <a:xfrm>
              <a:off x="2982960" y="1733400"/>
              <a:ext cx="1428840" cy="698760"/>
            </a:xfrm>
            <a:prstGeom prst="ellipse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83680" y="1717200"/>
              <a:ext cx="142776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ost redu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&gt; 100 Mio €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 hidden="1"/>
          <p:cNvSpPr/>
          <p:nvPr/>
        </p:nvSpPr>
        <p:spPr>
          <a:xfrm>
            <a:off x="52560" y="-74520"/>
            <a:ext cx="50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90440" y="49320"/>
            <a:ext cx="87631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Despite significant progress, cost position is not in line with revenue expec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5760" y="1108080"/>
            <a:ext cx="5206680" cy="47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1" marL="182520" indent="-181080">
              <a:lnSpc>
                <a:spcPct val="100000"/>
              </a:lnSpc>
              <a:spcBef>
                <a:spcPts val="82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2800" indent="-258480">
              <a:lnSpc>
                <a:spcPct val="100000"/>
              </a:lnSpc>
              <a:spcBef>
                <a:spcPts val="825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Better alignment of CM and S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2800" indent="-258480">
              <a:lnSpc>
                <a:spcPct val="100000"/>
              </a:lnSpc>
              <a:spcBef>
                <a:spcPts val="825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Improvement of market intimacy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82520" indent="-181080">
              <a:lnSpc>
                <a:spcPct val="100000"/>
              </a:lnSpc>
              <a:spcBef>
                <a:spcPts val="82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Co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2800" indent="-258480">
              <a:lnSpc>
                <a:spcPct val="100000"/>
              </a:lnSpc>
              <a:spcBef>
                <a:spcPts val="825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Realization of synergy potenti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2800" indent="-258480">
              <a:lnSpc>
                <a:spcPct val="100000"/>
              </a:lnSpc>
              <a:spcBef>
                <a:spcPts val="825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Further BoM savin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2800" indent="-258480">
              <a:lnSpc>
                <a:spcPct val="100000"/>
              </a:lnSpc>
              <a:spcBef>
                <a:spcPts val="825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Additional cut of functional co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82520" indent="-181080">
              <a:lnSpc>
                <a:spcPct val="100000"/>
              </a:lnSpc>
              <a:spcBef>
                <a:spcPts val="82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Spe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2800" indent="-258480">
              <a:lnSpc>
                <a:spcPct val="100000"/>
              </a:lnSpc>
              <a:spcBef>
                <a:spcPts val="825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Alignment of proce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2800" indent="-258480">
              <a:lnSpc>
                <a:spcPct val="100000"/>
              </a:lnSpc>
              <a:spcBef>
                <a:spcPts val="825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Further reduction of R&amp;D complex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3358800" y="2948040"/>
            <a:ext cx="4359240" cy="374760"/>
          </a:xfrm>
          <a:prstGeom prst="triangle">
            <a:avLst>
              <a:gd name="adj" fmla="val 50000"/>
            </a:avLst>
          </a:prstGeom>
          <a:solidFill>
            <a:srgbClr val="cfc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07240" y="1686960"/>
            <a:ext cx="3060720" cy="29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3a0e66"/>
                </a:solidFill>
                <a:latin typeface="Minion"/>
              </a:rPr>
              <a:t>Structural adjust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84320" indent="-182880">
              <a:lnSpc>
                <a:spcPct val="90000"/>
              </a:lnSpc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Impacting all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84320" indent="-182880">
              <a:lnSpc>
                <a:spcPct val="90000"/>
              </a:lnSpc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Impacting all loc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84320" indent="-182880">
              <a:lnSpc>
                <a:spcPct val="90000"/>
              </a:lnSpc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Impacting structure and proce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49120" y="5566320"/>
            <a:ext cx="87631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Target: Additional 100 Mio € functional cost 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reduction in 2006 will also affect employ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1000" y="925560"/>
            <a:ext cx="727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5000" spc="-1" strike="noStrike">
                <a:solidFill>
                  <a:srgbClr val="3a0e66"/>
                </a:solidFill>
                <a:latin typeface="Wingdings 2"/>
                <a:ea typeface="Wingdings 2"/>
              </a:rPr>
              <a:t>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5160" y="2254320"/>
            <a:ext cx="75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5000" spc="-1" strike="noStrike">
                <a:solidFill>
                  <a:srgbClr val="3a0e66"/>
                </a:solidFill>
                <a:latin typeface="Wingdings 2"/>
                <a:ea typeface="Wingdings 2"/>
              </a:rPr>
              <a:t>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5160" y="4013280"/>
            <a:ext cx="75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5000" spc="-1" strike="noStrike">
                <a:solidFill>
                  <a:srgbClr val="3a0e66"/>
                </a:solidFill>
                <a:latin typeface="Wingdings 2"/>
                <a:ea typeface="Wingdings 2"/>
              </a:rPr>
              <a:t>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06280" y="33120"/>
            <a:ext cx="8501040" cy="8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TW" sz="2800" spc="-1" strike="noStrike">
                <a:solidFill>
                  <a:srgbClr val="3a0e66"/>
                </a:solidFill>
                <a:latin typeface="Minion"/>
              </a:rPr>
              <a:t>Customer Care is a well managed organization …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37960" y="932040"/>
            <a:ext cx="8785440" cy="5560200"/>
            <a:chOff x="237960" y="932040"/>
            <a:chExt cx="8785440" cy="5560200"/>
          </a:xfrm>
        </p:grpSpPr>
        <p:grpSp>
          <p:nvGrpSpPr>
            <p:cNvPr id="116" name=""/>
            <p:cNvGrpSpPr/>
            <p:nvPr/>
          </p:nvGrpSpPr>
          <p:grpSpPr>
            <a:xfrm>
              <a:off x="237960" y="932040"/>
              <a:ext cx="8785440" cy="5560200"/>
              <a:chOff x="237960" y="932040"/>
              <a:chExt cx="8785440" cy="5560200"/>
            </a:xfrm>
          </p:grpSpPr>
          <p:sp>
            <p:nvSpPr>
              <p:cNvPr id="117" name=""/>
              <p:cNvSpPr/>
              <p:nvPr/>
            </p:nvSpPr>
            <p:spPr>
              <a:xfrm>
                <a:off x="4091040" y="932040"/>
                <a:ext cx="4932360" cy="4381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0" tIns="46800" bIns="46800" anchor="ctr">
                <a:noAutofit/>
              </a:bodyPr>
              <a:p>
                <a:pPr lvl="1" marL="271440" indent="-181080">
                  <a:lnSpc>
                    <a:spcPct val="100000"/>
                  </a:lnSpc>
                  <a:spcBef>
                    <a:spcPts val="499"/>
                  </a:spcBef>
                  <a:buClr>
                    <a:srgbClr val="3a0e66"/>
                  </a:buClr>
                  <a:buFont typeface="Minio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Set up CC as the </a:t>
                </a: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first global after-sales-company</a:t>
                </a: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 for the </a:t>
                </a: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consumer electronics</a:t>
                </a: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 industr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271440" indent="-181080">
                  <a:lnSpc>
                    <a:spcPct val="100000"/>
                  </a:lnSpc>
                  <a:spcBef>
                    <a:spcPts val="499"/>
                  </a:spcBef>
                  <a:buClr>
                    <a:srgbClr val="3a0e66"/>
                  </a:buClr>
                  <a:buFont typeface="Minio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Spin-out</a:t>
                </a: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 all international service activities 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of BMG </a:t>
                </a: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into a separate legal entity 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(CC NewCo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271440" indent="-181080">
                  <a:lnSpc>
                    <a:spcPct val="100000"/>
                  </a:lnSpc>
                  <a:spcBef>
                    <a:spcPts val="499"/>
                  </a:spcBef>
                  <a:buClr>
                    <a:srgbClr val="3a0e66"/>
                  </a:buClr>
                  <a:buFont typeface="Minio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Exclusive partner</a:t>
                </a: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 for BenQ Mobile produc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271440" indent="-181080">
                  <a:lnSpc>
                    <a:spcPct val="100000"/>
                  </a:lnSpc>
                  <a:spcBef>
                    <a:spcPts val="499"/>
                  </a:spcBef>
                  <a:buClr>
                    <a:srgbClr val="3a0e66"/>
                  </a:buClr>
                  <a:buFont typeface="Minio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Preferred partner</a:t>
                </a: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 for BenQ Corp. in Euro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271440" indent="-181080">
                  <a:lnSpc>
                    <a:spcPct val="100000"/>
                  </a:lnSpc>
                  <a:spcBef>
                    <a:spcPts val="499"/>
                  </a:spcBef>
                  <a:buClr>
                    <a:srgbClr val="3a0e66"/>
                  </a:buClr>
                  <a:buFont typeface="Minio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Solicit</a:t>
                </a: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 third party business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271440" indent="-181080">
                  <a:lnSpc>
                    <a:spcPct val="100000"/>
                  </a:lnSpc>
                  <a:spcBef>
                    <a:spcPts val="499"/>
                  </a:spcBef>
                  <a:buClr>
                    <a:srgbClr val="3a0e66"/>
                  </a:buClr>
                  <a:buFont typeface="Minio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8892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New Company</a:t>
                </a: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 to be set up asap, </a:t>
                </a: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transition</a:t>
                </a: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 scheduled for </a:t>
                </a: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end of June, 2006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37960" y="5545080"/>
                <a:ext cx="84186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8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... developing from a cost to a profit center </a:t>
                </a:r>
                <a:br>
                  <a:rPr sz="2800"/>
                </a:br>
                <a:r>
                  <a:rPr b="1" lang="zh-TW" sz="28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for further profitable growth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 rot="10800000">
              <a:off x="5536800" y="4205160"/>
              <a:ext cx="1724040" cy="176400"/>
            </a:xfrm>
            <a:prstGeom prst="triangle">
              <a:avLst>
                <a:gd name="adj" fmla="val 50000"/>
              </a:avLst>
            </a:prstGeom>
            <a:solidFill>
              <a:srgbClr val="a6a0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79280" y="933480"/>
            <a:ext cx="4030920" cy="4395600"/>
          </a:xfrm>
          <a:custGeom>
            <a:avLst/>
            <a:gdLst>
              <a:gd name="textAreaLeft" fmla="*/ 0 w 4030920"/>
              <a:gd name="textAreaRight" fmla="*/ 4031280 w 4030920"/>
              <a:gd name="textAreaTop" fmla="*/ 0 h 4395600"/>
              <a:gd name="textAreaBottom" fmla="*/ 4395960 h 439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5" y="0"/>
                </a:lnTo>
                <a:lnTo>
                  <a:pt x="21600" y="10800"/>
                </a:lnTo>
                <a:lnTo>
                  <a:pt x="1974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281160" indent="-2206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Top tier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 in internal (BenQ) and external benchmar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1160" indent="-2206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Operational  process excelle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1160" indent="-2206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Global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 footpr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1160" indent="-2206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Process and people </a:t>
            </a: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st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Additional </a:t>
            </a: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scope and scale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 could further drive CC produ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1160" indent="-2206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Acquisition of additional</a:t>
            </a: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 business 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(e.g. BenQ Corp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1160" indent="-2206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Acquisition of additional</a:t>
            </a: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 volume </a:t>
            </a:r>
            <a:br>
              <a:rPr sz="2000"/>
            </a:b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(3</a:t>
            </a:r>
            <a:r>
              <a:rPr b="0" lang="en-US" sz="2000" spc="-1" strike="noStrike" baseline="30000">
                <a:solidFill>
                  <a:srgbClr val="3a0e66"/>
                </a:solidFill>
                <a:latin typeface="Minion"/>
                <a:ea typeface="文鼎中黑"/>
              </a:rPr>
              <a:t>rd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 party mobile busin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06280" y="-163800"/>
            <a:ext cx="8501040" cy="12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Site consolidation will be consequently executed, jobs and tasks from Ulm are transferred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3" name=""/>
          <p:cNvSpPr/>
          <p:nvPr/>
        </p:nvSpPr>
        <p:spPr>
          <a:xfrm>
            <a:off x="520560" y="1496880"/>
            <a:ext cx="7515360" cy="4626000"/>
          </a:xfrm>
          <a:prstGeom prst="rect">
            <a:avLst/>
          </a:prstGeom>
          <a:solidFill>
            <a:srgbClr val="cfc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52440" y="1787400"/>
            <a:ext cx="631692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16000" indent="-21600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2200" spc="-1" strike="noStrike">
                <a:solidFill>
                  <a:srgbClr val="3a0e66"/>
                </a:solidFill>
                <a:latin typeface="Minion"/>
              </a:rPr>
              <a:t>All jobs are preserved – no layoff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2200" spc="-1" strike="noStrike">
                <a:solidFill>
                  <a:srgbClr val="3a0e66"/>
                </a:solidFill>
                <a:latin typeface="Minion"/>
              </a:rPr>
              <a:t>The jobs will be located in Munich Headquarters</a:t>
            </a:r>
            <a:br>
              <a:rPr sz="2200"/>
            </a:br>
            <a:r>
              <a:rPr b="0" lang="zh-TW" sz="2200" spc="-1" strike="noStrike">
                <a:solidFill>
                  <a:srgbClr val="3a0e66"/>
                </a:solidFill>
                <a:latin typeface="Minion"/>
              </a:rPr>
              <a:t>(or in Kamp Lintfort if desire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2200" spc="-1" strike="noStrike">
                <a:solidFill>
                  <a:srgbClr val="3a0e66"/>
                </a:solidFill>
                <a:latin typeface="Minion"/>
              </a:rPr>
              <a:t>Actual tasks are shifted with the workpla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2200" spc="-1" strike="noStrike">
                <a:solidFill>
                  <a:srgbClr val="3a0e66"/>
                </a:solidFill>
                <a:latin typeface="Minion"/>
              </a:rPr>
              <a:t>Better utilization of ass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2200" spc="-1" strike="noStrike">
                <a:solidFill>
                  <a:srgbClr val="3a0e66"/>
                </a:solidFill>
                <a:latin typeface="Minion"/>
              </a:rPr>
              <a:t>Full involvement in core pro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2200" spc="-1" strike="noStrike">
                <a:solidFill>
                  <a:srgbClr val="3a0e66"/>
                </a:solidFill>
                <a:latin typeface="Minion"/>
              </a:rPr>
              <a:t>Right sizing of infra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600"/>
                            </p:stCondLst>
                            <p:childTnLst>
                              <p:par>
                                <p:cTn id="105" nodeType="after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200"/>
                            </p:stCondLst>
                            <p:childTnLst>
                              <p:par>
                                <p:cTn id="110" nodeType="after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800"/>
                            </p:stCondLst>
                            <p:childTnLst>
                              <p:par>
                                <p:cTn id="115" nodeType="after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400"/>
                            </p:stCondLst>
                            <p:childTnLst>
                              <p:par>
                                <p:cTn id="120" nodeType="after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Sven Scheuble</dc:creator>
  <dc:description/>
  <dc:language>en-US</dc:language>
  <cp:lastModifiedBy>ScheubleS</cp:lastModifiedBy>
  <dcterms:modified xsi:type="dcterms:W3CDTF">2006-03-17T17:02:46Z</dcterms:modified>
  <cp:revision>526</cp:revision>
  <dc:subject/>
  <dc:title>All-hands meeting</dc:title>
</cp:coreProperties>
</file>