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E2C1-2B7E-4731-9D97-8EE1677F4A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7E7D-3008-4040-B76B-96E151205A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00080" y="738360"/>
            <a:ext cx="4856040" cy="3641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4400" y="4489200"/>
            <a:ext cx="610236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lamingo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Dec 22,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lamingo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bout fash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 after M0 – Jan 19, 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2560" y="4184640"/>
            <a:ext cx="3692520" cy="2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ommerer (PDM)/O. Girke (SPM)/B. Lui (PLT)/C. Rechenauer (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9440" y="103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Status X85 Flaming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„ All about fash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440" y="54054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944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9440" y="390204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9440" y="486396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62280" y="175248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8018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72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2560" y="4641840"/>
            <a:ext cx="4876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9440" y="2868480"/>
            <a:ext cx="2405160" cy="604800"/>
            <a:chOff x="109440" y="2868480"/>
            <a:chExt cx="2405160" cy="604800"/>
          </a:xfrm>
        </p:grpSpPr>
        <p:sp>
          <p:nvSpPr>
            <p:cNvPr id="106" name=""/>
            <p:cNvSpPr/>
            <p:nvPr/>
          </p:nvSpPr>
          <p:spPr>
            <a:xfrm>
              <a:off x="109440" y="2868480"/>
              <a:ext cx="1749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Financi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status S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2280" y="29286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4480" y="2973240"/>
              <a:ext cx="12852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24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40000" y="29732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1447920"/>
            <a:ext cx="6171840" cy="1044000"/>
            <a:chOff x="2743200" y="1447920"/>
            <a:chExt cx="6171840" cy="1044000"/>
          </a:xfrm>
        </p:grpSpPr>
        <p:sp>
          <p:nvSpPr>
            <p:cNvPr id="112" name=""/>
            <p:cNvSpPr/>
            <p:nvPr/>
          </p:nvSpPr>
          <p:spPr>
            <a:xfrm>
              <a:off x="2743200" y="1447920"/>
              <a:ext cx="6171840" cy="10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8920" y="1447920"/>
              <a:ext cx="6107760" cy="10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4667400"/>
            <a:ext cx="6171840" cy="633240"/>
            <a:chOff x="2743200" y="4667400"/>
            <a:chExt cx="6171840" cy="633240"/>
          </a:xfrm>
        </p:grpSpPr>
        <p:sp>
          <p:nvSpPr>
            <p:cNvPr id="115" name=""/>
            <p:cNvSpPr/>
            <p:nvPr/>
          </p:nvSpPr>
          <p:spPr>
            <a:xfrm>
              <a:off x="2743200" y="4667400"/>
              <a:ext cx="6171840" cy="63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8920" y="4667400"/>
              <a:ext cx="61077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lim I/O – basic accessories as 75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Cit 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0400" y="1066680"/>
            <a:ext cx="4876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, dependencies, ris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62280" y="486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14480" y="49132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27240" y="4913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91328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43200" y="5372280"/>
            <a:ext cx="6171840" cy="720360"/>
            <a:chOff x="2743200" y="5372280"/>
            <a:chExt cx="6171840" cy="720360"/>
          </a:xfrm>
        </p:grpSpPr>
        <p:sp>
          <p:nvSpPr>
            <p:cNvPr id="123" name=""/>
            <p:cNvSpPr/>
            <p:nvPr/>
          </p:nvSpPr>
          <p:spPr>
            <a:xfrm>
              <a:off x="2743200" y="5372280"/>
              <a:ext cx="6171840" cy="72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88920" y="5372280"/>
              <a:ext cx="6107760" cy="7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 simple Java games: Sea Battle &amp; Marble cro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lyphonic ringtones (1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743200" y="3727440"/>
            <a:ext cx="6171840" cy="863280"/>
            <a:chOff x="2743200" y="3727440"/>
            <a:chExt cx="6171840" cy="863280"/>
          </a:xfrm>
        </p:grpSpPr>
        <p:sp>
          <p:nvSpPr>
            <p:cNvPr id="126" name=""/>
            <p:cNvSpPr/>
            <p:nvPr/>
          </p:nvSpPr>
          <p:spPr>
            <a:xfrm>
              <a:off x="2743200" y="3727440"/>
              <a:ext cx="6171840" cy="86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88920" y="3727440"/>
              <a:ext cx="610776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utstanding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x130 TFT display 65k 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85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ic feature set / EGold lite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05840" y="1446120"/>
            <a:ext cx="595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0 10.12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0 23.12.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1 28.01.05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 week later than planned @ M0; no effect on DS/market availabi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S 24.10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3/market availability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0k 25.11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76400" y="137160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8200" y="1565280"/>
            <a:ext cx="26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Webdings"/>
                <a:ea typeface="Webdings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2565360"/>
            <a:ext cx="6171840" cy="1079280"/>
            <a:chOff x="2743200" y="2565360"/>
            <a:chExt cx="6171840" cy="1079280"/>
          </a:xfrm>
        </p:grpSpPr>
        <p:sp>
          <p:nvSpPr>
            <p:cNvPr id="132" name=""/>
            <p:cNvSpPr/>
            <p:nvPr/>
          </p:nvSpPr>
          <p:spPr>
            <a:xfrm>
              <a:off x="2743200" y="2565360"/>
              <a:ext cx="6171840" cy="107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88920" y="2565360"/>
              <a:ext cx="6107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11240" y="2587680"/>
            <a:ext cx="2899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‘95 units over life cycle (all variant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fit EUR 39‘2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14% of T/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K: EUR 58,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P: EUR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3720" y="54435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16280" y="549288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8680" y="549288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1440" y="5492880"/>
            <a:ext cx="12888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0053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7480" y="4054320"/>
            <a:ext cx="128520" cy="1256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00240" y="405432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13000" y="405432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06520" y="1052640"/>
            <a:ext cx="863748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.) Release budget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as M1 will not be declared before CW04/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tooling sets for upper/lower case due to 3 different manufacturing sites – would not be different if quantities reduced to 1.4 mio un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lines of upper/lower case to be taken over from previous projects &amp; to be adapted for Flami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2560" y="427680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5180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0360" y="4330800"/>
            <a:ext cx="274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Release budg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9680" y="5229360"/>
            <a:ext cx="367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Do not release budget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mchbk406</cp:lastModifiedBy>
  <dcterms:modified xsi:type="dcterms:W3CDTF">2005-01-19T07:24:09Z</dcterms:modified>
  <cp:revision>50</cp:revision>
  <dc:subject/>
  <dc:title>Product Status Review (PSR) Conce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8822735</vt:r8>
  </property>
  <property fmtid="{D5CDD505-2E9C-101B-9397-08002B2CF9AE}" pid="3" name="_AuthorEmail">
    <vt:lpwstr>oliver.girke@siemens.com</vt:lpwstr>
  </property>
  <property fmtid="{D5CDD505-2E9C-101B-9397-08002B2CF9AE}" pid="4" name="_AuthorEmailDisplayName">
    <vt:lpwstr>Girke Oliver Com MD PBM PG85</vt:lpwstr>
  </property>
  <property fmtid="{D5CDD505-2E9C-101B-9397-08002B2CF9AE}" pid="5" name="_EmailSubject">
    <vt:lpwstr>PSR presentation X85 flamingo for 19.01.05</vt:lpwstr>
  </property>
  <property fmtid="{D5CDD505-2E9C-101B-9397-08002B2CF9AE}" pid="6" name="_ReviewingToolsShownOnce">
    <vt:lpwstr/>
  </property>
</Properties>
</file>