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6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7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8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24EE-456E-4BB7-B078-6D3D0DFE401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32" idx="0"/>
            <a:endCxn id="632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4" name=""/>
          <p:cNvCxnSpPr>
            <a:stCxn id="632" idx="2"/>
            <a:endCxn id="632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6200" y="4533840"/>
            <a:ext cx="1941480" cy="18828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12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7" idx="0"/>
            <a:endCxn id="637" idx="1"/>
          </p:cNvCxnSpPr>
          <p:nvPr/>
        </p:nvCxnSpPr>
        <p:spPr>
          <a:xfrm>
            <a:off x="649080" y="452232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9" name=""/>
          <p:cNvCxnSpPr>
            <a:stCxn id="637" idx="2"/>
            <a:endCxn id="637" idx="3"/>
          </p:cNvCxnSpPr>
          <p:nvPr/>
        </p:nvCxnSpPr>
        <p:spPr>
          <a:xfrm>
            <a:off x="649080" y="4709880"/>
            <a:ext cx="19040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AAF4-DA39-4430-ADBA-B41DC59BF3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E55-38E4-4CB2-8E5F-092646C7ED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46080" y="7650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25560" y="4668840"/>
            <a:ext cx="4937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Swif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May 04,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laceHolder 3"/>
            <p:cNvSpPr>
              <a:spLocks noGrp="1"/>
            </p:cNvSpPr>
            <p:nvPr>
              <p:ph type="ftr" idx="2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484360" y="646128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7D28A22B-E334-408C-BC77-062B7A7A14DE}" type="datetime"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28.07.26</a:t>
            </a:fld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90C0B36D-1F5B-43CC-9D69-0B93C40FEE6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2280" y="6461280"/>
            <a:ext cx="1270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 PBM PG85 BA, T. Keller, Apr 19th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Polari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5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084127E5-BAF9-479D-AAA8-957711031C8A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75A98F27-0E8E-49FF-8530-CEA33B1BF8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stk32042eng&amp;s=ImageDetailSearchState%7C3%7C5%7C0%7C15%7C2%7C1%7C0%7C0%7C1%7C38%7C60%7C2ed3.d7c5.03ff.e000.002f.76f0%7C16%7C0%7C(%22Adolescence%3AConcepts%22+and+%22Group+Of+People%3APeople%22)+or+(%22Friendship%3AConcepts%22+and+%22Group+Of+People%3APeople%22)+or+(%22Adolescence%3AConcepts%22+and+%22Organized+Group%3AMan+Made%22)+or+(%22Peeking%3ALooking%22+and+%22Group+Of+People%3APeople%22)+or+(%22Friendship%3AConcepts%22+and+%22Organized+Group%3AMan+Made%22)%7C%7C1%7C0&amp;pk=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creative.gettyimages.com/source/search/ImageEnlarge.aspx?MasterID=200153221-006&amp;s=ImageDetailSearchState%7C3%7C1%7C0%7C15%7C2%7C1%7C0%7C0%7C1%7C23%7C60%7C2ed3.d7c5.03ff.e000.002f.76b0.00e0%7C20%7C0%7C(%22Fashion%3ATopics%22+and+%22Fashion%22)+or+(%22Elegance%3AConcepts%22+and+%22Fashion%22)%7C%7C1%7C0&amp;pk=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creative.gettyimages.com/source/search/ImageEnlarge.aspx?MasterID=ec1544-002&amp;s=ImageDetailSearchState%7C3%7C1%7C0%7C15%7C2%7C1%7C0%7C0%7C1%7C2%7C60%7C2ed3.d7c5.03ff.e000.002f.76b0.00e0%7C16%7C0%7C%22People%22+and+%22shopping+bags%22%7C%7C1%7C0&amp;pk=6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99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.gettyimages.com/source/search/ImageEnlarge.aspx?MasterID=dv1292019&amp;s=ImageDetailSearchState%7C3%7C5%7C0%7C15%7C2%7C1%7C0%7C0%7C1%7C42%7C60%7C2ed3.d7c5.03ff.e000.002f.76b0.00e0%7C18%7C0%7C%22People%22+or+%22Fashion%22+and+%22handbags%22%7C%7C1%7C0&amp;pk=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23640" y="562428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       A. Hauenstei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M BA  D. Stäh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23640" y="32846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wift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m&amp;Brillia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Status Report,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5,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: 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87280" y="1339920"/>
          <a:ext cx="6553080" cy="4881600"/>
        </p:xfrm>
        <a:graphic>
          <a:graphicData uri="http://schemas.openxmlformats.org/drawingml/2006/table">
            <a:tbl>
              <a:tblPr/>
              <a:tblGrid>
                <a:gridCol w="1150920"/>
                <a:gridCol w="2900520"/>
                <a:gridCol w="554040"/>
                <a:gridCol w="938160"/>
                <a:gridCol w="1009440"/>
              </a:tblGrid>
              <a:tr h="1677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-Gate Ax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Description of Measu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olidated and regular update of power management progress for the platform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y 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) Evaluation of alternative accessory concept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) CR for SW solution in phone has to be confirmed and implem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reduction Worksh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 check volumes/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u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Marketing spendin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arate platform cost from R&amp;D c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äh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-negotiation of BOM with suppliers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negotiation succes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nz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it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ublecheck conversion costs and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 spl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gn SW milestones with 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antenna performance at B1, B1+, 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resources for RDP (e.g. keypa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il, 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ck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sh forward HW timeline and align with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timeline as soon as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 planning with detailed plan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d Ju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henleit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ckup: Timeline impact for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18960" y="1125360"/>
            <a:ext cx="941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ase 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424440" y="2165400"/>
            <a:ext cx="384840" cy="762120"/>
            <a:chOff x="424440" y="2165400"/>
            <a:chExt cx="384840" cy="762120"/>
          </a:xfrm>
        </p:grpSpPr>
        <p:sp>
          <p:nvSpPr>
            <p:cNvPr id="554" name=""/>
            <p:cNvSpPr/>
            <p:nvPr/>
          </p:nvSpPr>
          <p:spPr>
            <a:xfrm>
              <a:off x="426960" y="256716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444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794520" y="2165400"/>
            <a:ext cx="511200" cy="762120"/>
            <a:chOff x="794520" y="2165400"/>
            <a:chExt cx="511200" cy="762120"/>
          </a:xfrm>
        </p:grpSpPr>
        <p:sp>
          <p:nvSpPr>
            <p:cNvPr id="557" name=""/>
            <p:cNvSpPr/>
            <p:nvPr/>
          </p:nvSpPr>
          <p:spPr>
            <a:xfrm>
              <a:off x="860400" y="2567160"/>
              <a:ext cx="36000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4520" y="2165400"/>
              <a:ext cx="51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0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04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719720" y="2165400"/>
            <a:ext cx="384840" cy="762120"/>
            <a:chOff x="1719720" y="2165400"/>
            <a:chExt cx="384840" cy="762120"/>
          </a:xfrm>
        </p:grpSpPr>
        <p:sp>
          <p:nvSpPr>
            <p:cNvPr id="560" name=""/>
            <p:cNvSpPr/>
            <p:nvPr/>
          </p:nvSpPr>
          <p:spPr>
            <a:xfrm>
              <a:off x="1722600" y="2567160"/>
              <a:ext cx="36000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9720" y="216540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1 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5/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29520" y="5157720"/>
            <a:ext cx="1526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wi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estimated stat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00240" y="3286080"/>
            <a:ext cx="360360" cy="784080"/>
            <a:chOff x="2100240" y="3286080"/>
            <a:chExt cx="360360" cy="784080"/>
          </a:xfrm>
        </p:grpSpPr>
        <p:sp>
          <p:nvSpPr>
            <p:cNvPr id="564" name=""/>
            <p:cNvSpPr/>
            <p:nvPr/>
          </p:nvSpPr>
          <p:spPr>
            <a:xfrm>
              <a:off x="2100240" y="3709800"/>
              <a:ext cx="360360" cy="360360"/>
            </a:xfrm>
            <a:prstGeom prst="diamond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90680" y="32860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763800" y="3311640"/>
            <a:ext cx="360360" cy="784080"/>
            <a:chOff x="3763800" y="3311640"/>
            <a:chExt cx="360360" cy="784080"/>
          </a:xfrm>
        </p:grpSpPr>
        <p:sp>
          <p:nvSpPr>
            <p:cNvPr id="567" name=""/>
            <p:cNvSpPr/>
            <p:nvPr/>
          </p:nvSpPr>
          <p:spPr>
            <a:xfrm>
              <a:off x="3763800" y="3735360"/>
              <a:ext cx="360360" cy="360360"/>
            </a:xfrm>
            <a:prstGeom prst="diamond">
              <a:avLst/>
            </a:prstGeom>
            <a:solidFill>
              <a:srgbClr val="d460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54240" y="3311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9" name=""/>
          <p:cNvCxnSpPr>
            <a:stCxn id="554" idx="2"/>
            <a:endCxn id="564" idx="1"/>
          </p:cNvCxnSpPr>
          <p:nvPr/>
        </p:nvCxnSpPr>
        <p:spPr>
          <a:xfrm flipH="1" rot="16200000">
            <a:off x="871560" y="2662920"/>
            <a:ext cx="964080" cy="14929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0" idx="2"/>
            <a:endCxn id="567" idx="0"/>
          </p:cNvCxnSpPr>
          <p:nvPr/>
        </p:nvCxnSpPr>
        <p:spPr>
          <a:xfrm flipH="1" rot="16200000">
            <a:off x="2519280" y="2310480"/>
            <a:ext cx="808560" cy="2042280"/>
          </a:xfrm>
          <a:prstGeom prst="bentConnector3">
            <a:avLst>
              <a:gd name="adj1" fmla="val 49888"/>
            </a:avLst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1" name=""/>
          <p:cNvGrpSpPr/>
          <p:nvPr/>
        </p:nvGrpSpPr>
        <p:grpSpPr>
          <a:xfrm>
            <a:off x="2548080" y="3281400"/>
            <a:ext cx="360360" cy="784080"/>
            <a:chOff x="2548080" y="3281400"/>
            <a:chExt cx="360360" cy="784080"/>
          </a:xfrm>
        </p:grpSpPr>
        <p:sp>
          <p:nvSpPr>
            <p:cNvPr id="572" name=""/>
            <p:cNvSpPr/>
            <p:nvPr/>
          </p:nvSpPr>
          <p:spPr>
            <a:xfrm>
              <a:off x="2548080" y="3705120"/>
              <a:ext cx="360360" cy="360360"/>
            </a:xfrm>
            <a:prstGeom prst="diamond">
              <a:avLst/>
            </a:prstGeom>
            <a:solidFill>
              <a:srgbClr val="87b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36720" y="328140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978200" y="4276800"/>
            <a:ext cx="40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32400" y="4276800"/>
            <a:ext cx="645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1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 08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424240" y="4276800"/>
            <a:ext cx="635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0 =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06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35320" y="5621400"/>
            <a:ext cx="8430480" cy="615960"/>
            <a:chOff x="535320" y="5621400"/>
            <a:chExt cx="8430480" cy="615960"/>
          </a:xfrm>
        </p:grpSpPr>
        <p:sp>
          <p:nvSpPr>
            <p:cNvPr id="578" name=""/>
            <p:cNvSpPr/>
            <p:nvPr/>
          </p:nvSpPr>
          <p:spPr>
            <a:xfrm>
              <a:off x="614160" y="5734080"/>
              <a:ext cx="82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35320" y="5621400"/>
              <a:ext cx="529560" cy="615960"/>
              <a:chOff x="535320" y="5621400"/>
              <a:chExt cx="529560" cy="615960"/>
            </a:xfrm>
          </p:grpSpPr>
          <p:sp>
            <p:nvSpPr>
              <p:cNvPr id="580" name=""/>
              <p:cNvSpPr/>
              <p:nvPr/>
            </p:nvSpPr>
            <p:spPr>
              <a:xfrm>
                <a:off x="535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62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1189440" y="5621400"/>
              <a:ext cx="529560" cy="615960"/>
              <a:chOff x="1189440" y="5621400"/>
              <a:chExt cx="529560" cy="6159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894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4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6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845000" y="5621400"/>
              <a:ext cx="529560" cy="615960"/>
              <a:chOff x="1845000" y="5621400"/>
              <a:chExt cx="529560" cy="615960"/>
            </a:xfrm>
          </p:grpSpPr>
          <p:sp>
            <p:nvSpPr>
              <p:cNvPr id="586" name=""/>
              <p:cNvSpPr/>
              <p:nvPr/>
            </p:nvSpPr>
            <p:spPr>
              <a:xfrm>
                <a:off x="18450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5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7208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499120" y="5621400"/>
              <a:ext cx="529560" cy="615960"/>
              <a:chOff x="2499120" y="5621400"/>
              <a:chExt cx="529560" cy="615960"/>
            </a:xfrm>
          </p:grpSpPr>
          <p:sp>
            <p:nvSpPr>
              <p:cNvPr id="589" name=""/>
              <p:cNvSpPr/>
              <p:nvPr/>
            </p:nvSpPr>
            <p:spPr>
              <a:xfrm>
                <a:off x="24991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6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26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157560" y="5621400"/>
              <a:ext cx="544320" cy="579600"/>
              <a:chOff x="3157560" y="5621400"/>
              <a:chExt cx="544320" cy="579600"/>
            </a:xfrm>
          </p:grpSpPr>
          <p:sp>
            <p:nvSpPr>
              <p:cNvPr id="592" name=""/>
              <p:cNvSpPr/>
              <p:nvPr/>
            </p:nvSpPr>
            <p:spPr>
              <a:xfrm>
                <a:off x="3157560" y="6018120"/>
                <a:ext cx="54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7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81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3829320" y="5621400"/>
              <a:ext cx="529560" cy="615960"/>
              <a:chOff x="3829320" y="5621400"/>
              <a:chExt cx="529560" cy="615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82932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8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564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484880" y="5621400"/>
              <a:ext cx="529560" cy="615960"/>
              <a:chOff x="4484880" y="5621400"/>
              <a:chExt cx="529560" cy="6159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848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9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5140800" y="5621400"/>
              <a:ext cx="529560" cy="615960"/>
              <a:chOff x="5140800" y="5621400"/>
              <a:chExt cx="529560" cy="615960"/>
            </a:xfrm>
          </p:grpSpPr>
          <p:sp>
            <p:nvSpPr>
              <p:cNvPr id="601" name=""/>
              <p:cNvSpPr/>
              <p:nvPr/>
            </p:nvSpPr>
            <p:spPr>
              <a:xfrm>
                <a:off x="514080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0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671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794560" y="5621400"/>
              <a:ext cx="529560" cy="615960"/>
              <a:chOff x="5794560" y="5621400"/>
              <a:chExt cx="529560" cy="6159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9456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1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92164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6450480" y="5621400"/>
              <a:ext cx="529560" cy="615960"/>
              <a:chOff x="6450480" y="5621400"/>
              <a:chExt cx="529560" cy="615960"/>
            </a:xfrm>
          </p:grpSpPr>
          <p:sp>
            <p:nvSpPr>
              <p:cNvPr id="607" name=""/>
              <p:cNvSpPr/>
              <p:nvPr/>
            </p:nvSpPr>
            <p:spPr>
              <a:xfrm>
                <a:off x="64504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12/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7720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7107120" y="5621400"/>
              <a:ext cx="544680" cy="579600"/>
              <a:chOff x="7107120" y="5621400"/>
              <a:chExt cx="544680" cy="579600"/>
            </a:xfrm>
          </p:grpSpPr>
          <p:sp>
            <p:nvSpPr>
              <p:cNvPr id="610" name=""/>
              <p:cNvSpPr/>
              <p:nvPr/>
            </p:nvSpPr>
            <p:spPr>
              <a:xfrm>
                <a:off x="7107120" y="6018120"/>
                <a:ext cx="54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1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31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7780680" y="5621400"/>
              <a:ext cx="529560" cy="615960"/>
              <a:chOff x="7780680" y="5621400"/>
              <a:chExt cx="529560" cy="615960"/>
            </a:xfrm>
          </p:grpSpPr>
          <p:sp>
            <p:nvSpPr>
              <p:cNvPr id="613" name=""/>
              <p:cNvSpPr/>
              <p:nvPr/>
            </p:nvSpPr>
            <p:spPr>
              <a:xfrm>
                <a:off x="778068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2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0776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8436240" y="5621400"/>
              <a:ext cx="529560" cy="615960"/>
              <a:chOff x="8436240" y="5621400"/>
              <a:chExt cx="529560" cy="615960"/>
            </a:xfrm>
          </p:grpSpPr>
          <p:sp>
            <p:nvSpPr>
              <p:cNvPr id="616" name=""/>
              <p:cNvSpPr/>
              <p:nvPr/>
            </p:nvSpPr>
            <p:spPr>
              <a:xfrm>
                <a:off x="8436240" y="6054480"/>
                <a:ext cx="52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 03/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563320" y="5621400"/>
                <a:ext cx="0" cy="26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8058600" y="2185920"/>
            <a:ext cx="384840" cy="762120"/>
            <a:chOff x="8058600" y="2185920"/>
            <a:chExt cx="384840" cy="762120"/>
          </a:xfrm>
        </p:grpSpPr>
        <p:sp>
          <p:nvSpPr>
            <p:cNvPr id="619" name=""/>
            <p:cNvSpPr/>
            <p:nvPr/>
          </p:nvSpPr>
          <p:spPr>
            <a:xfrm>
              <a:off x="8059680" y="25876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8600" y="2185920"/>
              <a:ext cx="384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/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8066160" y="3305160"/>
            <a:ext cx="360360" cy="784080"/>
            <a:chOff x="8066160" y="3305160"/>
            <a:chExt cx="360360" cy="784080"/>
          </a:xfrm>
        </p:grpSpPr>
        <p:sp>
          <p:nvSpPr>
            <p:cNvPr id="622" name=""/>
            <p:cNvSpPr/>
            <p:nvPr/>
          </p:nvSpPr>
          <p:spPr>
            <a:xfrm>
              <a:off x="8066160" y="3728880"/>
              <a:ext cx="360360" cy="360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54800" y="3305160"/>
              <a:ext cx="18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998120" y="4248000"/>
            <a:ext cx="56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S =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57" idx="2"/>
            <a:endCxn id="572" idx="0"/>
          </p:cNvCxnSpPr>
          <p:nvPr/>
        </p:nvCxnSpPr>
        <p:spPr>
          <a:xfrm flipH="1" rot="16200000">
            <a:off x="1495440" y="2472480"/>
            <a:ext cx="778320" cy="16880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2"/>
            <a:endCxn id="622" idx="0"/>
          </p:cNvCxnSpPr>
          <p:nvPr/>
        </p:nvCxnSpPr>
        <p:spPr>
          <a:xfrm flipH="1" rot="16200000">
            <a:off x="7853400" y="3334680"/>
            <a:ext cx="781560" cy="7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7" name=""/>
          <p:cNvSpPr/>
          <p:nvPr/>
        </p:nvSpPr>
        <p:spPr>
          <a:xfrm>
            <a:off x="8172360" y="30639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4192920" y="-213768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 rot="16200000">
            <a:off x="4161240" y="885960"/>
            <a:ext cx="382680" cy="7915320"/>
          </a:xfrm>
          <a:custGeom>
            <a:avLst/>
            <a:gdLst>
              <a:gd name="textAreaLeft" fmla="*/ 244440 w 382680"/>
              <a:gd name="textAreaRight" fmla="*/ 383040 w 382680"/>
              <a:gd name="textAreaTop" fmla="*/ 206280 h 7915320"/>
              <a:gd name="textAreaBottom" fmla="*/ 7709040 h 791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43"/>
                </a:lnTo>
                <a:cubicBezTo>
                  <a:pt x="10800" y="9843"/>
                  <a:pt x="5400" y="10743"/>
                  <a:pt x="0" y="10743"/>
                </a:cubicBezTo>
                <a:cubicBezTo>
                  <a:pt x="5400" y="10743"/>
                  <a:pt x="10800" y="11643"/>
                  <a:pt x="10800" y="125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350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3044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7512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72280" y="1847880"/>
            <a:ext cx="17287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Area for</a:t>
            </a:r>
            <a:br>
              <a:rPr sz="1500"/>
            </a:br>
            <a:r>
              <a:rPr b="1" i="1" lang="en-GB" sz="1500" spc="-1" strike="noStrike">
                <a:solidFill>
                  <a:srgbClr val="afc2c8"/>
                </a:solidFill>
                <a:latin typeface="Arial"/>
              </a:rPr>
              <a:t> Moodboard pictur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22480" y="4402440"/>
            <a:ext cx="690084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lim slider with real metal finish (slimness: 16.3 mm; brushed aluminium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ery bright QVGA Display for optimal indoor &amp; outdoor readability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1.3 megapixel camera with improved LED flash; video play &amp; recording, 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treaming and progressive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>
            <a:hlinkClick r:id="rId1"/>
          </p:cNvPr>
          <p:cNvPicPr/>
          <p:nvPr/>
        </p:nvPicPr>
        <p:blipFill>
          <a:blip r:embed="rId2"/>
          <a:srcRect l="30966" t="0" r="0" b="0"/>
          <a:stretch/>
        </p:blipFill>
        <p:spPr>
          <a:xfrm>
            <a:off x="157320" y="1197000"/>
            <a:ext cx="1890720" cy="2376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>
            <a:hlinkClick r:id="rId3"/>
          </p:cNvPr>
          <p:cNvPicPr/>
          <p:nvPr/>
        </p:nvPicPr>
        <p:blipFill>
          <a:blip r:embed="rId4"/>
          <a:srcRect l="7989" t="0" r="0" b="22343"/>
          <a:stretch/>
        </p:blipFill>
        <p:spPr>
          <a:xfrm>
            <a:off x="4746600" y="1189080"/>
            <a:ext cx="1984320" cy="2384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>
            <a:hlinkClick r:id="rId5"/>
          </p:cNvPr>
          <p:cNvPicPr/>
          <p:nvPr/>
        </p:nvPicPr>
        <p:blipFill>
          <a:blip r:embed="rId6"/>
          <a:srcRect l="0" t="0" r="0" b="10356"/>
          <a:stretch/>
        </p:blipFill>
        <p:spPr>
          <a:xfrm>
            <a:off x="2373480" y="1182600"/>
            <a:ext cx="2016000" cy="23907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7"/>
          </p:cNvPr>
          <p:cNvPicPr/>
          <p:nvPr/>
        </p:nvPicPr>
        <p:blipFill>
          <a:blip r:embed="rId8"/>
          <a:srcRect l="0" t="10771" r="0" b="5538"/>
          <a:stretch/>
        </p:blipFill>
        <p:spPr>
          <a:xfrm>
            <a:off x="7091280" y="1189080"/>
            <a:ext cx="1890720" cy="237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6680" y="1947960"/>
            <a:ext cx="3270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 value slider design with metal finish (brushed aluminium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mi-automatic slider mechanis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im (16,3 mm) and compa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ighly ergonomic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5120" y="4602240"/>
            <a:ext cx="302292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mmunity services (e.g. blogging, my photos onli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installed video/audio clips,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ideo ring 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synchronisation &amp; vis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0320" y="4583160"/>
            <a:ext cx="302076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Stereo)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T head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nge of Car Kit Bluetooth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avel Charger, 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sic c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200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2560" y="406404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05640" y="381780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91240" y="1852560"/>
            <a:ext cx="33861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band (900/1800/190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VGA display, 2.0 inches, 262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PRS/ED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3 megapixel camera, L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ideo play, record, stream, down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P3, AAC, AAC+, AAC+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fied presence enhanced phone book, IMPS, P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56560" y="40640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1"/>
          </p:cNvPr>
          <p:cNvPicPr/>
          <p:nvPr/>
        </p:nvPicPr>
        <p:blipFill>
          <a:blip r:embed="rId2"/>
          <a:srcRect l="7989" t="0" r="0" b="42701"/>
          <a:stretch/>
        </p:blipFill>
        <p:spPr>
          <a:xfrm>
            <a:off x="3616200" y="1154160"/>
            <a:ext cx="1855800" cy="16444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rcRect l="9050" t="9587" r="0" b="34643"/>
          <a:stretch/>
        </p:blipFill>
        <p:spPr>
          <a:xfrm>
            <a:off x="3616200" y="4746600"/>
            <a:ext cx="1932120" cy="1487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/>
          <a:srcRect l="0" t="26635" r="0" b="0"/>
          <a:stretch/>
        </p:blipFill>
        <p:spPr>
          <a:xfrm>
            <a:off x="3637080" y="2873520"/>
            <a:ext cx="1895400" cy="176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472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360" y="4508640"/>
            <a:ext cx="5289480" cy="1630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9,31€ ASP, 100€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s readjusted to 2,5’ units (before 3,3’ units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erefore no volume risk is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feedback from APMs. Confidence Level is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08360" y="3213000"/>
            <a:ext cx="5289480" cy="11156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eb26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2611"/>
                </a:solidFill>
                <a:latin typeface="Arial"/>
              </a:rPr>
              <a:t>- 19’2€ (- 5,9%, current) vs. +24’5€ (+7,5%, 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dence in correctness of figures, no confidence for reaching target 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1074600"/>
            <a:ext cx="5289480" cy="20566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 product of the key product family in mid-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ation of talk/standby time with other use cases may result in lower and potentially problematic levels of battery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accessories are highly endangered due to side position of I/O connector; BT-stereo HS is endangered due to missing Gimmick c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able Market: 64’93 units, 3,9% market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wif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55880" y="3909960"/>
            <a:ext cx="5241960" cy="14119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S planned for March 06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ighly endangered (risk up to 3 months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e to typical cycle time of 12 month and missing SW planning (SW - M0 in June 0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5880" y="5445000"/>
            <a:ext cx="5241960" cy="12193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Estimation Workshop not yet done due to overall SW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mavera Plan risk due to open input on SW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55880" y="1292400"/>
            <a:ext cx="5241960" cy="22942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W Milestones are not aligne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refore also the ST planning is o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tenna performance in closed condition (900 MHz) does not meet FBT requirements (-1,5d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ssing experience with Glued 12er keypad: problems are expecte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production, lifetime an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’s only a single source for batt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503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6080" y="3367080"/>
            <a:ext cx="1447920" cy="782640"/>
          </a:xfrm>
          <a:custGeom>
            <a:avLst/>
            <a:gdLst/>
            <a:ahLst/>
            <a:rect l="l" t="t" r="r" b="b"/>
            <a:pathLst>
              <a:path w="912" h="493">
                <a:moveTo>
                  <a:pt x="369" y="492"/>
                </a:moveTo>
                <a:lnTo>
                  <a:pt x="724" y="493"/>
                </a:lnTo>
                <a:lnTo>
                  <a:pt x="912" y="0"/>
                </a:lnTo>
                <a:lnTo>
                  <a:pt x="369" y="156"/>
                </a:lnTo>
                <a:lnTo>
                  <a:pt x="0" y="78"/>
                </a:lnTo>
                <a:lnTo>
                  <a:pt x="162" y="419"/>
                </a:lnTo>
                <a:lnTo>
                  <a:pt x="369" y="492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7720" y="6016680"/>
            <a:ext cx="190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Apr 8, 2005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B. Pfei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85840"/>
            <a:ext cx="7539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ft - 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19’2 EUR or -5,9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280" y="1015920"/>
          <a:ext cx="340380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15920"/>
                    <a:ext cx="340380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0840" y="6721560"/>
            <a:ext cx="707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oM figures w/o variant adder (2% of BOM), but VA included in HK posi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1103400"/>
            <a:ext cx="5324400" cy="7128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70200" y="1879560"/>
            <a:ext cx="5299200" cy="45626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90000"/>
              </a:lnSpc>
              <a:spcBef>
                <a:spcPts val="28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no M-Alpha milest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Volumes cover the regions EMEA, LAM, APA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aunch price at EUR 155,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hase out price EUR 100,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eturn Rate: 10,08%; Cost per Return: 42,95 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R&amp;D: Direct R&amp;D costs of 12,5m EUR, plus ‘direct platform costs‘ of 10,8m EUR considered (1/6 of X75/85G SG2 Rel.1 and 1/7 of SG2 Rel.2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Marcom: push 5€ per unit. This  considers Swift as lead product of the C class until final budget decision. If Swift than won‘t longer be the lead product, reduction of push budget by 2€ per unit = savings of 5‘0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宋体"/>
              </a:rPr>
              <a:t>EBIT of -19,2m EUR or -5,9% of turnov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Product: Sw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440" y="120636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73520" y="1181160"/>
          <a:ext cx="4254480" cy="456516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30168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’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9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9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351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3’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3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7840" y="1181160"/>
          <a:ext cx="4330800" cy="456228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’5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0" name=""/>
          <p:cNvSpPr/>
          <p:nvPr/>
        </p:nvSpPr>
        <p:spPr>
          <a:xfrm>
            <a:off x="243000" y="5803920"/>
            <a:ext cx="1417680" cy="6206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4280" y="5803920"/>
            <a:ext cx="7173720" cy="61272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egative EBIT: € -19‘166 = -5,9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heck all cost positions, Revise NES befor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Swift shows a Profit of -19,2m EUR (-5,9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1440" y="1138320"/>
            <a:ext cx="8601120" cy="51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69800" y="1371600"/>
          <a:ext cx="82044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371600"/>
                    <a:ext cx="82044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w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440" y="1405080"/>
            <a:ext cx="790992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 M0 declaration (all departments except PD SW and depen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working on S0 and M1 work pac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review (incl. Q-Gate) as soon as full M0 maturity rea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y measures as on separate chart (see: back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impact of SW M0 delay: worst case up to 3 months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d product for mid-end product family (Swift, Ibis, Hummingbird) would be missing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fore dropping more than 6 mill. units volu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ss of 96.3 mill€ sales margin for Swift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638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97360" y="561168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542124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16360" y="5527800"/>
            <a:ext cx="294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Alfred Hauenstein</cp:lastModifiedBy>
  <dcterms:modified xsi:type="dcterms:W3CDTF">2005-05-03T16:19:02Z</dcterms:modified>
  <cp:revision>93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4994084</vt:r8>
  </property>
  <property fmtid="{D5CDD505-2E9C-101B-9397-08002B2CF9AE}" pid="3" name="_AuthorEmail">
    <vt:lpwstr>alfred.hauenstein@siemens.com</vt:lpwstr>
  </property>
  <property fmtid="{D5CDD505-2E9C-101B-9397-08002B2CF9AE}" pid="4" name="_AuthorEmailDisplayName">
    <vt:lpwstr>Hauenstein Alfred Com MD PBM PG85</vt:lpwstr>
  </property>
  <property fmtid="{D5CDD505-2E9C-101B-9397-08002B2CF9AE}" pid="5" name="_EmailSubject">
    <vt:lpwstr>Swift + 85 Generation overview charts für PSR</vt:lpwstr>
  </property>
</Properties>
</file>