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C6F8-0E08-4821-819C-BD557E7BF2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27A-4BEF-4B6E-8BB6-DDEE0A69290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7" idx="0"/>
            <a:endCxn id="337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39" name=""/>
          <p:cNvCxnSpPr>
            <a:stCxn id="337" idx="2"/>
            <a:endCxn id="337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6EB3-5D1A-450B-B860-A405DBB9F2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92320"/>
            <a:ext cx="548316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6080" y="4484520"/>
            <a:ext cx="1942920" cy="18864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6" idx="1"/>
          </p:cNvCxnSpPr>
          <p:nvPr/>
        </p:nvCxnSpPr>
        <p:spPr>
          <a:xfrm>
            <a:off x="661680" y="4565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348" name=""/>
          <p:cNvCxnSpPr>
            <a:stCxn id="346" idx="2"/>
            <a:endCxn id="346" idx="3"/>
          </p:cNvCxnSpPr>
          <p:nvPr/>
        </p:nvCxnSpPr>
        <p:spPr>
          <a:xfrm>
            <a:off x="661680" y="4754160"/>
            <a:ext cx="194364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CA5B-ED8F-4C51-99B8-0E890FEAAB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41480" y="755640"/>
            <a:ext cx="4844880" cy="3633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2840" y="4619160"/>
            <a:ext cx="5029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7C7C-10EC-481D-95CA-D4F19CDD6E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6840" y="736560"/>
            <a:ext cx="4861080" cy="3645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74760" y="4486320"/>
            <a:ext cx="61005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5E3C-1A9C-44E0-A130-DE96799561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771D-F5AF-43CC-AA6A-BA58C6339FF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© Siemens      SISKI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     PSR on May 4th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4920" y="420660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 MD PLM Emily Zhao,  Carlos Schmidt,  Paul 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kin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“Fashionable snapshot ph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duct Status Report at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19" t="0" r="0" b="0"/>
          <a:stretch/>
        </p:blipFill>
        <p:spPr>
          <a:xfrm>
            <a:off x="162000" y="142920"/>
            <a:ext cx="8816760" cy="2655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21480" y="6308640"/>
            <a:ext cx="134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April 29th,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280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 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M shared memory + T-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176*220, 260K TFT, 2nd display 65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6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40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260K TFD, 240*3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5M shared memory+SD c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 &amp;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2800" y="4525920"/>
            <a:ext cx="1914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4096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88x47x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458784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2nd display 120* 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05*49*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9720" y="317340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464184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             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Siskin Compet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14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18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32800" y="1212840"/>
            <a:ext cx="80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torola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V6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24200" y="1212840"/>
            <a:ext cx="496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5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5400" y="1212840"/>
            <a:ext cx="881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tsubishi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9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Motorola V635&#10;MORE PICTURES"/>
          <p:cNvPicPr/>
          <p:nvPr/>
        </p:nvPicPr>
        <p:blipFill>
          <a:blip r:embed="rId1"/>
          <a:stretch/>
        </p:blipFill>
        <p:spPr>
          <a:xfrm>
            <a:off x="3106800" y="1763640"/>
            <a:ext cx="87768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LG L5100&#10;MORE PICTURES"/>
          <p:cNvPicPr/>
          <p:nvPr/>
        </p:nvPicPr>
        <p:blipFill>
          <a:blip r:embed="rId2"/>
          <a:stretch/>
        </p:blipFill>
        <p:spPr>
          <a:xfrm>
            <a:off x="5457960" y="1830240"/>
            <a:ext cx="860400" cy="968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100480" y="1838160"/>
            <a:ext cx="471600" cy="941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Mitsubishi M430i/M900&#10;MORE PICTURES"/>
          <p:cNvPicPr/>
          <p:nvPr/>
        </p:nvPicPr>
        <p:blipFill>
          <a:blip r:embed="rId4"/>
          <a:stretch/>
        </p:blipFill>
        <p:spPr>
          <a:xfrm>
            <a:off x="7400880" y="17478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12920" y="2998800"/>
            <a:ext cx="2143080" cy="295128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5600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7280" y="2998800"/>
            <a:ext cx="214308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40360" y="2998800"/>
            <a:ext cx="2141640" cy="29512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82800" y="305748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4440" y="3057480"/>
            <a:ext cx="191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ize: 176*220, 2nd display 65K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/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90M shar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P3 &amp; 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3057480"/>
            <a:ext cx="19144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 260K TFT , 176*220, 2nd display O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1.3Mpix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50M shared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64 P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82800" y="4525920"/>
            <a:ext cx="191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Display:128*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hickness: 24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Versus the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1160640"/>
            <a:ext cx="2143080" cy="56196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1160640"/>
            <a:ext cx="21430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99080" y="1160640"/>
            <a:ext cx="214128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0360" y="1160640"/>
            <a:ext cx="2141640" cy="561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9908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2920" y="17226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1160640"/>
            <a:ext cx="0" cy="478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99880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4473720"/>
            <a:ext cx="856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6040" y="3575160"/>
            <a:ext cx="322560" cy="322200"/>
            <a:chOff x="176040" y="3575160"/>
            <a:chExt cx="322560" cy="322200"/>
          </a:xfrm>
        </p:grpSpPr>
        <p:sp>
          <p:nvSpPr>
            <p:cNvPr id="251" name=""/>
            <p:cNvSpPr/>
            <p:nvPr/>
          </p:nvSpPr>
          <p:spPr>
            <a:xfrm>
              <a:off x="176040" y="3575160"/>
              <a:ext cx="322560" cy="322200"/>
            </a:xfrm>
            <a:prstGeom prst="ellipse">
              <a:avLst/>
            </a:prstGeom>
            <a:solidFill>
              <a:srgbClr val="d46028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6600" y="3651120"/>
              <a:ext cx="0" cy="16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360" y="373536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6040" y="5049720"/>
            <a:ext cx="322560" cy="322560"/>
            <a:chOff x="176040" y="5049720"/>
            <a:chExt cx="322560" cy="322560"/>
          </a:xfrm>
        </p:grpSpPr>
        <p:sp>
          <p:nvSpPr>
            <p:cNvPr id="255" name=""/>
            <p:cNvSpPr/>
            <p:nvPr/>
          </p:nvSpPr>
          <p:spPr>
            <a:xfrm>
              <a:off x="176040" y="5049720"/>
              <a:ext cx="322560" cy="322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360" y="5210280"/>
              <a:ext cx="168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117440" y="1212840"/>
            <a:ext cx="73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emens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53600" y="121284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nostrea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74080" y="1212840"/>
            <a:ext cx="801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amsung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E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11400" y="1198440"/>
            <a:ext cx="8236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am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SGH z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27160" y="1770120"/>
            <a:ext cx="71424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3160" y="1770120"/>
            <a:ext cx="714600" cy="11826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9720" y="3173400"/>
            <a:ext cx="1916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260K T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1.3Mpix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Size: 93x46x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9720" y="4641840"/>
            <a:ext cx="19162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size: 128*160, 2nd display 96*64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No M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Samsung E720&#10;MORE PICTURES"/>
          <p:cNvPicPr/>
          <p:nvPr/>
        </p:nvPicPr>
        <p:blipFill>
          <a:blip r:embed="rId1"/>
          <a:stretch/>
        </p:blipFill>
        <p:spPr>
          <a:xfrm>
            <a:off x="5334120" y="1763640"/>
            <a:ext cx="876240" cy="116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Innostream A10"/>
          <p:cNvPicPr/>
          <p:nvPr/>
        </p:nvPicPr>
        <p:blipFill>
          <a:blip r:embed="rId2"/>
          <a:stretch/>
        </p:blipFill>
        <p:spPr>
          <a:xfrm>
            <a:off x="3051000" y="1735200"/>
            <a:ext cx="876600" cy="116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Samsung Z300"/>
          <p:cNvPicPr/>
          <p:nvPr/>
        </p:nvPicPr>
        <p:blipFill>
          <a:blip r:embed="rId3"/>
          <a:stretch/>
        </p:blipFill>
        <p:spPr>
          <a:xfrm>
            <a:off x="7345440" y="1754280"/>
            <a:ext cx="884160" cy="117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093080" y="4653000"/>
            <a:ext cx="172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ize: 89×47×2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65656"/>
                </a:solidFill>
                <a:latin typeface="Arial"/>
              </a:rPr>
              <a:t>Siskin SW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3160" y="1112760"/>
          <a:ext cx="8785080" cy="5219640"/>
        </p:xfrm>
        <a:graphic>
          <a:graphicData uri="http://schemas.openxmlformats.org/drawingml/2006/table">
            <a:tbl>
              <a:tblPr/>
              <a:tblGrid>
                <a:gridCol w="4392360"/>
                <a:gridCol w="4392720"/>
              </a:tblGrid>
              <a:tr h="53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tr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eak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00664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shionable but clear design in a modern form factor (Clam-Shel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 resolution camera phone. (1.3M pi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 end consumer relevant features inclu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profit performance of the product below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uetooth not inclu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  <a:tr h="50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hr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/>
                    </a:solidFill>
                  </a:tcPr>
                </a:tc>
              </a:tr>
              <a:tr h="2170080"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ress market segment which is looking for a fashionable phone at an competitive price (at 115 Euro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pitalizing on the market trend: Clam shells for an affordable and attractiv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becomes quite strong in the Clam Shell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petition with Adonis intern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57120" indent="-171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381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fc2c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3560760"/>
            <a:ext cx="3524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919040" y="2027160"/>
            <a:ext cx="3730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0920" y="4400640"/>
            <a:ext cx="3733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3680" indent="-193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03920" y="4390920"/>
            <a:ext cx="3732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2000" y="6194520"/>
            <a:ext cx="2292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Source: Verena Pannenbaec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Key-parameters / input for the Reverse Calcu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Siemens Sans"/>
                <a:ea typeface="宋体"/>
              </a:rPr>
              <a:t>Product: Sisk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4673520" y="1181160"/>
          <a:ext cx="4254480" cy="4654440"/>
        </p:xfrm>
        <a:graphic>
          <a:graphicData uri="http://schemas.openxmlformats.org/drawingml/2006/table">
            <a:tbl>
              <a:tblPr/>
              <a:tblGrid>
                <a:gridCol w="774720"/>
                <a:gridCol w="2640240"/>
                <a:gridCol w="839520"/>
              </a:tblGrid>
              <a:tr h="25092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direct)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er unit sol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r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 per retur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eturn costs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rowSpan="6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nu-factur-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Manufacturing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onversion Co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Ø B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OM price decrease over life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riant Add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icen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13269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C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rget Cost Ga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15’5 50’3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Cost Gap per Un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e1d3e"/>
                    </a:solidFill>
                  </a:tcPr>
                </a:tc>
                <a:tc>
                  <a:txBody>
                    <a:bodyPr lIns="90000" rIns="36000" tIns="36000" bIns="36000" anchor="ctr">
                      <a:noAutofit/>
                    </a:bodyPr>
                    <a:p>
                      <a:pPr marL="1165320" indent="-1165320"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€ 6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77840" y="1181160"/>
          <a:ext cx="4330800" cy="4650840"/>
        </p:xfrm>
        <a:graphic>
          <a:graphicData uri="http://schemas.openxmlformats.org/drawingml/2006/table">
            <a:tbl>
              <a:tblPr/>
              <a:tblGrid>
                <a:gridCol w="838080"/>
                <a:gridCol w="2565360"/>
                <a:gridCol w="927360"/>
              </a:tblGrid>
              <a:tr h="250560">
                <a:tc rowSpan="3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d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Lif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 t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ni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2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aunch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OL pr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€ </a:t>
                      </a: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 decrease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ver life-cy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29ec8">
                        <a:alpha val="50000"/>
                      </a:srgbClr>
                    </a:solidFill>
                  </a:tcPr>
                </a:tc>
              </a:tr>
              <a:tr h="250560">
                <a:tc rowSpan="2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’9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 Profit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a11d4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22638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ministration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rowSpan="5"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H 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velopment (indirect) in % of Development (direc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40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arketing (indirect)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elling Expense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CM Cost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0" rIns="36000" tIns="3600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ther GOGS in % of T/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c9bc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154080" y="5872320"/>
            <a:ext cx="1519200" cy="47304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0240" y="5896080"/>
            <a:ext cx="7161480" cy="468360"/>
          </a:xfrm>
          <a:prstGeom prst="rect">
            <a:avLst/>
          </a:prstGeom>
          <a:solidFill>
            <a:srgbClr val="afc2c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ve Profit: EUR 0‘4 (0,2% / € 0,01 per un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tential for improvements especially in Service costs, CC and 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4160" y="220680"/>
            <a:ext cx="77817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Business Case</a:t>
            </a:r>
            <a:br>
              <a:rPr sz="2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ctual Business Case of the Siskin shows a Profit of EUR 470k (0,2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1440" y="1131840"/>
            <a:ext cx="8601120" cy="509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51000" y="1249200"/>
          <a:ext cx="8518320" cy="492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249200"/>
                    <a:ext cx="85183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4160" y="129600"/>
            <a:ext cx="778176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skin – Reverse Calculation</a:t>
            </a:r>
            <a:br>
              <a:rPr sz="2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98440" y="1268280"/>
            <a:ext cx="866628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1197000"/>
          <a:ext cx="734364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734364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16720" y="1268280"/>
            <a:ext cx="2448000" cy="5040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20" y="152280"/>
            <a:ext cx="232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s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87b8e5"/>
                </a:solidFill>
                <a:latin typeface="Arial"/>
              </a:rPr>
              <a:t>Direct R&amp;D-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1080" y="1123920"/>
          <a:ext cx="627696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3920"/>
                    <a:ext cx="62769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08000" y="4581360"/>
          <a:ext cx="6362640" cy="169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581360"/>
                    <a:ext cx="636264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588000" y="1392120"/>
            <a:ext cx="248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count: E981-07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 to be declared today (04.05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 planned 21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 planned 02.02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fforts after M3: 0’03 Mio.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GK-Factor of 85 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4/05: 2,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5/06: 1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lat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/3 of X75 / 85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not approved y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te of FC: M0 Plan (15.04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40766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Cost overview until M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19040" y="-37152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Risks and Actions Si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30200" y="1197000"/>
          <a:ext cx="8174160" cy="5224320"/>
        </p:xfrm>
        <a:graphic>
          <a:graphicData uri="http://schemas.openxmlformats.org/drawingml/2006/table">
            <a:tbl>
              <a:tblPr/>
              <a:tblGrid>
                <a:gridCol w="1168560"/>
                <a:gridCol w="2246040"/>
                <a:gridCol w="911520"/>
                <a:gridCol w="500040"/>
                <a:gridCol w="1895400"/>
                <a:gridCol w="919080"/>
                <a:gridCol w="533520"/>
              </a:tblGrid>
              <a:tr h="623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 is about 1.4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test result is the SAR value may be is smaller than adonis SAR 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SA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ou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 between Liftpart and Basepart is small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&lt;0.5mm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ck Volume is small (&lt;1.5c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M to accept the current 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hao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vliery time will affect Liftpart 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ant monitoring of EPSON delivery schedu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grid Kremme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adine Roh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mponent qualifiactio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Application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n Zhu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y time will affect SW development plan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Camera 1,3Meg CMOS Camera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TFT 272K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uang K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PSON 758 Issue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Meg CMOS Camera(Radermacher klaus concerns the development, because 1.3Meg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MOS Camera will involved optical issu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 problem and T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Collecting development experience and knowledge from other proj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g Run She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iftp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C/ES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rform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tinue to put effort for reducing R&amp;D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an Hai Ta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1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M1 Decla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PC Delivery Schedule is not include in schedule (Only qualification schedu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TM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Constant monitoring of project schedule.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Set up the detail plan in PV in order to analyse the sche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Xu Haixi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document is review and agreed by the extended Siskin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3040" y="210996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Emily Zh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8600" y="40766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Li 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39320" y="407664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Oliver 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6040" y="4076640"/>
            <a:ext cx="115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Mike C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74960" y="213372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Paul X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6960" y="2133720"/>
            <a:ext cx="159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ned, Carlos Schmi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09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886200"/>
            <a:ext cx="5289480" cy="2953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 95€ , launch price 115€, 80€ EOL: No pric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’12 units, 36% total volume risks (based on 115€ launch)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, EE no major risk, Americas 61%, AIP 100% !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na 64%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 6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too-thick mock-up was used in the design acceptance test (medium ranking); Dr. Lepold is reported to have accepted the right 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Very negative feedback on design (loop antenna), positive feedback 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ing customer requirements: Bluetooth, EDGE, flash, orange- &amp; i-mode-custo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28132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t +0’4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+0.2%, current) vs. +15’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€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 (+7.5%, target</a:t>
            </a:r>
            <a:r>
              <a:rPr b="1" lang="en-GB" sz="1400" spc="-1" strike="noStrike">
                <a:solidFill>
                  <a:srgbClr val="d46028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based on 115€ launch, 2’12 units) --&gt; profit deviation: -9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confidence in current BC for M0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ncrease is crucial for BC improvement, reduction of the manufacturing cost is main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692280"/>
            <a:ext cx="5289480" cy="15861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fit to story 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&amp; high portfolio impact, as Siskin is the only C-Class image clamshell in 06 (Baya &amp; Macaw cancell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addressable market of Siskin is still a mainstream market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7’2 units, market share: 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Sisk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5880" y="3645000"/>
            <a:ext cx="5241960" cy="2088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TTM confidence due to 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e availability of software driver which is needed for a display and camera upgrad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4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21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5.05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9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.09.0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0 work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8.12.05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no dela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857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6.01.06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(1 workday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5880" y="580536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: 6 overdue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isk management plan not finalised, ye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55880" y="1003320"/>
            <a:ext cx="5241960" cy="25844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Worst-case SAR value does not meet SAG requirements (1.3 vs. 0.8 W/kg over 1g).</a:t>
            </a:r>
            <a:r>
              <a:rPr b="1" lang="en-US" sz="1500" spc="-1" strike="noStrike">
                <a:solidFill>
                  <a:srgbClr val="d46028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Siskin reuses the mechanical &amp; antenna concept of Leopard/Adonis, thus same values are expected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Risk of an increased return rate due to new technology for internal display lens (die cut glass len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One-stop solution, BYD, last audit result for Adonis is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6% for plastic/design part (Class B), 71% for cameras (Class C). However, required is &gt;=80% (A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40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840" y="6016680"/>
            <a:ext cx="3204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29-Ma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G. Blecher,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357720"/>
            <a:ext cx="1514520" cy="1184040"/>
          </a:xfrm>
          <a:custGeom>
            <a:avLst/>
            <a:gdLst/>
            <a:ahLst/>
            <a:rect l="l" t="t" r="r" b="b"/>
            <a:pathLst>
              <a:path w="954" h="746">
                <a:moveTo>
                  <a:pt x="567" y="746"/>
                </a:moveTo>
                <a:lnTo>
                  <a:pt x="954" y="529"/>
                </a:lnTo>
                <a:lnTo>
                  <a:pt x="944" y="95"/>
                </a:lnTo>
                <a:lnTo>
                  <a:pt x="566" y="159"/>
                </a:lnTo>
                <a:lnTo>
                  <a:pt x="0" y="0"/>
                </a:lnTo>
                <a:lnTo>
                  <a:pt x="421" y="418"/>
                </a:lnTo>
                <a:lnTo>
                  <a:pt x="567" y="7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asures, Responsibles and Due 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413000"/>
          <a:ext cx="8642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642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75387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usiness Case</a:t>
            </a:r>
            <a:br>
              <a:rPr sz="24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0,4m EUR or 0,2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1166760"/>
            <a:ext cx="3887640" cy="70812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Analysis /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1200" y="1143000"/>
          <a:ext cx="46483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1143000"/>
                    <a:ext cx="46483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2360" y="1908000"/>
            <a:ext cx="3875040" cy="4513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„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Fast track“ model; w/o M-Alpha/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 reduction by 20% or 558k units over LC due to sales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increased by 31% or 22,5 EUR to 95,2 EUR compared to Roadmap Scenario 2C’. Launch price at EUR 115,- / Phase out price at EUR 80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Actual HK increased by 8,26 EUR per unit compared to Roadmap Scenario 2C‘. New BOM: 59,55 EUR per uni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Cost per Return: EUR 45,02. Return Rate in FY06: 9,2% and in FY07 8,7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ct R&amp;D costs of 2,5m EUR, including  platform costs of 1,2m E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 costs: 7,7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宋体"/>
              </a:rPr>
              <a:t>EBIT of 0,4m EUR or 0,2% of 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6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s in case of red Q-G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920" y="1198440"/>
            <a:ext cx="6710040" cy="42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 marL="874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.) Go ahead with project until M1</a:t>
            </a:r>
            <a:br>
              <a:rPr sz="18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prove M0 status connected with the following conditions / action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rove the BOM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Magnus/ Nadine till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1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lift part (BY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-BOM cost (Infin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version 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mplement measures to secure M0  timeline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Monitor Epson 758 deliver schedu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mplement measures to secure product quality </a:t>
            </a:r>
            <a:r>
              <a:rPr b="1" lang="en-U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Paul, M1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SAR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>
              <a:lnSpc>
                <a:spcPct val="6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Epson 75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874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.) Stop the project: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mpact on overall MD portfolio is :2’2 unites, 213’ Revenue,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o competitive image phone in 2006, due to Baya and Macaw were cance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0560" y="5924520"/>
            <a:ext cx="412560" cy="3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63840" y="592596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3360" y="595944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97360" y="595476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86040" y="556560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440" y="558324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0560" y="5972040"/>
            <a:ext cx="41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81720" y="2930400"/>
            <a:ext cx="128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duct Profile - Siski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shionable snapshot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2276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200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22760" y="2503440"/>
            <a:ext cx="4359240" cy="1663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200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22760" y="4255920"/>
            <a:ext cx="4359240" cy="1636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360" y="2606760"/>
            <a:ext cx="400824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sumer Highligh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ashionable snapshot 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ashionable companion always ready to capture instant snapshots of your favorite moment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ery fashionable Clamshell with 1.3 Mpix camera and 262k TFT display for a competitive pr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5950080"/>
            <a:ext cx="12002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ource: PDM/MM/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65760" y="2585880"/>
            <a:ext cx="403380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gainst Competition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ttractive, fashionable and stylish design in a modern form factor (clamshell). Slim—with the thickness of 21.1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.3 M camera with 262K TFT display and messaging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end consumer relevant basic features inclu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4360" y="4371840"/>
            <a:ext cx="40082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perator Benefi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ashionable clamshell attracts a bi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grated 1.3 Mpix camera and MMS for additional AR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ava and WAP for download over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ja 1.2 to meet I-Mode entry level phone’s requir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4360" y="1143000"/>
            <a:ext cx="4008240" cy="13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-Class, 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ghtly more female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: 16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w to mid 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ocus on privat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4237200"/>
            <a:ext cx="41828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Differentiation within MP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Quail: Pure voice commun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Modern-styled clamshell for pure voice communic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ift: Eye-catching multimedia 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ffers instant entertainment and infotainment in QVGA quality in a valuable, eye-catching slider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4600" y="1184400"/>
            <a:ext cx="402444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usines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: 2’232 uni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P: EUR 95.24  /   HK: EUR 70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RD: EUR 7‘4  /  MARCOM: EUR 17‘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Profit: EUR 0‘4 (0,2% resp. EUR 0,01 per un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i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50360" y="1260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5:32:06Z</dcterms:modified>
  <cp:revision>45</cp:revision>
  <dc:subject/>
  <dc:title>Product Status Review (PSR) Concept</dc:title>
</cp:coreProperties>
</file>