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82104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895320" y="74268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74640" y="4870440"/>
            <a:ext cx="5394240" cy="42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0" y="940896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821040" y="940896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844A0F-38AD-434B-9761-8972A18A1B8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3821040" y="940896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012E6C-F30A-4CE1-B291-F8163B3392F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0" y="940896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82104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47880" y="766800"/>
            <a:ext cx="4921200" cy="36910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27000" y="4692240"/>
            <a:ext cx="4951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3821040" y="940896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7FF881-5DBB-4DF7-BE0C-4EB4CF0AF41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0" y="940896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2104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38160" y="76680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25200" y="4681440"/>
            <a:ext cx="493380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821040" y="940896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05E863-63BA-41C0-9CCB-A9260E0D0C4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0" y="940896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82104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38160" y="76680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25200" y="4681440"/>
            <a:ext cx="493380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78880-3B7E-4089-B5F2-B1B175CC25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ACCA2-2DC6-4F03-9323-4C19A29990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AA38E-3AFE-4AC2-9F93-66CC525120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E1D66-E666-4C9A-998F-1AE9C872D8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E3A97-3C08-4578-B7C9-31F0DE7557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DB5F2-83DA-477D-AFC7-28F8B91F1D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4E61D-2916-4D35-9CA7-1CBE57D13A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F2CB4-DF85-4FAD-B969-43B8B7BABC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4EAA3-3844-4D69-A6C3-1C507E3B5D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E19C3-A399-4842-B31F-8985234371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B34EF-2D26-499C-93ED-F8B81C9ECF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BF337-FB81-4F1A-8BC1-4790D6AEE4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3619440" y="6568200"/>
            <a:ext cx="190512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  <a:ea typeface="Arial"/>
              </a:rPr>
              <a:t>Page </a:t>
            </a:r>
            <a:fld id="{7A8E7A1B-4F75-4964-A2EE-F2A324E6F6CB}" type="slidenum">
              <a:rPr b="0" lang="de-DE" sz="9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575560" y="-144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85760" y="1197000"/>
            <a:ext cx="8769240" cy="22827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71600" y="4175280"/>
            <a:ext cx="820404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F62 Lifecycle Extension – M1 Decl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7640" y="5000760"/>
            <a:ext cx="3929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e: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2004-12-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M: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 Tao (Thom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L-T: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un Hong Liang (Ton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PM BA: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icher Markus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064360" y="15228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F6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B352B-0772-4103-BD3C-4CB16095469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62000" y="1160640"/>
            <a:ext cx="4359240" cy="126036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622760" y="1160640"/>
            <a:ext cx="4359240" cy="167940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62000" y="2503440"/>
            <a:ext cx="4359240" cy="221616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94320" y="2897280"/>
            <a:ext cx="4359240" cy="319716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2000" y="4838760"/>
            <a:ext cx="4359240" cy="124452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064360" y="15228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F6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1d3e"/>
                </a:solidFill>
                <a:latin typeface="Arial"/>
                <a:ea typeface="宋体"/>
              </a:rPr>
              <a:t>Leopard lifecycle extension Product Profile</a:t>
            </a:r>
            <a:br>
              <a:rPr sz="2000"/>
            </a:br>
            <a:r>
              <a:rPr b="1" lang="en-US" sz="2000" spc="-1" strike="noStrike">
                <a:solidFill>
                  <a:srgbClr val="9e1d3e"/>
                </a:solidFill>
                <a:latin typeface="Arial"/>
                <a:ea typeface="宋体"/>
              </a:rPr>
              <a:t> </a:t>
            </a: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Stylish and Clev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14360" y="2606760"/>
            <a:ext cx="4008240" cy="23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onsumer Highlight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Easy to use functiona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honebook storage indicat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alling face(*.bmp or *.jp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938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Predictive text input (T9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938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Hand free speak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Outstanding value for mon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ol and trendy loo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668840" y="2932200"/>
            <a:ext cx="40338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echnical dat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Dimension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: 81.5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 x 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5.2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 x 2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 mm (L x W x 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Volu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78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 cm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Weigh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 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Standby ti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up to 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0 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Talk ti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up to 300 m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Batte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Li-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600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 mA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Charging ti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&lt; 2 h for 100%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gold-V3 plat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in display: 130x130pix, 64K, CST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b-display: 96x64pix, B/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Antenn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External 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S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Plug-in (1.8 or 3V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41280" y="4981680"/>
            <a:ext cx="400860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perator Benefit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tate of the art services like MMS, WAP,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Operator custom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4360" y="1322280"/>
            <a:ext cx="4008240" cy="10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ositioning / Brand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igh end entry level clamshell for Fashionable Community Cent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Female ~ Male, age focus 18-25, low income and focus on private usag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51280" y="1200240"/>
            <a:ext cx="4024440" cy="14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igh value feature set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igh valuable color and finis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hrome ring around the 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Blue illumination for dynamic light and red Col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WAP 1.2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GPRS class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ttachable cam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F26CC-D207-452D-9286-CBC966C87C0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393840" y="279360"/>
          <a:ext cx="8229600" cy="6172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279360"/>
                    <a:ext cx="822960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1701720" y="3809880"/>
            <a:ext cx="825480" cy="343080"/>
          </a:xfrm>
          <a:prstGeom prst="ellipse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295960" y="3797280"/>
            <a:ext cx="825480" cy="343080"/>
          </a:xfrm>
          <a:prstGeom prst="ellipse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416400" y="3797280"/>
            <a:ext cx="825480" cy="343080"/>
          </a:xfrm>
          <a:prstGeom prst="ellipse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1BBF5-F093-4750-A31D-06EA103358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amp-up Planning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064360" y="152280"/>
            <a:ext cx="917640" cy="882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F6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84320" y="1057320"/>
            <a:ext cx="7505640" cy="550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76C65-AC0C-4B53-96D1-A36A47B9B22C}" type="slidenum">
              <a:t>12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6560" y="291600"/>
            <a:ext cx="6553440" cy="6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document is reviewed and agreed by the extended REA Te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5880" y="1562040"/>
            <a:ext cx="7945560" cy="351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__________________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__________________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__________________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(S)PM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PLT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          SPM B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__________________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__________________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__________________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Sales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SCM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1640" y="2090880"/>
            <a:ext cx="174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gd.  Li Tao (Thoma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219360" y="4054320"/>
            <a:ext cx="1588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gd. Heiko Kueh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03800" y="4054320"/>
            <a:ext cx="155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gd. Graham Bre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79040" y="4054320"/>
            <a:ext cx="1540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gd. Shao Xiongy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51160" y="2089080"/>
            <a:ext cx="2224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gd. Sun Hong Liang (Tony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203880" y="2101680"/>
            <a:ext cx="153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gd. Markus Aic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64360" y="15228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F6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DECF0-0214-480D-A178-257037FE7B2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62000" y="1160640"/>
            <a:ext cx="4359240" cy="184140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59400" y="3166920"/>
            <a:ext cx="4359240" cy="299412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2920" y="3122640"/>
            <a:ext cx="4368600" cy="308304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22760" y="1131840"/>
            <a:ext cx="4359240" cy="192096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064360" y="15228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F6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537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1d3e"/>
                </a:solidFill>
                <a:latin typeface="Arial"/>
                <a:ea typeface="宋体"/>
              </a:rPr>
              <a:t>Delta description with old Leopard 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--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International varia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4360" y="1322280"/>
            <a:ext cx="4008240" cy="16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roduct desig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. New high valuable colors and finis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. Chrome rings around the 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ransparent galvanization to the light loo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3. Blue LED for the dynamic ligh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4. Red LED for the keypad light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00160" y="3208320"/>
            <a:ext cx="4228920" cy="2906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622760" y="3222720"/>
            <a:ext cx="4227480" cy="28512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79360" y="3492360"/>
            <a:ext cx="1104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Black dem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88120" y="3505320"/>
            <a:ext cx="110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ilver-bl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84400" y="3568680"/>
            <a:ext cx="110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hrome r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273400" y="3670200"/>
            <a:ext cx="66024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260440" y="3772080"/>
            <a:ext cx="749520" cy="15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770360" y="1335240"/>
            <a:ext cx="4008600" cy="16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BOM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BOM w/o cost adder: € 48,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itional cost adder: € 1,5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Risk adder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€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,67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urrent BOM incl. risk adder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€ 51,4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663BD-68AE-47D9-BA10-2FE73352AAB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62000" y="1160640"/>
            <a:ext cx="4359240" cy="116820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84600" y="3179880"/>
            <a:ext cx="4359240" cy="299376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2920" y="3122640"/>
            <a:ext cx="4368600" cy="308304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22760" y="1131840"/>
            <a:ext cx="4359240" cy="117180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064360" y="15228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F6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537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1d3e"/>
                </a:solidFill>
                <a:latin typeface="Arial"/>
                <a:ea typeface="宋体"/>
              </a:rPr>
              <a:t>Delta description with old Leopard 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--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TMO US varia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14360" y="1322280"/>
            <a:ext cx="4008240" cy="18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roduct desig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. No Chrome rings around the 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. No Blue LED for the dynamic ligh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3. Specific color: Late Ni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70360" y="1335240"/>
            <a:ext cx="4008600" cy="12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BOM &amp; volum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NO additional cost adder to US 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BOM incl. risk adder: € 49.6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mitted lifecycle volume: 775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7840" y="2500200"/>
            <a:ext cx="4749840" cy="36705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984400" y="2882880"/>
            <a:ext cx="135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  <a:ea typeface="宋体"/>
              </a:rPr>
              <a:t>Late N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33D8A-A0B9-4E41-8985-7E663FBBEC5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CF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6d2435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2868480"/>
            <a:ext cx="174960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7840" y="1306440"/>
            <a:ext cx="1749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nan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906640" y="2684520"/>
            <a:ext cx="4968720" cy="1299600"/>
            <a:chOff x="2906640" y="2684520"/>
            <a:chExt cx="4968720" cy="1299600"/>
          </a:xfrm>
        </p:grpSpPr>
        <p:sp>
          <p:nvSpPr>
            <p:cNvPr id="139" name=""/>
            <p:cNvSpPr/>
            <p:nvPr/>
          </p:nvSpPr>
          <p:spPr>
            <a:xfrm>
              <a:off x="2906640" y="2684520"/>
              <a:ext cx="4968720" cy="1299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43360" y="2684520"/>
              <a:ext cx="4917240" cy="12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  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de-DE" sz="14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PSR 24/11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de-DE" sz="14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Update schedu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indent="1778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1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5, Dec. 04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0, Dec. 0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indent="1778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S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8, Feb. 05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, Feb. 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indent="1778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indent="1778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174760" y="5896080"/>
            <a:ext cx="487692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4697280"/>
            <a:ext cx="21877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74760" y="5896080"/>
            <a:ext cx="487692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955960" y="4227480"/>
            <a:ext cx="4955760" cy="1580400"/>
            <a:chOff x="2955960" y="4227480"/>
            <a:chExt cx="4955760" cy="1580400"/>
          </a:xfrm>
        </p:grpSpPr>
        <p:sp>
          <p:nvSpPr>
            <p:cNvPr id="145" name=""/>
            <p:cNvSpPr/>
            <p:nvPr/>
          </p:nvSpPr>
          <p:spPr>
            <a:xfrm>
              <a:off x="2955960" y="4227480"/>
              <a:ext cx="4955760" cy="1580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92680" y="4227480"/>
              <a:ext cx="4904280" cy="158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Mechanical design is finish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W is same as Leopar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EMC/Antenna got the test result: Antenna retuning is NOT</a:t>
              </a:r>
              <a:br>
                <a:rPr sz="1400"/>
              </a:b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  necessary for international variant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Dispo. variants BOM is already set u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tandard variants BOM is already set u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065680" y="1173240"/>
            <a:ext cx="253800" cy="715680"/>
            <a:chOff x="2065680" y="1173240"/>
            <a:chExt cx="253800" cy="715680"/>
          </a:xfrm>
        </p:grpSpPr>
        <p:sp>
          <p:nvSpPr>
            <p:cNvPr id="148" name=""/>
            <p:cNvSpPr/>
            <p:nvPr/>
          </p:nvSpPr>
          <p:spPr>
            <a:xfrm rot="5400000">
              <a:off x="1834560" y="1404000"/>
              <a:ext cx="715680" cy="253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5400000">
              <a:off x="2124720" y="1231200"/>
              <a:ext cx="140760" cy="138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2124720" y="1464480"/>
              <a:ext cx="140760" cy="138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5400000">
              <a:off x="2124720" y="1698120"/>
              <a:ext cx="140760" cy="13896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8187120" y="1109520"/>
            <a:ext cx="380520" cy="944280"/>
            <a:chOff x="8187120" y="1109520"/>
            <a:chExt cx="380520" cy="944280"/>
          </a:xfrm>
        </p:grpSpPr>
        <p:sp>
          <p:nvSpPr>
            <p:cNvPr id="153" name=""/>
            <p:cNvSpPr/>
            <p:nvPr/>
          </p:nvSpPr>
          <p:spPr>
            <a:xfrm rot="5400000">
              <a:off x="7905240" y="1391400"/>
              <a:ext cx="944280" cy="380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5400000">
              <a:off x="8288280" y="1173240"/>
              <a:ext cx="185760" cy="208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5400000">
              <a:off x="8288280" y="1481400"/>
              <a:ext cx="185760" cy="208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5400000">
              <a:off x="8288280" y="1789560"/>
              <a:ext cx="185760" cy="20844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926000" y="4398840"/>
            <a:ext cx="253800" cy="715680"/>
            <a:chOff x="1926000" y="4398840"/>
            <a:chExt cx="253800" cy="715680"/>
          </a:xfrm>
        </p:grpSpPr>
        <p:sp>
          <p:nvSpPr>
            <p:cNvPr id="158" name=""/>
            <p:cNvSpPr/>
            <p:nvPr/>
          </p:nvSpPr>
          <p:spPr>
            <a:xfrm rot="5400000">
              <a:off x="1694880" y="4629600"/>
              <a:ext cx="715680" cy="253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5400000">
              <a:off x="1985040" y="4456800"/>
              <a:ext cx="140760" cy="138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5400000">
              <a:off x="1985040" y="4690080"/>
              <a:ext cx="140760" cy="138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5400000">
              <a:off x="1985040" y="4923720"/>
              <a:ext cx="140760" cy="13896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921040" y="1125360"/>
            <a:ext cx="4962240" cy="1101600"/>
            <a:chOff x="2921040" y="1125360"/>
            <a:chExt cx="4962240" cy="1101600"/>
          </a:xfrm>
        </p:grpSpPr>
        <p:sp>
          <p:nvSpPr>
            <p:cNvPr id="163" name=""/>
            <p:cNvSpPr/>
            <p:nvPr/>
          </p:nvSpPr>
          <p:spPr>
            <a:xfrm>
              <a:off x="2921040" y="1125360"/>
              <a:ext cx="4962240" cy="1101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957760" y="1125360"/>
              <a:ext cx="4910760" cy="11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SP: 70,72€   (Launch: 80€ ; EOL: 65€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Volume: 2`26 Mio units (first shipment in 02/2005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HK: 57,03€  (BoM: 50,82€ ; CoC: 5,24€ ; V-Adder: 0,97€ 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Profit: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0`3 Mio € (0,17% of T/O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Gross Margin in FY04/05: 17`5 Mio €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971360" y="2967120"/>
            <a:ext cx="228600" cy="652320"/>
            <a:chOff x="1971360" y="2967120"/>
            <a:chExt cx="228600" cy="652320"/>
          </a:xfrm>
        </p:grpSpPr>
        <p:sp>
          <p:nvSpPr>
            <p:cNvPr id="166" name=""/>
            <p:cNvSpPr/>
            <p:nvPr/>
          </p:nvSpPr>
          <p:spPr>
            <a:xfrm rot="5400000">
              <a:off x="1759320" y="3178800"/>
              <a:ext cx="65232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5400000">
              <a:off x="2023560" y="3020760"/>
              <a:ext cx="128520" cy="125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5400000">
              <a:off x="2023560" y="3233520"/>
              <a:ext cx="128520" cy="12528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5400000">
              <a:off x="2023560" y="3446280"/>
              <a:ext cx="128520" cy="125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5196F-B6DC-4C21-AE6A-93EBC8642DAD}" type="slidenum">
              <a:t>5</a:t>
            </a:fld>
          </a:p>
        </p:txBody>
      </p:sp>
    </p:spTree>
  </p:cSld>
  <p:transition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66760" y="2776680"/>
            <a:ext cx="8040600" cy="957240"/>
          </a:xfrm>
          <a:prstGeom prst="rect">
            <a:avLst/>
          </a:prstGeom>
          <a:solidFill>
            <a:srgbClr val="bad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289560" y="1125360"/>
            <a:ext cx="19893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302000" y="1125360"/>
            <a:ext cx="19875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Respon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440080" y="1138320"/>
            <a:ext cx="19890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4000" y="1125360"/>
            <a:ext cx="19890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R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4000" y="1125360"/>
            <a:ext cx="198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4000" y="1469880"/>
            <a:ext cx="0" cy="5803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24000" y="1125360"/>
            <a:ext cx="0" cy="344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278920" y="1469880"/>
            <a:ext cx="0" cy="5803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278920" y="1125360"/>
            <a:ext cx="0" cy="344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313000" y="1214280"/>
            <a:ext cx="198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02000" y="1125360"/>
            <a:ext cx="1987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289560" y="1125360"/>
            <a:ext cx="1989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4000" y="1469880"/>
            <a:ext cx="795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76320"/>
            <a:ext cx="73915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isk Assess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760" y="1697040"/>
            <a:ext cx="8040600" cy="893880"/>
          </a:xfrm>
          <a:prstGeom prst="rect">
            <a:avLst/>
          </a:prstGeom>
          <a:solidFill>
            <a:srgbClr val="bad1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325600" y="2838600"/>
            <a:ext cx="214164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nclude Risk adder into 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romote CF62 i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key countr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9080" y="2860560"/>
            <a:ext cx="198900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BOM increase if volumes do not reach commitment which was given to suppliers (3`2m uni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48320" y="2846520"/>
            <a:ext cx="146340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arkus Ai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laf We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299280" y="2851200"/>
            <a:ext cx="19890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End of Janu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9360" y="1765440"/>
            <a:ext cx="205740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vailability of PTCRB approval in time (lead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316240" y="1809720"/>
            <a:ext cx="22813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rive approvals (R&amp;TTE, GCF, PTCRB) in 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86480" y="1741320"/>
            <a:ext cx="13492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Huang Haiy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ony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286680" y="1778040"/>
            <a:ext cx="19890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42880"/>
                <a:tab algn="l" pos="66672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, Dec.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CF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60440" y="1117440"/>
            <a:ext cx="12960" cy="500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83160" y="1154160"/>
            <a:ext cx="12600" cy="50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232680" y="1139760"/>
            <a:ext cx="12600" cy="500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29549-CE00-4182-9DD4-36A13559BF9D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55320" y="351720"/>
            <a:ext cx="655308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eopard refres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– M1 Business Case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31000" y="2084400"/>
            <a:ext cx="2954160" cy="409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Launch price: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80€ ; </a:t>
            </a: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EOL price: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65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Launch: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02/2005 ; </a:t>
            </a: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EOL: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09/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Volume: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2`26 Mio units total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PAC: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0`13 Mio units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MEA: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`14 Mio units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AM: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0`21 Mio units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AM: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0`78 Mio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BOM: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includes “GS-risk-adder” 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f 1,67€.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hereof 1,20€ for quantity risk and 0,47€ for single source r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R&amp;D: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Direct 0,6 Mio €, indirect 0,3 Mio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Marcom: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acc. to Budg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46160" indent="-144720">
              <a:lnSpc>
                <a:spcPct val="100000"/>
              </a:lnSpc>
              <a:spcBef>
                <a:spcPts val="34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31000" y="1266840"/>
            <a:ext cx="2954160" cy="792000"/>
          </a:xfrm>
          <a:prstGeom prst="rect">
            <a:avLst/>
          </a:prstGeom>
          <a:solidFill>
            <a:srgbClr val="87b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1104840"/>
          <a:ext cx="5505480" cy="599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04840"/>
                    <a:ext cx="5505480" cy="59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CF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8A693-BBE3-4CBE-AA58-E66A8AD808E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6560" y="279360"/>
            <a:ext cx="65534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isions Propos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47120" y="1405080"/>
            <a:ext cx="3839760" cy="15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.) M1 is agreed, go ahead with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dditional 2’26m volume to CF6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ross Margin in FY04/05: 17`6 Mio 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venue in FY04/05: 159`5 Mio 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38840" y="5083200"/>
            <a:ext cx="3021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propose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92240" y="5581800"/>
            <a:ext cx="38088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03360" y="5616720"/>
            <a:ext cx="294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t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CF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168560" y="562608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1000080" y="5519880"/>
            <a:ext cx="5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5C0C5-C0CC-41C6-ABE4-7BA99EB62E6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24000" y="1125360"/>
            <a:ext cx="198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4000" y="1469880"/>
            <a:ext cx="0" cy="5803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4000" y="1125360"/>
            <a:ext cx="0" cy="344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278920" y="1469880"/>
            <a:ext cx="0" cy="5803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278920" y="1125360"/>
            <a:ext cx="0" cy="344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313000" y="1214280"/>
            <a:ext cx="198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02000" y="1125360"/>
            <a:ext cx="1987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289560" y="1125360"/>
            <a:ext cx="1989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76320"/>
            <a:ext cx="73915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CF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2895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宋体"/>
              </a:rPr>
              <a:t>Back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30C1F-19E5-4778-945B-D155F9268E94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dems1gf9</cp:lastModifiedBy>
  <cp:lastPrinted>2004-02-29T14:41:19Z</cp:lastPrinted>
  <dcterms:modified xsi:type="dcterms:W3CDTF">2004-12-09T19:04:55Z</dcterms:modified>
  <cp:revision>40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77735033</vt:r8>
  </property>
  <property fmtid="{D5CDD505-2E9C-101B-9397-08002B2CF9AE}" pid="3" name="_AuthorEmail">
    <vt:lpwstr>Markus.Aicher@siemens.com</vt:lpwstr>
  </property>
  <property fmtid="{D5CDD505-2E9C-101B-9397-08002B2CF9AE}" pid="4" name="_AuthorEmailDisplayName">
    <vt:lpwstr>Aicher Markus ICM MP PBM BA PG65</vt:lpwstr>
  </property>
  <property fmtid="{D5CDD505-2E9C-101B-9397-08002B2CF9AE}" pid="5" name="_EmailSubject">
    <vt:lpwstr>Slideset for M1 Declaration on PSR</vt:lpwstr>
  </property>
</Properties>
</file>