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2E4B-C72B-4A37-8FE8-5A492E02C4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91EA-4E33-4C1A-B2F0-FF91DF97B4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1D03-7269-48EF-9695-6E8E6B9EC4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852B-E481-4BD1-BB33-CC34B57962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FF93-AAA3-47E0-9966-87F460DDB7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F913-D641-44DA-BBDF-5C6E387976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F249-30E8-4759-9C19-AEA165B5F1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6740-BF6C-4CAB-9E7B-972413D793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D605-BB98-41B8-9964-1EBDA076F8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DA64-1A83-4DA0-9B12-BF0DD833D3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219B-C7EE-49A8-8449-BA1339BC85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1258-8E61-4BF1-B084-C72E17B428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DD2E-11CC-4E7D-99D2-67CFACB79E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D4F6-0570-4236-A427-862D5E54E6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64D8-BA4F-4D9A-B493-41C3DEDE7B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6BD6B5B4-DADB-45B0-99F9-F67FD343DF75}" type="datetime">
              <a:rPr b="0" lang="de-DE" sz="1200" spc="-1" strike="noStrike">
                <a:solidFill>
                  <a:srgbClr val="000000"/>
                </a:solidFill>
                <a:latin typeface="Arial"/>
              </a:rPr>
              <a:t>30.07.26</a:t>
            </a:fld>
            <a:r>
              <a:rPr b="0" lang="de-DE" sz="1200" spc="-1" strike="noStrike">
                <a:solidFill>
                  <a:srgbClr val="000000"/>
                </a:solidFill>
                <a:latin typeface="Arial"/>
              </a:rPr>
              <a:t>   </a:t>
            </a:r>
            <a:fld id="{B3BF1362-C4AC-4D43-B84B-36E400F7B51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