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BCE6-D266-4C44-ADDE-2BE0E63AAD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1795-0780-4808-8C7A-39CA44396D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4C3F-9DAE-46C0-8CB2-2E900627A0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B14F-6DF4-41F3-A225-14D3F57282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F3907-9007-4F75-987E-EC3BC6D11A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D6AB1-4E61-4BE8-A2EF-3BD90551DA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C4E7-7F32-4EE2-94CD-2F5D8C4B25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E7EE-2CCE-4769-9865-EFD3F072EA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42B4-8A44-468F-B63D-BDB828860B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CBD7-8844-4A94-ADD5-DA84D97E84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973A-B0C8-4551-8A21-7588A0E89A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6CF9-FD73-4EE5-B7D5-76F5B8E8D3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F554-E0C3-4E7B-9554-0FC102419A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5C68-7C28-4FFB-A92F-FC5C55EDCE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66620-8DD5-4F30-9C34-91AA0B6714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AA401-08EF-47BF-9C7D-D909618154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1C99D961-5105-48A0-838C-070BED5F504C}" type="datetime5">
              <a:rPr b="0" lang="de-DE" sz="1000" spc="-1" strike="noStrike">
                <a:solidFill>
                  <a:srgbClr val="000000"/>
                </a:solidFill>
                <a:latin typeface="Arial"/>
              </a:rPr>
              <a:t>30. Jul 2026</a:t>
            </a:fld>
            <a:r>
              <a:rPr b="0" lang="de-DE" sz="1000" spc="-1" strike="noStrike">
                <a:solidFill>
                  <a:srgbClr val="000000"/>
                </a:solidFill>
                <a:latin typeface="Arial"/>
              </a:rPr>
              <a:t>   </a:t>
            </a:r>
            <a:fld id="{3417A800-6E54-4617-A96B-1DD8ABE33966}"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7587E2E1-AD76-4425-A8A8-1366F711B7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2237F201-6333-45C2-9C93-B0EE8674B86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