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01760" y="747720"/>
            <a:ext cx="4764240" cy="35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hdr"/>
          </p:nvPr>
        </p:nvSpPr>
        <p:spPr>
          <a:xfrm>
            <a:off x="0" y="-360"/>
            <a:ext cx="31860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106520" y="-360"/>
            <a:ext cx="31878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909792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4106520" y="909792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CB38F0-E9A5-4B2E-8045-B95475142F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06440" y="74772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terial First colum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: Some specific component common used with A50 shift to A50 ongo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ROF Volum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: remaining Production EMEA 27K  for 13K no ord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Additional Production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1,4 Mio reduction SSMC 560K/ PAN 240K/ Man/ 60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60K Sky Blue (new colour never sold in EMEA)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SSMC ris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4,6K Chr-OR colour variant (international/Russia/Italy/South Afric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duction of risk in 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5,5K (31,5K Units Chr-OR and 75,2K Units Chr-Blue)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risk in 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rd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F: 13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KL: 32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d. Production: 160K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60K sky-blue, 95,5K LAM, 4,6K chrom-ora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8760" y="1125360"/>
            <a:ext cx="8839080" cy="5257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2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76212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0200" y="4797360"/>
            <a:ext cx="8317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60 Ramp Down – M4-Declaration</a:t>
            </a:r>
            <a:br>
              <a:rPr sz="3200"/>
            </a:b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MD Product Status Re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d, 19th January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200" y="6021360"/>
            <a:ext cx="8317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 MD PBM    Doris König / Thomas Teis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4000" y="1405080"/>
            <a:ext cx="81838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The Segment recommends to make the following deci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yes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no     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The PSR agrees to the M4 Milestone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LAM will produce 93k devices in silver and 65k devices in stone in Q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Reach the budget target 977k €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867280" y="2349360"/>
            <a:ext cx="2514600" cy="228600"/>
            <a:chOff x="5867280" y="2349360"/>
            <a:chExt cx="2514600" cy="228600"/>
          </a:xfrm>
        </p:grpSpPr>
        <p:sp>
          <p:nvSpPr>
            <p:cNvPr id="271" name=""/>
            <p:cNvSpPr/>
            <p:nvPr/>
          </p:nvSpPr>
          <p:spPr>
            <a:xfrm>
              <a:off x="6781680" y="2349360"/>
              <a:ext cx="3808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2349360"/>
              <a:ext cx="380880" cy="2286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2b5d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257796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SR Decision 19.01.2005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gree A60 M4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681280"/>
            <a:ext cx="56386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000000"/>
                </a:solidFill>
                <a:latin typeface="Siemens Sans"/>
              </a:rPr>
              <a:t>BACK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89240" y="3559320"/>
            <a:ext cx="7194240" cy="10555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3573360"/>
          <a:ext cx="6942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57336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389240" y="2440080"/>
            <a:ext cx="7194240" cy="10573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90840" y="2492280"/>
          <a:ext cx="69418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249228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389240" y="1214280"/>
            <a:ext cx="7194240" cy="116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90840" y="1287360"/>
          <a:ext cx="694188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0840" y="128736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389240" y="4676760"/>
            <a:ext cx="7194240" cy="1055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19280" y="4653000"/>
          <a:ext cx="6942240" cy="115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65300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H="1">
            <a:off x="1115280" y="2060640"/>
            <a:ext cx="250920" cy="2874960"/>
          </a:xfrm>
          <a:custGeom>
            <a:avLst/>
            <a:gdLst/>
            <a:ahLst/>
            <a:rect l="l" t="t" r="r" b="b"/>
            <a:pathLst>
              <a:path w="404" h="1017">
                <a:moveTo>
                  <a:pt x="0" y="0"/>
                </a:moveTo>
                <a:lnTo>
                  <a:pt x="404" y="0"/>
                </a:lnTo>
                <a:lnTo>
                  <a:pt x="404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8560" y="347040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8000" y="300672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End of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5805360"/>
            <a:ext cx="539136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mp Down Factories Manaus/Z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31880" y="611028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040" y="42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9240" y="355932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89240" y="1214280"/>
            <a:ext cx="1033200" cy="2685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1214280"/>
            <a:ext cx="11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89240" y="35575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87440" y="2452680"/>
            <a:ext cx="103356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6040" y="2449440"/>
            <a:ext cx="11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14130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9240" y="467676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3680" y="46753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395440"/>
            <a:ext cx="23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741320" y="1700280"/>
            <a:ext cx="470232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293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40053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3720" y="5369040"/>
            <a:ext cx="15264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9480" y="12556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440" y="19843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78840" y="4827600"/>
            <a:ext cx="533160" cy="228600"/>
          </a:xfrm>
          <a:prstGeom prst="hexagon">
            <a:avLst>
              <a:gd name="adj" fmla="val 583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7960" y="5369040"/>
            <a:ext cx="15228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41320" y="1870200"/>
            <a:ext cx="47023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03720" y="1979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96360" y="150480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484488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455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8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036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52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1989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455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1989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455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96080" y="3186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27939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1320" y="292428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41320" y="306864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38750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4005360"/>
            <a:ext cx="41259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0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8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41320" y="4149720"/>
            <a:ext cx="4125960" cy="6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032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172728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28720" y="5157720"/>
            <a:ext cx="5796000" cy="111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3564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156996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41320" y="1557360"/>
            <a:ext cx="18226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4844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88080" y="4302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6280" y="1184400"/>
            <a:ext cx="8763120" cy="393480"/>
            <a:chOff x="206280" y="1184400"/>
            <a:chExt cx="8763120" cy="393480"/>
          </a:xfrm>
        </p:grpSpPr>
        <p:sp>
          <p:nvSpPr>
            <p:cNvPr id="356" name=""/>
            <p:cNvSpPr/>
            <p:nvPr/>
          </p:nvSpPr>
          <p:spPr>
            <a:xfrm>
              <a:off x="20628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07280" y="1184400"/>
              <a:ext cx="7621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516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5760" y="1184400"/>
              <a:ext cx="129204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Respons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3600" y="1184400"/>
              <a:ext cx="49435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escription / Com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1880" y="4713120"/>
            <a:ext cx="12924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200" y="47131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7892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08960" y="43070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3936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08960" y="4338720"/>
            <a:ext cx="1540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5400" y="47131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e negotiation for global WiP risk at all 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29680" y="471312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KLF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37200" y="2905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4200" y="2905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8036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10760" y="29354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74080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02600" y="2905200"/>
            <a:ext cx="768240" cy="360360"/>
            <a:chOff x="8202600" y="2905200"/>
            <a:chExt cx="768240" cy="360360"/>
          </a:xfrm>
        </p:grpSpPr>
        <p:sp>
          <p:nvSpPr>
            <p:cNvPr id="376" name=""/>
            <p:cNvSpPr/>
            <p:nvPr/>
          </p:nvSpPr>
          <p:spPr>
            <a:xfrm>
              <a:off x="820260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8036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10400" y="299556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40800" y="2995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995400" y="2905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stock of finished goods in VKL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29680" y="2905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37200" y="379872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4200" y="37987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8360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51364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4040" y="33926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5400" y="37987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stock of finished goods EMEA -&gt; initiate rework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4200" y="20494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13760" y="2049480"/>
            <a:ext cx="768240" cy="360360"/>
            <a:chOff x="8213760" y="2049480"/>
            <a:chExt cx="768240" cy="360360"/>
          </a:xfrm>
        </p:grpSpPr>
        <p:sp>
          <p:nvSpPr>
            <p:cNvPr id="390" name=""/>
            <p:cNvSpPr/>
            <p:nvPr/>
          </p:nvSpPr>
          <p:spPr>
            <a:xfrm>
              <a:off x="8213760" y="20494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152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2156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1960" y="213984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95400" y="20494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ap excess material on stock in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29680" y="20494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29680" y="3809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39000" y="4264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4200" y="4264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207280" y="4264200"/>
            <a:ext cx="777960" cy="360360"/>
            <a:chOff x="8207280" y="4264200"/>
            <a:chExt cx="777960" cy="360360"/>
          </a:xfrm>
        </p:grpSpPr>
        <p:sp>
          <p:nvSpPr>
            <p:cNvPr id="400" name=""/>
            <p:cNvSpPr/>
            <p:nvPr/>
          </p:nvSpPr>
          <p:spPr>
            <a:xfrm>
              <a:off x="8207280" y="4264200"/>
              <a:ext cx="7779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94760" y="4354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24800" y="4354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54840" y="4354560"/>
              <a:ext cx="15408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995400" y="4264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pare negotiations with suppliers, initiate preparation meeting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9680" y="4264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10520" y="4713120"/>
            <a:ext cx="758880" cy="360360"/>
            <a:chOff x="8210520" y="4713120"/>
            <a:chExt cx="758880" cy="360360"/>
          </a:xfrm>
        </p:grpSpPr>
        <p:sp>
          <p:nvSpPr>
            <p:cNvPr id="407" name=""/>
            <p:cNvSpPr/>
            <p:nvPr/>
          </p:nvSpPr>
          <p:spPr>
            <a:xfrm>
              <a:off x="8210520" y="4713120"/>
              <a:ext cx="7588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78560" y="480348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3400" y="4794120"/>
              <a:ext cx="16344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04280" y="480348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043680" y="24750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Wi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24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218440" y="2475000"/>
            <a:ext cx="768240" cy="360360"/>
            <a:chOff x="8218440" y="2475000"/>
            <a:chExt cx="768240" cy="360360"/>
          </a:xfrm>
        </p:grpSpPr>
        <p:sp>
          <p:nvSpPr>
            <p:cNvPr id="414" name=""/>
            <p:cNvSpPr/>
            <p:nvPr/>
          </p:nvSpPr>
          <p:spPr>
            <a:xfrm>
              <a:off x="8218440" y="24750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9620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2624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56640" y="25653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00080" y="24750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procedure of material transfer for service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3436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9240" y="3341520"/>
            <a:ext cx="8756280" cy="360360"/>
            <a:chOff x="219240" y="3341520"/>
            <a:chExt cx="8756280" cy="360360"/>
          </a:xfrm>
        </p:grpSpPr>
        <p:sp>
          <p:nvSpPr>
            <p:cNvPr id="421" name=""/>
            <p:cNvSpPr/>
            <p:nvPr/>
          </p:nvSpPr>
          <p:spPr>
            <a:xfrm>
              <a:off x="6041880" y="334152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s. Caded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924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8207280" y="3341520"/>
              <a:ext cx="768240" cy="360360"/>
              <a:chOff x="8207280" y="3341520"/>
              <a:chExt cx="768240" cy="360360"/>
            </a:xfrm>
          </p:grpSpPr>
          <p:sp>
            <p:nvSpPr>
              <p:cNvPr id="424" name=""/>
              <p:cNvSpPr/>
              <p:nvPr/>
            </p:nvSpPr>
            <p:spPr>
              <a:xfrm>
                <a:off x="8207280" y="334152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28504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1508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45480" y="343188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1000080" y="334152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t special variants orders to meet volume pro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3436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8.02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220240" y="3811680"/>
            <a:ext cx="768240" cy="360360"/>
            <a:chOff x="8220240" y="3811680"/>
            <a:chExt cx="768240" cy="360360"/>
          </a:xfrm>
        </p:grpSpPr>
        <p:sp>
          <p:nvSpPr>
            <p:cNvPr id="431" name=""/>
            <p:cNvSpPr/>
            <p:nvPr/>
          </p:nvSpPr>
          <p:spPr>
            <a:xfrm>
              <a:off x="8220240" y="38116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98000" y="39020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28040" y="390204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58440" y="390204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8220240" y="2905200"/>
            <a:ext cx="768240" cy="360360"/>
            <a:chOff x="8220240" y="2905200"/>
            <a:chExt cx="768240" cy="360360"/>
          </a:xfrm>
        </p:grpSpPr>
        <p:sp>
          <p:nvSpPr>
            <p:cNvPr id="436" name=""/>
            <p:cNvSpPr/>
            <p:nvPr/>
          </p:nvSpPr>
          <p:spPr>
            <a:xfrm>
              <a:off x="822024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9800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2804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58440" y="29955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220240" y="3819600"/>
            <a:ext cx="768240" cy="360360"/>
            <a:chOff x="8220240" y="3819600"/>
            <a:chExt cx="768240" cy="360360"/>
          </a:xfrm>
        </p:grpSpPr>
        <p:sp>
          <p:nvSpPr>
            <p:cNvPr id="441" name=""/>
            <p:cNvSpPr/>
            <p:nvPr/>
          </p:nvSpPr>
          <p:spPr>
            <a:xfrm>
              <a:off x="8220240" y="38196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9800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804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58440" y="39099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029280" y="16178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4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204040" y="1617840"/>
            <a:ext cx="768240" cy="360360"/>
            <a:chOff x="8204040" y="1617840"/>
            <a:chExt cx="768240" cy="360360"/>
          </a:xfrm>
        </p:grpSpPr>
        <p:sp>
          <p:nvSpPr>
            <p:cNvPr id="448" name=""/>
            <p:cNvSpPr/>
            <p:nvPr/>
          </p:nvSpPr>
          <p:spPr>
            <a:xfrm>
              <a:off x="8204040" y="16178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8180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184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42240" y="170820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985680" y="16178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Material Transfer between KLF and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1996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32520" y="20494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56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Manau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 to Man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Abre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91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finished goods in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12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special variants orders to meet volume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31080" y="3500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Abreu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808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196120" y="3500280"/>
            <a:ext cx="768240" cy="360360"/>
            <a:chOff x="8196120" y="3500280"/>
            <a:chExt cx="768240" cy="360360"/>
          </a:xfrm>
        </p:grpSpPr>
        <p:sp>
          <p:nvSpPr>
            <p:cNvPr id="522" name=""/>
            <p:cNvSpPr/>
            <p:nvPr/>
          </p:nvSpPr>
          <p:spPr>
            <a:xfrm>
              <a:off x="8196120" y="3500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7388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0392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734320" y="3590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988920" y="3500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. Focus on reduction of material on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2320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31080" y="3932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Bol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808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8196120" y="3932280"/>
            <a:ext cx="768240" cy="360360"/>
            <a:chOff x="8196120" y="3932280"/>
            <a:chExt cx="768240" cy="360360"/>
          </a:xfrm>
        </p:grpSpPr>
        <p:sp>
          <p:nvSpPr>
            <p:cNvPr id="531" name=""/>
            <p:cNvSpPr/>
            <p:nvPr/>
          </p:nvSpPr>
          <p:spPr>
            <a:xfrm>
              <a:off x="8196120" y="3932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7388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0392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34320" y="4022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88920" y="3932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scrapping process for remaining material after final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2320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Zala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/GDL to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 and 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565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86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ure that Zala takes over the risk material from other production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ö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08080" y="3500280"/>
            <a:ext cx="8756280" cy="360360"/>
            <a:chOff x="208080" y="3500280"/>
            <a:chExt cx="8756280" cy="360360"/>
          </a:xfrm>
        </p:grpSpPr>
        <p:sp>
          <p:nvSpPr>
            <p:cNvPr id="594" name=""/>
            <p:cNvSpPr/>
            <p:nvPr/>
          </p:nvSpPr>
          <p:spPr>
            <a:xfrm>
              <a:off x="6031080" y="350028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r. Herrma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08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8196120" y="3500280"/>
              <a:ext cx="768240" cy="360360"/>
              <a:chOff x="8196120" y="3500280"/>
              <a:chExt cx="768240" cy="360360"/>
            </a:xfrm>
          </p:grpSpPr>
          <p:sp>
            <p:nvSpPr>
              <p:cNvPr id="597" name=""/>
              <p:cNvSpPr/>
              <p:nvPr/>
            </p:nvSpPr>
            <p:spPr>
              <a:xfrm>
                <a:off x="8196120" y="350028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88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0392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34320" y="359064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88920" y="350028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d scrapping process for remaining material after final production in Za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2320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30.04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924360" y="3068640"/>
            <a:ext cx="2476440" cy="96516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15339" t="16837" r="10107" b="27388"/>
          <a:stretch/>
        </p:blipFill>
        <p:spPr>
          <a:xfrm>
            <a:off x="2009880" y="1163520"/>
            <a:ext cx="4863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Volume Commitment LAM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rcRect l="12430" t="11430" r="9041" b="21193"/>
          <a:stretch/>
        </p:blipFill>
        <p:spPr>
          <a:xfrm>
            <a:off x="228600" y="1173240"/>
            <a:ext cx="4229280" cy="51260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rcRect l="11478" t="11013" r="8165" b="24188"/>
          <a:stretch/>
        </p:blipFill>
        <p:spPr>
          <a:xfrm>
            <a:off x="4525920" y="1173240"/>
            <a:ext cx="4319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50920" y="1560600"/>
            <a:ext cx="8208720" cy="4475160"/>
            <a:chOff x="250920" y="1560600"/>
            <a:chExt cx="8208720" cy="4475160"/>
          </a:xfrm>
        </p:grpSpPr>
        <p:sp>
          <p:nvSpPr>
            <p:cNvPr id="101" name=""/>
            <p:cNvSpPr/>
            <p:nvPr/>
          </p:nvSpPr>
          <p:spPr>
            <a:xfrm>
              <a:off x="250920" y="1560600"/>
              <a:ext cx="8208720" cy="1782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5111640"/>
              <a:ext cx="8170920" cy="400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C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0920" y="4597560"/>
              <a:ext cx="8183520" cy="3999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5634000"/>
              <a:ext cx="8183520" cy="401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3521160"/>
              <a:ext cx="8183520" cy="960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258920" y="1197000"/>
            <a:ext cx="21621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LF/M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1204920"/>
            <a:ext cx="223200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aus/L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1209600"/>
            <a:ext cx="22323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*no official Team member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participation to an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eam 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6093000"/>
            <a:ext cx="20527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CM - life cycl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58840"/>
            <a:ext cx="7772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Te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2043000"/>
            <a:ext cx="147168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LCM (Ko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2060640"/>
            <a:ext cx="147024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MM (Abr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5120" y="4621320"/>
            <a:ext cx="691380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 OP BO (Cadedd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65120" y="2513160"/>
            <a:ext cx="694224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P (Lewitzk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2944800"/>
            <a:ext cx="6942240" cy="3398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O6 (Uml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5120" y="355428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O (Kön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5120" y="387180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PM (Boj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5120" y="418932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A (KPM) (Teistl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5157720"/>
            <a:ext cx="1982880" cy="2984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CCQ BA SCM (Wien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5120" y="5662440"/>
            <a:ext cx="1982880" cy="3146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erson* in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2240" y="1573200"/>
            <a:ext cx="6954840" cy="3650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MM  (Herrman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2048040"/>
            <a:ext cx="1469880" cy="30924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Brzuskova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44760" y="1700280"/>
            <a:ext cx="669924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production 03/05 in Manaus/Za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deliveries  03/0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77k € for KLF/MAN/ZALA/GD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1122480"/>
            <a:ext cx="1230480" cy="5122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6520" y="1773360"/>
            <a:ext cx="1904040" cy="472680"/>
            <a:chOff x="506520" y="1773360"/>
            <a:chExt cx="1904040" cy="472680"/>
          </a:xfrm>
        </p:grpSpPr>
        <p:sp>
          <p:nvSpPr>
            <p:cNvPr id="127" name=""/>
            <p:cNvSpPr/>
            <p:nvPr/>
          </p:nvSpPr>
          <p:spPr>
            <a:xfrm>
              <a:off x="548640" y="177336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520" y="184032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06520" y="4797360"/>
            <a:ext cx="1863720" cy="4730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b5d"/>
                </a:solidFill>
                <a:latin typeface="Arial"/>
              </a:rPr>
              <a:t>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6520" y="3027240"/>
            <a:ext cx="1904040" cy="472680"/>
            <a:chOff x="506520" y="3027240"/>
            <a:chExt cx="1904040" cy="472680"/>
          </a:xfrm>
        </p:grpSpPr>
        <p:sp>
          <p:nvSpPr>
            <p:cNvPr id="131" name=""/>
            <p:cNvSpPr/>
            <p:nvPr/>
          </p:nvSpPr>
          <p:spPr>
            <a:xfrm>
              <a:off x="548640" y="302724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6520" y="309420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280" y="2349360"/>
            <a:ext cx="455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trategy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amp down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 target 977k €  (Set by PSR 19.01.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4760" y="3041640"/>
            <a:ext cx="5937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ifecycle volume planned for A60: 2’5 Mio units (M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urrent planning: 4’4 Mio uni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 Down Volumes (11/04-03/05): 945k Un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maining deliveries (01/05-03/05) : 434k Units</a:t>
            </a:r>
            <a:r>
              <a:rPr b="0" lang="en-GB" sz="1500" spc="-1" strike="noStrike">
                <a:solidFill>
                  <a:srgbClr val="56f53b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4760" y="4797360"/>
            <a:ext cx="5529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3 variants have been built 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 colours: stone, and the special colour silver for L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ales Volume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mitted M4 Volume EMEA and L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9000" y="12096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53000" y="1209600"/>
            <a:ext cx="1382400" cy="40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i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" y="1209600"/>
            <a:ext cx="344484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ons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7320" y="1209600"/>
            <a:ext cx="14130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1520" y="185904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0040" y="1798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EM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28880" y="1798560"/>
            <a:ext cx="1392480" cy="37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0" y="1798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59.100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21520" y="231768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662880" y="1798560"/>
            <a:ext cx="768240" cy="360360"/>
            <a:chOff x="6662880" y="1798560"/>
            <a:chExt cx="768240" cy="360360"/>
          </a:xfrm>
        </p:grpSpPr>
        <p:sp>
          <p:nvSpPr>
            <p:cNvPr id="148" name=""/>
            <p:cNvSpPr/>
            <p:nvPr/>
          </p:nvSpPr>
          <p:spPr>
            <a:xfrm>
              <a:off x="6662880" y="179856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40640" y="188928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62760" y="188928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1080" y="188928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0040" y="2257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LAM (Brazil/ Mercosur/ Mercon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28880" y="2257560"/>
            <a:ext cx="1392480" cy="36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1200" y="2257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5.900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7320" y="2749680"/>
            <a:ext cx="1419480" cy="504360"/>
            <a:chOff x="5197320" y="2749680"/>
            <a:chExt cx="1419480" cy="504360"/>
          </a:xfrm>
        </p:grpSpPr>
        <p:sp>
          <p:nvSpPr>
            <p:cNvPr id="156" name=""/>
            <p:cNvSpPr/>
            <p:nvPr/>
          </p:nvSpPr>
          <p:spPr>
            <a:xfrm>
              <a:off x="5197320" y="2894040"/>
              <a:ext cx="1416240" cy="36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5.0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7320" y="2749680"/>
              <a:ext cx="141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7320" y="282240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8200" y="5964120"/>
            <a:ext cx="2063520" cy="330120"/>
            <a:chOff x="268200" y="5964120"/>
            <a:chExt cx="2063520" cy="330120"/>
          </a:xfrm>
        </p:grpSpPr>
        <p:sp>
          <p:nvSpPr>
            <p:cNvPr id="160" name=""/>
            <p:cNvSpPr/>
            <p:nvPr/>
          </p:nvSpPr>
          <p:spPr>
            <a:xfrm>
              <a:off x="268200" y="596412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80" y="606240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4440" y="606240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94840" y="60624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4760" y="604980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2760" y="604980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120" y="604980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659640" y="2276640"/>
            <a:ext cx="768240" cy="360360"/>
            <a:chOff x="6659640" y="2276640"/>
            <a:chExt cx="768240" cy="360360"/>
          </a:xfrm>
        </p:grpSpPr>
        <p:sp>
          <p:nvSpPr>
            <p:cNvPr id="168" name=""/>
            <p:cNvSpPr/>
            <p:nvPr/>
          </p:nvSpPr>
          <p:spPr>
            <a:xfrm>
              <a:off x="6659640" y="2276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37400" y="236736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59520" y="236736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7840" y="236736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2600" y="4560840"/>
            <a:ext cx="6573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livered since 1. November 433k; Orders (conf./unconf.) 187k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39,1k (10,9k VHD)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080" y="4848120"/>
            <a:ext cx="5835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Delivered since 1. November 110,5k; Orders (conf./unconf.) 34k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141,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55640" y="11653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653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62120" y="4967280"/>
            <a:ext cx="911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W4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6720" y="18255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35000" y="1557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4080" y="4581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197000"/>
            <a:ext cx="7966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1480" y="4869000"/>
            <a:ext cx="74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am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9760" y="1600200"/>
            <a:ext cx="1079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in M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941720"/>
            <a:ext cx="973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 Risk CW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791320"/>
            <a:ext cx="7162920" cy="419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isk should be reduced to 977k € after negot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4935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5F Scrap risk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24648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869000"/>
            <a:ext cx="86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goti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2600" y="234936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89200" y="4869000"/>
            <a:ext cx="838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ed reduction since st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390840" y="1396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5760" y="5241960"/>
            <a:ext cx="145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Add.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334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gotiation   (GP and S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386160" y="5267160"/>
            <a:ext cx="3363840" cy="133560"/>
            <a:chOff x="3386160" y="5267160"/>
            <a:chExt cx="3363840" cy="133560"/>
          </a:xfrm>
        </p:grpSpPr>
        <p:sp>
          <p:nvSpPr>
            <p:cNvPr id="197" name=""/>
            <p:cNvSpPr/>
            <p:nvPr/>
          </p:nvSpPr>
          <p:spPr>
            <a:xfrm>
              <a:off x="33861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547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3092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3440" y="5334120"/>
              <a:ext cx="334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83280" y="1338120"/>
            <a:ext cx="1101600" cy="542160"/>
            <a:chOff x="6083280" y="1338120"/>
            <a:chExt cx="1101600" cy="542160"/>
          </a:xfrm>
        </p:grpSpPr>
        <p:sp>
          <p:nvSpPr>
            <p:cNvPr id="202" name=""/>
            <p:cNvSpPr/>
            <p:nvPr/>
          </p:nvSpPr>
          <p:spPr>
            <a:xfrm>
              <a:off x="6083280" y="1460160"/>
              <a:ext cx="228600" cy="15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3280" y="1650960"/>
              <a:ext cx="228600" cy="152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7840" y="133812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7840" y="152856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382920" y="4869000"/>
            <a:ext cx="973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nned Risk reduction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8284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272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3520" y="36399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3680" y="36432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844800"/>
            <a:ext cx="936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material transfer from Mexico to Zala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3k sil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new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88000" y="36622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3798720"/>
            <a:ext cx="79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Risk Global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isk should be reduced to 977k € 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(PSR Decision 19.01.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59160" y="32558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75080" y="2557440"/>
            <a:ext cx="1111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ditional target set by PSR     (50k €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43520" y="2781360"/>
            <a:ext cx="45216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92840" y="2070000"/>
            <a:ext cx="201924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M5F/V target set by Management to 977k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SR 19.0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18040" y="32972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5124600"/>
            <a:ext cx="8534160" cy="41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75840" y="516024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3476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63194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5120" y="5105520"/>
            <a:ext cx="23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to be shi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95760" y="51055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g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67560" y="51037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l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21337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VKL Overview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tock w/o orders (4,4k) is covered by Sales commitment. Some position will b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ewor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520" y="5589720"/>
            <a:ext cx="5867280" cy="532800"/>
            <a:chOff x="1676520" y="5589720"/>
            <a:chExt cx="5867280" cy="532800"/>
          </a:xfrm>
        </p:grpSpPr>
        <p:sp>
          <p:nvSpPr>
            <p:cNvPr id="230" name=""/>
            <p:cNvSpPr/>
            <p:nvPr/>
          </p:nvSpPr>
          <p:spPr>
            <a:xfrm>
              <a:off x="1676520" y="5589720"/>
              <a:ext cx="5867280" cy="532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VKL w/o orders is covered by Sales commit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and r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4360" y="5828040"/>
              <a:ext cx="47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76520" y="1295280"/>
            <a:ext cx="262728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K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70320" y="139212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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47640" y="2362320"/>
          <a:ext cx="2718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62320"/>
                    <a:ext cx="2718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19280" y="254808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3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1040" y="4444920"/>
            <a:ext cx="363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  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2b5d"/>
                </a:solidFill>
                <a:latin typeface="Arial"/>
              </a:rPr>
              <a:t>w/o DCO, stock V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21337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4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40960" y="3807000"/>
            <a:ext cx="43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7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4360" y="21463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7440" y="1308240"/>
            <a:ext cx="26272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1240" y="140508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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768920" y="2374920"/>
          <a:ext cx="271764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8920" y="2374920"/>
                    <a:ext cx="27176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829560" y="21463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2240" y="3819600"/>
            <a:ext cx="388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3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9920" y="226044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0,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09480" y="314316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nc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Business Cas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rojected Profit 3’8 mio Euro lower than planned at M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960" y="459756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" y="380520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960" y="326880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" y="2693880"/>
            <a:ext cx="6450120" cy="447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960" y="213372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9800" y="1654200"/>
            <a:ext cx="133884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3432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/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‘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’4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2480" y="1557360"/>
            <a:ext cx="6166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1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4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" y="1565280"/>
            <a:ext cx="1798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00120" y="1557360"/>
            <a:ext cx="7642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1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8400" y="1557360"/>
            <a:ext cx="72936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4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2136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/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5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’9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878440"/>
            <a:ext cx="74883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*Based on product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P&amp;L Statements (Oct 03 - Nov 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** incl. 5‘6 mio Euro in FY02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M1 data not available as product was redefined to A60 and C60 after 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1773360"/>
            <a:ext cx="1871640" cy="1008000"/>
          </a:xfrm>
          <a:prstGeom prst="wedgeRectCallout">
            <a:avLst>
              <a:gd name="adj1" fmla="val -71287"/>
              <a:gd name="adj2" fmla="val 144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HK per unit 3,57 € lower than planned at 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(M3: 60,55, M4: 56,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068640"/>
            <a:ext cx="7316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78000" y="1562040"/>
          <a:ext cx="7816680" cy="33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62040"/>
                    <a:ext cx="78166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factor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parison of Ramp Dow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07:34Z</dcterms:created>
  <dc:creator>Apel Regina</dc:creator>
  <dc:description/>
  <dc:language>en-US</dc:language>
  <cp:lastModifiedBy> </cp:lastModifiedBy>
  <cp:lastPrinted>2003-08-25T10:48:39Z</cp:lastPrinted>
  <dcterms:modified xsi:type="dcterms:W3CDTF">2005-01-20T11:02:11Z</dcterms:modified>
  <cp:revision>745</cp:revision>
  <dc:subject/>
  <dc:title>C45 EoL – Status   MP Steering Board Sales/Delivery</dc:title>
</cp:coreProperties>
</file>