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6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ftr" idx="7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 type="sldNum" idx="8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83F-61E7-4866-BF62-A27A6448EF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32" idx="0"/>
            <a:endCxn id="632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4" name=""/>
          <p:cNvCxnSpPr>
            <a:stCxn id="632" idx="2"/>
            <a:endCxn id="632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7" idx="0"/>
            <a:endCxn id="637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9" name=""/>
          <p:cNvCxnSpPr>
            <a:stCxn id="637" idx="2"/>
            <a:endCxn id="637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E7E9-7560-4D4F-85B5-5DADD0BC4D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10FB-FF0F-47EB-9FB5-95C728EF2C1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Swif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May 04,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laceHolder 3"/>
            <p:cNvSpPr>
              <a:spLocks noGrp="1"/>
            </p:cNvSpPr>
            <p:nvPr>
              <p:ph type="ftr" idx="2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484360" y="646128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FAADD19B-E514-41E7-945C-B909B4268E50}" type="datetime"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0DFB20BC-AA6D-481B-90B4-3988D658CB0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2280" y="6461280"/>
            <a:ext cx="1270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3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D PBM PG85 BA, T. Keller, Apr 19th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Polari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5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888A0A7B-F123-43B3-8C1B-682DADC67175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C630D2EE-3178-4B0E-B03F-E37D056551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stk32042eng&amp;s=ImageDetailSearchState%7C3%7C5%7C0%7C15%7C2%7C1%7C0%7C0%7C1%7C38%7C60%7C2ed3.d7c5.03ff.e000.002f.76f0%7C16%7C0%7C(%22Adolescence%3AConcepts%22+and+%22Group+Of+People%3APeople%22)+or+(%22Friendship%3AConcepts%22+and+%22Group+Of+People%3APeople%22)+or+(%22Adolescence%3AConcepts%22+and+%22Organized+Group%3AMan+Made%22)+or+(%22Peeking%3ALooking%22+and+%22Group+Of+People%3APeople%22)+or+(%22Friendship%3AConcepts%22+and+%22Organized+Group%3AMan+Made%22)%7C%7C1%7C0&amp;pk=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creative.gettyimages.com/source/search/ImageEnlarge.aspx?MasterID=200153221-006&amp;s=ImageDetailSearchState%7C3%7C1%7C0%7C15%7C2%7C1%7C0%7C0%7C1%7C23%7C60%7C2ed3.d7c5.03ff.e000.002f.76b0.00e0%7C20%7C0%7C(%22Fashion%3ATopics%22+and+%22Fashion%22)+or+(%22Elegance%3AConcepts%22+and+%22Fashion%22)%7C%7C1%7C0&amp;pk=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creative.gettyimages.com/source/search/ImageEnlarge.aspx?MasterID=ec1544-002&amp;s=ImageDetailSearchState%7C3%7C1%7C0%7C15%7C2%7C1%7C0%7C0%7C1%7C2%7C60%7C2ed3.d7c5.03ff.e000.002f.76b0.00e0%7C16%7C0%7C%22People%22+and+%22shopping+bags%22%7C%7C1%7C0&amp;pk=6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99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23640" y="562428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       A. Hauenstei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BA  D. Stäh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23640" y="32846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m&amp;Brillia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,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5,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up: 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187280" y="1339920"/>
          <a:ext cx="6553080" cy="4881600"/>
        </p:xfrm>
        <a:graphic>
          <a:graphicData uri="http://schemas.openxmlformats.org/drawingml/2006/table">
            <a:tbl>
              <a:tblPr/>
              <a:tblGrid>
                <a:gridCol w="1150920"/>
                <a:gridCol w="2900520"/>
                <a:gridCol w="554040"/>
                <a:gridCol w="938160"/>
                <a:gridCol w="1009440"/>
              </a:tblGrid>
              <a:tr h="1677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-Gate Ax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escription of Measur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olidated and regular update of power management progress for the platform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 Evaluation of alternative accessory concept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) CR for SW solution in phone has to be confirmed and implemen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reduction Work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check volumes/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Marketing spend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arate platform cost from R&amp;D c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-negotiation of BOM with supplier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egotiation suc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conversion costs an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ion spl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 SW milestones with 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antenna performance at B1, B1+, 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resources for RDP (e.g. keypa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sh forward HW timeline and align with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timeline as soon as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planning with detailed plan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ckup: Timeline impact for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18960" y="1125360"/>
            <a:ext cx="9410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ase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24440" y="2165400"/>
            <a:ext cx="384840" cy="762120"/>
            <a:chOff x="424440" y="2165400"/>
            <a:chExt cx="384840" cy="762120"/>
          </a:xfrm>
        </p:grpSpPr>
        <p:sp>
          <p:nvSpPr>
            <p:cNvPr id="554" name=""/>
            <p:cNvSpPr/>
            <p:nvPr/>
          </p:nvSpPr>
          <p:spPr>
            <a:xfrm>
              <a:off x="426960" y="256716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444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94520" y="2165400"/>
            <a:ext cx="511200" cy="762120"/>
            <a:chOff x="794520" y="2165400"/>
            <a:chExt cx="511200" cy="762120"/>
          </a:xfrm>
        </p:grpSpPr>
        <p:sp>
          <p:nvSpPr>
            <p:cNvPr id="557" name=""/>
            <p:cNvSpPr/>
            <p:nvPr/>
          </p:nvSpPr>
          <p:spPr>
            <a:xfrm>
              <a:off x="860400" y="2567160"/>
              <a:ext cx="36000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520" y="2165400"/>
              <a:ext cx="51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4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719720" y="2165400"/>
            <a:ext cx="384840" cy="762120"/>
            <a:chOff x="1719720" y="2165400"/>
            <a:chExt cx="384840" cy="762120"/>
          </a:xfrm>
        </p:grpSpPr>
        <p:sp>
          <p:nvSpPr>
            <p:cNvPr id="560" name=""/>
            <p:cNvSpPr/>
            <p:nvPr/>
          </p:nvSpPr>
          <p:spPr>
            <a:xfrm>
              <a:off x="1722600" y="2567160"/>
              <a:ext cx="36000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1972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1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5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29520" y="5157720"/>
            <a:ext cx="1526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estimated 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100240" y="3286080"/>
            <a:ext cx="360360" cy="784080"/>
            <a:chOff x="2100240" y="3286080"/>
            <a:chExt cx="360360" cy="784080"/>
          </a:xfrm>
        </p:grpSpPr>
        <p:sp>
          <p:nvSpPr>
            <p:cNvPr id="564" name=""/>
            <p:cNvSpPr/>
            <p:nvPr/>
          </p:nvSpPr>
          <p:spPr>
            <a:xfrm>
              <a:off x="2100240" y="370980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90680" y="328608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763800" y="3311640"/>
            <a:ext cx="360360" cy="784080"/>
            <a:chOff x="3763800" y="3311640"/>
            <a:chExt cx="360360" cy="784080"/>
          </a:xfrm>
        </p:grpSpPr>
        <p:sp>
          <p:nvSpPr>
            <p:cNvPr id="567" name=""/>
            <p:cNvSpPr/>
            <p:nvPr/>
          </p:nvSpPr>
          <p:spPr>
            <a:xfrm>
              <a:off x="3763800" y="3735360"/>
              <a:ext cx="36036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54240" y="33116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9" name=""/>
          <p:cNvCxnSpPr>
            <a:stCxn id="554" idx="2"/>
            <a:endCxn id="564" idx="1"/>
          </p:cNvCxnSpPr>
          <p:nvPr/>
        </p:nvCxnSpPr>
        <p:spPr>
          <a:xfrm flipH="1" rot="16200000">
            <a:off x="871560" y="2662920"/>
            <a:ext cx="964080" cy="149292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0" idx="2"/>
            <a:endCxn id="567" idx="0"/>
          </p:cNvCxnSpPr>
          <p:nvPr/>
        </p:nvCxnSpPr>
        <p:spPr>
          <a:xfrm flipH="1" rot="16200000">
            <a:off x="2519280" y="2310480"/>
            <a:ext cx="808560" cy="2042280"/>
          </a:xfrm>
          <a:prstGeom prst="bentConnector3">
            <a:avLst>
              <a:gd name="adj1" fmla="val 4988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1" name=""/>
          <p:cNvGrpSpPr/>
          <p:nvPr/>
        </p:nvGrpSpPr>
        <p:grpSpPr>
          <a:xfrm>
            <a:off x="2548080" y="3281400"/>
            <a:ext cx="360360" cy="784080"/>
            <a:chOff x="2548080" y="3281400"/>
            <a:chExt cx="360360" cy="784080"/>
          </a:xfrm>
        </p:grpSpPr>
        <p:sp>
          <p:nvSpPr>
            <p:cNvPr id="572" name=""/>
            <p:cNvSpPr/>
            <p:nvPr/>
          </p:nvSpPr>
          <p:spPr>
            <a:xfrm>
              <a:off x="2548080" y="3705120"/>
              <a:ext cx="36036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36720" y="328140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978200" y="4276800"/>
            <a:ext cx="401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32400" y="4276800"/>
            <a:ext cx="645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1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 08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24240" y="4276800"/>
            <a:ext cx="635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6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35320" y="5621400"/>
            <a:ext cx="8430480" cy="615960"/>
            <a:chOff x="535320" y="5621400"/>
            <a:chExt cx="8430480" cy="615960"/>
          </a:xfrm>
        </p:grpSpPr>
        <p:sp>
          <p:nvSpPr>
            <p:cNvPr id="578" name=""/>
            <p:cNvSpPr/>
            <p:nvPr/>
          </p:nvSpPr>
          <p:spPr>
            <a:xfrm>
              <a:off x="614160" y="5734080"/>
              <a:ext cx="82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35320" y="5621400"/>
              <a:ext cx="529560" cy="615960"/>
              <a:chOff x="535320" y="5621400"/>
              <a:chExt cx="529560" cy="615960"/>
            </a:xfrm>
          </p:grpSpPr>
          <p:sp>
            <p:nvSpPr>
              <p:cNvPr id="580" name=""/>
              <p:cNvSpPr/>
              <p:nvPr/>
            </p:nvSpPr>
            <p:spPr>
              <a:xfrm>
                <a:off x="535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2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189440" y="5621400"/>
              <a:ext cx="529560" cy="615960"/>
              <a:chOff x="1189440" y="5621400"/>
              <a:chExt cx="529560" cy="615960"/>
            </a:xfrm>
          </p:grpSpPr>
          <p:sp>
            <p:nvSpPr>
              <p:cNvPr id="583" name=""/>
              <p:cNvSpPr/>
              <p:nvPr/>
            </p:nvSpPr>
            <p:spPr>
              <a:xfrm>
                <a:off x="11894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4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6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845000" y="5621400"/>
              <a:ext cx="529560" cy="615960"/>
              <a:chOff x="1845000" y="5621400"/>
              <a:chExt cx="529560" cy="615960"/>
            </a:xfrm>
          </p:grpSpPr>
          <p:sp>
            <p:nvSpPr>
              <p:cNvPr id="586" name=""/>
              <p:cNvSpPr/>
              <p:nvPr/>
            </p:nvSpPr>
            <p:spPr>
              <a:xfrm>
                <a:off x="18450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5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7208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499120" y="5621400"/>
              <a:ext cx="529560" cy="615960"/>
              <a:chOff x="2499120" y="5621400"/>
              <a:chExt cx="529560" cy="615960"/>
            </a:xfrm>
          </p:grpSpPr>
          <p:sp>
            <p:nvSpPr>
              <p:cNvPr id="589" name=""/>
              <p:cNvSpPr/>
              <p:nvPr/>
            </p:nvSpPr>
            <p:spPr>
              <a:xfrm>
                <a:off x="24991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6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26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157560" y="5621400"/>
              <a:ext cx="544320" cy="579600"/>
              <a:chOff x="3157560" y="5621400"/>
              <a:chExt cx="544320" cy="579600"/>
            </a:xfrm>
          </p:grpSpPr>
          <p:sp>
            <p:nvSpPr>
              <p:cNvPr id="592" name=""/>
              <p:cNvSpPr/>
              <p:nvPr/>
            </p:nvSpPr>
            <p:spPr>
              <a:xfrm>
                <a:off x="3157560" y="6018120"/>
                <a:ext cx="544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7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81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3829320" y="5621400"/>
              <a:ext cx="529560" cy="615960"/>
              <a:chOff x="3829320" y="5621400"/>
              <a:chExt cx="529560" cy="615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829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8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56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484880" y="5621400"/>
              <a:ext cx="529560" cy="615960"/>
              <a:chOff x="4484880" y="5621400"/>
              <a:chExt cx="529560" cy="615960"/>
            </a:xfrm>
          </p:grpSpPr>
          <p:sp>
            <p:nvSpPr>
              <p:cNvPr id="598" name=""/>
              <p:cNvSpPr/>
              <p:nvPr/>
            </p:nvSpPr>
            <p:spPr>
              <a:xfrm>
                <a:off x="44848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9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119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140800" y="5621400"/>
              <a:ext cx="529560" cy="615960"/>
              <a:chOff x="5140800" y="5621400"/>
              <a:chExt cx="529560" cy="615960"/>
            </a:xfrm>
          </p:grpSpPr>
          <p:sp>
            <p:nvSpPr>
              <p:cNvPr id="601" name=""/>
              <p:cNvSpPr/>
              <p:nvPr/>
            </p:nvSpPr>
            <p:spPr>
              <a:xfrm>
                <a:off x="51408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0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67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794560" y="5621400"/>
              <a:ext cx="529560" cy="615960"/>
              <a:chOff x="5794560" y="5621400"/>
              <a:chExt cx="529560" cy="6159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9456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1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2164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450480" y="5621400"/>
              <a:ext cx="529560" cy="615960"/>
              <a:chOff x="6450480" y="5621400"/>
              <a:chExt cx="529560" cy="615960"/>
            </a:xfrm>
          </p:grpSpPr>
          <p:sp>
            <p:nvSpPr>
              <p:cNvPr id="607" name=""/>
              <p:cNvSpPr/>
              <p:nvPr/>
            </p:nvSpPr>
            <p:spPr>
              <a:xfrm>
                <a:off x="64504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2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77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7107120" y="5621400"/>
              <a:ext cx="544680" cy="579600"/>
              <a:chOff x="7107120" y="5621400"/>
              <a:chExt cx="544680" cy="579600"/>
            </a:xfrm>
          </p:grpSpPr>
          <p:sp>
            <p:nvSpPr>
              <p:cNvPr id="610" name=""/>
              <p:cNvSpPr/>
              <p:nvPr/>
            </p:nvSpPr>
            <p:spPr>
              <a:xfrm>
                <a:off x="7107120" y="6018120"/>
                <a:ext cx="54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1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31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780680" y="5621400"/>
              <a:ext cx="529560" cy="615960"/>
              <a:chOff x="7780680" y="5621400"/>
              <a:chExt cx="529560" cy="615960"/>
            </a:xfrm>
          </p:grpSpPr>
          <p:sp>
            <p:nvSpPr>
              <p:cNvPr id="613" name=""/>
              <p:cNvSpPr/>
              <p:nvPr/>
            </p:nvSpPr>
            <p:spPr>
              <a:xfrm>
                <a:off x="77806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2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907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436240" y="5621400"/>
              <a:ext cx="529560" cy="615960"/>
              <a:chOff x="8436240" y="5621400"/>
              <a:chExt cx="529560" cy="615960"/>
            </a:xfrm>
          </p:grpSpPr>
          <p:sp>
            <p:nvSpPr>
              <p:cNvPr id="616" name=""/>
              <p:cNvSpPr/>
              <p:nvPr/>
            </p:nvSpPr>
            <p:spPr>
              <a:xfrm>
                <a:off x="84362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563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"/>
          <p:cNvGrpSpPr/>
          <p:nvPr/>
        </p:nvGrpSpPr>
        <p:grpSpPr>
          <a:xfrm>
            <a:off x="8058600" y="2185920"/>
            <a:ext cx="384840" cy="762120"/>
            <a:chOff x="8058600" y="2185920"/>
            <a:chExt cx="384840" cy="762120"/>
          </a:xfrm>
        </p:grpSpPr>
        <p:sp>
          <p:nvSpPr>
            <p:cNvPr id="619" name=""/>
            <p:cNvSpPr/>
            <p:nvPr/>
          </p:nvSpPr>
          <p:spPr>
            <a:xfrm>
              <a:off x="8059680" y="25876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58600" y="218592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S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8066160" y="3305160"/>
            <a:ext cx="360360" cy="784080"/>
            <a:chOff x="8066160" y="3305160"/>
            <a:chExt cx="360360" cy="784080"/>
          </a:xfrm>
        </p:grpSpPr>
        <p:sp>
          <p:nvSpPr>
            <p:cNvPr id="622" name=""/>
            <p:cNvSpPr/>
            <p:nvPr/>
          </p:nvSpPr>
          <p:spPr>
            <a:xfrm>
              <a:off x="8066160" y="37288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54800" y="330516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998120" y="4248000"/>
            <a:ext cx="56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S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57" idx="2"/>
            <a:endCxn id="572" idx="0"/>
          </p:cNvCxnSpPr>
          <p:nvPr/>
        </p:nvCxnSpPr>
        <p:spPr>
          <a:xfrm flipH="1" rot="16200000">
            <a:off x="1495440" y="2472480"/>
            <a:ext cx="778320" cy="16880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2"/>
            <a:endCxn id="622" idx="0"/>
          </p:cNvCxnSpPr>
          <p:nvPr/>
        </p:nvCxnSpPr>
        <p:spPr>
          <a:xfrm flipH="1" rot="16200000">
            <a:off x="7853400" y="3334680"/>
            <a:ext cx="781560" cy="7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8172360" y="30639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4192920" y="-213768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 rot="16200000">
            <a:off x="4161240" y="88596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350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3044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512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722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2480" y="4402440"/>
            <a:ext cx="690084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lim slider with real metal finish (slimness: 16.3 mm; brushed aluminium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ery bright QVGA Display for optimal indoor &amp; outdoor readability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1.3 megapixel camera with improved LED flash; video play &amp; recording, 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treaming and progressive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>
            <a:hlinkClick r:id="rId1"/>
          </p:cNvPr>
          <p:cNvPicPr/>
          <p:nvPr/>
        </p:nvPicPr>
        <p:blipFill>
          <a:blip r:embed="rId2"/>
          <a:srcRect l="30966" t="0" r="0" b="0"/>
          <a:stretch/>
        </p:blipFill>
        <p:spPr>
          <a:xfrm>
            <a:off x="157320" y="1197000"/>
            <a:ext cx="1890720" cy="2376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3"/>
          </p:cNvPr>
          <p:cNvPicPr/>
          <p:nvPr/>
        </p:nvPicPr>
        <p:blipFill>
          <a:blip r:embed="rId4"/>
          <a:srcRect l="7989" t="0" r="0" b="22343"/>
          <a:stretch/>
        </p:blipFill>
        <p:spPr>
          <a:xfrm>
            <a:off x="4746600" y="1189080"/>
            <a:ext cx="1984320" cy="2384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rId5"/>
          </p:cNvPr>
          <p:cNvPicPr/>
          <p:nvPr/>
        </p:nvPicPr>
        <p:blipFill>
          <a:blip r:embed="rId6"/>
          <a:srcRect l="0" t="0" r="0" b="10356"/>
          <a:stretch/>
        </p:blipFill>
        <p:spPr>
          <a:xfrm>
            <a:off x="2373480" y="1182600"/>
            <a:ext cx="2016000" cy="23907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rId7"/>
          </p:cNvPr>
          <p:cNvPicPr/>
          <p:nvPr/>
        </p:nvPicPr>
        <p:blipFill>
          <a:blip r:embed="rId8"/>
          <a:srcRect l="0" t="10771" r="0" b="5538"/>
          <a:stretch/>
        </p:blipFill>
        <p:spPr>
          <a:xfrm>
            <a:off x="7091280" y="1189080"/>
            <a:ext cx="1890720" cy="237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6680" y="1947960"/>
            <a:ext cx="3270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 value slider design with metal finish (brushed alumin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mi-automatic slider mechanis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im (16,3 mm) and compa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ly ergonomic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5120" y="4602240"/>
            <a:ext cx="30229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munity services (e.g. blogging, my photos onli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installed video/audio clips,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ideo ring 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synchronisation &amp; visual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0320" y="4583160"/>
            <a:ext cx="302076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Stereo)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T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nge of Car Kit Bluetooth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avel Charger, 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c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200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2560" y="406404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0564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91240" y="1852560"/>
            <a:ext cx="33861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band (900/1800/19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VGA display, 2.0 inches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PRS/E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3 megapixel camera, L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deo play, record, stream,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P3, AAC, AAC+, AAC+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fied presence enhanced phone book, IMPS, P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56560" y="40640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>
            <a:hlinkClick r:id="rId1"/>
          </p:cNvPr>
          <p:cNvPicPr/>
          <p:nvPr/>
        </p:nvPicPr>
        <p:blipFill>
          <a:blip r:embed="rId2"/>
          <a:srcRect l="7989" t="0" r="0" b="42701"/>
          <a:stretch/>
        </p:blipFill>
        <p:spPr>
          <a:xfrm>
            <a:off x="3616200" y="1154160"/>
            <a:ext cx="1855800" cy="16444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rcRect l="9050" t="9587" r="0" b="34643"/>
          <a:stretch/>
        </p:blipFill>
        <p:spPr>
          <a:xfrm>
            <a:off x="3616200" y="4746600"/>
            <a:ext cx="1932120" cy="14875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rcRect l="0" t="26635" r="0" b="0"/>
          <a:stretch/>
        </p:blipFill>
        <p:spPr>
          <a:xfrm>
            <a:off x="3637080" y="2873520"/>
            <a:ext cx="1895400" cy="176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472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08360" y="4508640"/>
            <a:ext cx="5289480" cy="1630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9,31€ ASP, 100€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s readjusted to 2,5’ units (before 3,3’ units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refore no volume risk is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feedback from APMs. Confidence Level is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08360" y="3213000"/>
            <a:ext cx="5289480" cy="11156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eb26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2611"/>
                </a:solidFill>
                <a:latin typeface="Arial"/>
              </a:rPr>
              <a:t>- 19’2€ (- 5,9%, current) vs. +24’5€ (+7,5%, 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dence in correctness of figures, no confidence for reaching target 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08360" y="1074600"/>
            <a:ext cx="5289480" cy="20566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 product of the key product family in mid-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 of talk/standby time with other use cases may result in lower and potentially problematic levels of battery l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accessories are highly endangered due to side position of I/O connector; BT-stereo HS is endangered due to missing Gimmick c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able Market: 64’93 units, 3,9% 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55880" y="3909960"/>
            <a:ext cx="5241960" cy="14119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S planned for March 06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ighly endangered (risk up to 3 month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e to typical cycle time of 12 month and missing SW planning (SW - M0 in June 0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5880" y="5445000"/>
            <a:ext cx="5241960" cy="12193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Estimation Workshop not yet done due to overall SW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vera Plan risk due to open input on SW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55880" y="1292400"/>
            <a:ext cx="5241960" cy="22942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Milestones are not aligne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refore also the ST planning is o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tenna performance in closed condition (900 MHz) does not meet FBT requirements (-1,5d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ssing experience with Glued 12er keypad: problems are expected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roduction, lifetime and serv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’s only a single source for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503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85840"/>
            <a:ext cx="7539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ft - 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19’2 EUR or -5,9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280" y="1015920"/>
          <a:ext cx="34038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15920"/>
                    <a:ext cx="3403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0840" y="6721560"/>
            <a:ext cx="707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BoM figures w/o variant adder (2% of BOM), but VA included in HK pos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1103400"/>
            <a:ext cx="5324400" cy="7128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70200" y="1879560"/>
            <a:ext cx="5299200" cy="45626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90000"/>
              </a:lnSpc>
              <a:spcBef>
                <a:spcPts val="28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no M-Alpha milest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Volumes cover the regions EMEA, LAM, APA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aunch price at EUR 155,-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hase out price EUR 100,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eturn Rate: 10,08%; Cost per Return: 42,95 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&amp;D: Direct R&amp;D costs of 12,5m EUR, plus ‘direct platform costs‘ of 10,8m EUR considered (1/6 of X75/85G SG2 Rel.1 and 1/7 of SG2 Rel.2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arcom: push 5€ per unit. This  considers Swift as lead product of the C class until final budget decision. If Swift than won‘t longer be the lead product, reduction of push budget by 2€ per unit = savings of 5‘0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EBIT of -19,2m EUR or -5,9% of turnov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Product: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440" y="120636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4673520" y="1181160"/>
          <a:ext cx="4254480" cy="456516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30168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’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9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9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3’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3,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7840" y="1181160"/>
          <a:ext cx="4330800" cy="456228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’5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243000" y="5803920"/>
            <a:ext cx="1417680" cy="6206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4280" y="5803920"/>
            <a:ext cx="7173720" cy="61272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egative EBIT: € -19‘166 = -5,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heck all cost positions, Revise NES befor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Swift shows a Profit of -19,2m EUR (-5,9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1440" y="1138320"/>
            <a:ext cx="8601120" cy="51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69800" y="1371600"/>
          <a:ext cx="82044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371600"/>
                    <a:ext cx="82044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2440" y="1405080"/>
            <a:ext cx="790992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M0 declaration (all departments except PD SW and depen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ing on S0 and M1 work pac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view (incl. Q-Gate) as soon as full M0 maturity rea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y measures as on separate chart (see: back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ew impact of SW M0 delay: worst case up to 3 months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d product for mid-end product family (Swift, Ibis, Hummingbird) would be missing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 dropping more than 6 mill. units volu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 of 96.3 mill€ sales margin for Swift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638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97360" y="561168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57480" y="542124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16360" y="5527800"/>
            <a:ext cx="294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Alfred Hauenstein</cp:lastModifiedBy>
  <dcterms:modified xsi:type="dcterms:W3CDTF">2005-05-03T16:19:02Z</dcterms:modified>
  <cp:revision>93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4994084</vt:r8>
  </property>
  <property fmtid="{D5CDD505-2E9C-101B-9397-08002B2CF9AE}" pid="3" name="_AuthorEmail">
    <vt:lpwstr>alfred.hauenstein@siemens.com</vt:lpwstr>
  </property>
  <property fmtid="{D5CDD505-2E9C-101B-9397-08002B2CF9AE}" pid="4" name="_AuthorEmailDisplayName">
    <vt:lpwstr>Hauenstein Alfred Com MD PBM PG85</vt:lpwstr>
  </property>
  <property fmtid="{D5CDD505-2E9C-101B-9397-08002B2CF9AE}" pid="5" name="_EmailSubject">
    <vt:lpwstr>Swift + 85 Generation overview charts für PSR</vt:lpwstr>
  </property>
</Properties>
</file>