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media/image8.wmf" ContentType="image/x-wmf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742113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742800" cy="988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2"/>
          </p:nvPr>
        </p:nvSpPr>
        <p:spPr>
          <a:xfrm>
            <a:off x="3819600" y="-36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902880" y="740880"/>
            <a:ext cx="4940280" cy="370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74640" y="4857480"/>
            <a:ext cx="5394240" cy="42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3"/>
          </p:nvPr>
        </p:nvSpPr>
        <p:spPr>
          <a:xfrm>
            <a:off x="0" y="938664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4"/>
          </p:nvPr>
        </p:nvSpPr>
        <p:spPr>
          <a:xfrm>
            <a:off x="3819600" y="938664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5C2FC9C6-6AAF-438C-8746-CF3A76A15C74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74640" y="4857480"/>
            <a:ext cx="5394240" cy="42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10200" y="4543560"/>
            <a:ext cx="1943640" cy="189360"/>
          </a:xfrm>
          <a:prstGeom prst="leftRightArrow">
            <a:avLst>
              <a:gd name="adj1" fmla="val 100000"/>
              <a:gd name="adj2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40" rIns="10440" tIns="648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1" lang="de-DE" sz="1200" spc="-1" strike="noStrike">
                <a:solidFill>
                  <a:srgbClr val="9e1d3e"/>
                </a:solidFill>
                <a:latin typeface="Arial"/>
              </a:rPr>
              <a:t>STRICTL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0"/>
            <a:endCxn id="235" idx="1"/>
          </p:cNvCxnSpPr>
          <p:nvPr/>
        </p:nvCxnSpPr>
        <p:spPr>
          <a:xfrm>
            <a:off x="579240" y="4543200"/>
            <a:ext cx="2005560" cy="1080"/>
          </a:xfrm>
          <a:prstGeom prst="straightConnector1">
            <a:avLst/>
          </a:prstGeom>
          <a:ln w="19080">
            <a:solidFill>
              <a:srgbClr val="9e1d3e"/>
            </a:solidFill>
            <a:miter/>
          </a:ln>
        </p:spPr>
      </p:cxnSp>
      <p:cxnSp>
        <p:nvCxnSpPr>
          <p:cNvPr id="237" name=""/>
          <p:cNvCxnSpPr>
            <a:stCxn id="235" idx="2"/>
            <a:endCxn id="235" idx="3"/>
          </p:cNvCxnSpPr>
          <p:nvPr/>
        </p:nvCxnSpPr>
        <p:spPr>
          <a:xfrm>
            <a:off x="579240" y="4741560"/>
            <a:ext cx="2005560" cy="1080"/>
          </a:xfrm>
          <a:prstGeom prst="straightConnector1">
            <a:avLst/>
          </a:prstGeom>
          <a:ln w="19080">
            <a:solidFill>
              <a:srgbClr val="9e1d3e"/>
            </a:solidFill>
            <a:miter/>
          </a:ln>
        </p:spPr>
      </p:cxn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3819600" y="938664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1DEC18D5-496C-4BC6-9716-C3C4147310F6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0" y="938664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0" y="-36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819600" y="-36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74640" y="4856040"/>
            <a:ext cx="539424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50160" y="4543560"/>
            <a:ext cx="1941480" cy="189360"/>
          </a:xfrm>
          <a:prstGeom prst="leftRightArrow">
            <a:avLst>
              <a:gd name="adj1" fmla="val 100000"/>
              <a:gd name="adj2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" rIns="10080" tIns="648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de-DE" sz="1200" spc="-1" strike="noStrike">
                <a:solidFill>
                  <a:srgbClr val="9e1d3e"/>
                </a:solidFill>
                <a:latin typeface="Arial"/>
              </a:rPr>
              <a:t>STRICTL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65" idx="0"/>
            <a:endCxn id="265" idx="1"/>
          </p:cNvCxnSpPr>
          <p:nvPr/>
        </p:nvCxnSpPr>
        <p:spPr>
          <a:xfrm>
            <a:off x="657000" y="4543200"/>
            <a:ext cx="1927800" cy="1080"/>
          </a:xfrm>
          <a:prstGeom prst="straightConnector1">
            <a:avLst/>
          </a:prstGeom>
          <a:ln w="19080">
            <a:solidFill>
              <a:srgbClr val="9e1d3e"/>
            </a:solidFill>
            <a:miter/>
          </a:ln>
        </p:spPr>
      </p:cxnSp>
      <p:cxnSp>
        <p:nvCxnSpPr>
          <p:cNvPr id="267" name=""/>
          <p:cNvCxnSpPr>
            <a:stCxn id="265" idx="2"/>
            <a:endCxn id="265" idx="3"/>
          </p:cNvCxnSpPr>
          <p:nvPr/>
        </p:nvCxnSpPr>
        <p:spPr>
          <a:xfrm>
            <a:off x="657000" y="4733640"/>
            <a:ext cx="1927800" cy="1080"/>
          </a:xfrm>
          <a:prstGeom prst="straightConnector1">
            <a:avLst/>
          </a:prstGeom>
          <a:ln w="19080">
            <a:solidFill>
              <a:srgbClr val="9e1d3e"/>
            </a:solidFill>
            <a:miter/>
          </a:ln>
        </p:spPr>
      </p:cxn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3819600" y="938664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030678DB-3EEB-4C11-9FD0-B502B2A62A04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0" y="938664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-36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3819600" y="-36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74640" y="4856040"/>
            <a:ext cx="539424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59520" y="4541760"/>
            <a:ext cx="1941480" cy="189360"/>
          </a:xfrm>
          <a:prstGeom prst="leftRightArrow">
            <a:avLst>
              <a:gd name="adj1" fmla="val 100000"/>
              <a:gd name="adj2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" rIns="10080" tIns="648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de-DE" sz="1200" spc="-1" strike="noStrike">
                <a:solidFill>
                  <a:srgbClr val="9e1d3e"/>
                </a:solidFill>
                <a:latin typeface="Arial"/>
              </a:rPr>
              <a:t>STRICTL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74" idx="0"/>
            <a:endCxn id="274" idx="1"/>
          </p:cNvCxnSpPr>
          <p:nvPr/>
        </p:nvCxnSpPr>
        <p:spPr>
          <a:xfrm>
            <a:off x="674280" y="4541400"/>
            <a:ext cx="1911960" cy="1080"/>
          </a:xfrm>
          <a:prstGeom prst="straightConnector1">
            <a:avLst/>
          </a:prstGeom>
          <a:ln w="19080">
            <a:solidFill>
              <a:srgbClr val="9e1d3e"/>
            </a:solidFill>
            <a:miter/>
          </a:ln>
        </p:spPr>
      </p:cxnSp>
      <p:cxnSp>
        <p:nvCxnSpPr>
          <p:cNvPr id="276" name=""/>
          <p:cNvCxnSpPr>
            <a:stCxn id="274" idx="2"/>
            <a:endCxn id="274" idx="3"/>
          </p:cNvCxnSpPr>
          <p:nvPr/>
        </p:nvCxnSpPr>
        <p:spPr>
          <a:xfrm>
            <a:off x="674280" y="4747680"/>
            <a:ext cx="1911960" cy="1080"/>
          </a:xfrm>
          <a:prstGeom prst="straightConnector1">
            <a:avLst/>
          </a:prstGeom>
          <a:ln w="19080">
            <a:solidFill>
              <a:srgbClr val="9e1d3e"/>
            </a:solidFill>
            <a:miter/>
          </a:ln>
        </p:spPr>
      </p:cxn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3819600" y="938664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96A13859-18B3-4FEE-8F6A-C63155433BA9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0" y="938664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0" y="-36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3819600" y="-36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74640" y="5011560"/>
            <a:ext cx="539424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755640" y="4664160"/>
            <a:ext cx="2617920" cy="348840"/>
            <a:chOff x="755640" y="4664160"/>
            <a:chExt cx="2617920" cy="348840"/>
          </a:xfrm>
        </p:grpSpPr>
        <p:sp>
          <p:nvSpPr>
            <p:cNvPr id="284" name=""/>
            <p:cNvSpPr/>
            <p:nvPr/>
          </p:nvSpPr>
          <p:spPr>
            <a:xfrm>
              <a:off x="755640" y="4664160"/>
              <a:ext cx="2617920" cy="3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720" tIns="0" bIns="45360" anchor="t">
              <a:spAutoFit/>
            </a:bodyPr>
            <a:p>
              <a:pPr algn="ctr">
                <a:lnSpc>
                  <a:spcPts val="2387"/>
                </a:lnSpc>
                <a:spcBef>
                  <a:spcPts val="1001"/>
                </a:spcBef>
                <a:tabLst>
                  <a:tab algn="l" pos="0"/>
                  <a:tab algn="l" pos="907920"/>
                  <a:tab algn="l" pos="1816200"/>
                  <a:tab algn="l" pos="2724120"/>
                  <a:tab algn="l" pos="3632040"/>
                  <a:tab algn="l" pos="4540320"/>
                  <a:tab algn="l" pos="5448240"/>
                  <a:tab algn="l" pos="6356520"/>
                  <a:tab algn="l" pos="7264440"/>
                  <a:tab algn="l" pos="8172360"/>
                  <a:tab algn="l" pos="9080640"/>
                  <a:tab algn="l" pos="9988560"/>
                  <a:tab algn="l" pos="1089648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STRICTLY CONFIDENTI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55640" y="4664160"/>
              <a:ext cx="2543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360" tIns="-4500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55640" y="4988880"/>
              <a:ext cx="2543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360" tIns="-4500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3819600" y="938664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24527F82-80A1-42C6-BBBE-AC4278963628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0" y="938664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-36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819600" y="-36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946080" y="766800"/>
            <a:ext cx="4910040" cy="36828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26640" y="4680000"/>
            <a:ext cx="4946760" cy="44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3819600" y="938664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C7D63981-5B51-4F92-8AB1-BE4048EBB774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0" y="938664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-36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819600" y="-36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946080" y="766800"/>
            <a:ext cx="4910040" cy="36828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26640" y="4680000"/>
            <a:ext cx="4946760" cy="44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3819600" y="938664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14BF7AD5-B0BF-4ADB-9394-EA66B61B14E2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0" y="938664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-36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819600" y="-36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74640" y="4856040"/>
            <a:ext cx="539424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50160" y="4543560"/>
            <a:ext cx="1941480" cy="189360"/>
          </a:xfrm>
          <a:prstGeom prst="leftRightArrow">
            <a:avLst>
              <a:gd name="adj1" fmla="val 100000"/>
              <a:gd name="adj2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" rIns="10080" tIns="648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de-DE" sz="1200" spc="-1" strike="noStrike">
                <a:solidFill>
                  <a:srgbClr val="9e1d3e"/>
                </a:solidFill>
                <a:latin typeface="Arial"/>
              </a:rPr>
              <a:t>STRICTL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7" name=""/>
          <p:cNvCxnSpPr>
            <a:stCxn id="256" idx="0"/>
            <a:endCxn id="256" idx="1"/>
          </p:cNvCxnSpPr>
          <p:nvPr/>
        </p:nvCxnSpPr>
        <p:spPr>
          <a:xfrm>
            <a:off x="657000" y="4543200"/>
            <a:ext cx="1927800" cy="1080"/>
          </a:xfrm>
          <a:prstGeom prst="straightConnector1">
            <a:avLst/>
          </a:prstGeom>
          <a:ln w="19080">
            <a:solidFill>
              <a:srgbClr val="9e1d3e"/>
            </a:solidFill>
            <a:miter/>
          </a:ln>
        </p:spPr>
      </p:cxnSp>
      <p:cxnSp>
        <p:nvCxnSpPr>
          <p:cNvPr id="258" name=""/>
          <p:cNvCxnSpPr>
            <a:stCxn id="256" idx="2"/>
            <a:endCxn id="256" idx="3"/>
          </p:cNvCxnSpPr>
          <p:nvPr/>
        </p:nvCxnSpPr>
        <p:spPr>
          <a:xfrm>
            <a:off x="657000" y="4733640"/>
            <a:ext cx="1927800" cy="1080"/>
          </a:xfrm>
          <a:prstGeom prst="straightConnector1">
            <a:avLst/>
          </a:prstGeom>
          <a:ln w="19080">
            <a:solidFill>
              <a:srgbClr val="9e1d3e"/>
            </a:solidFill>
            <a:miter/>
          </a:ln>
        </p:spPr>
      </p:cxn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14000" y="364968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64104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54340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244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1400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54340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467244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64104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14000" y="364968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64104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54340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244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1400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54340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467244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64104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2000" y="154080"/>
            <a:ext cx="881856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53820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7174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7174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7174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345960" y="6442200"/>
            <a:ext cx="1255680" cy="28260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3"/>
          <p:cNvSpPr>
            <a:spLocks noGrp="1"/>
          </p:cNvSpPr>
          <p:nvPr>
            <p:ph type="ftr" idx="1"/>
          </p:nvPr>
        </p:nvSpPr>
        <p:spPr>
          <a:xfrm>
            <a:off x="2177640" y="6453000"/>
            <a:ext cx="6553080" cy="2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</a:t>
            </a:r>
            <a:fld id="{06BD45F6-D29F-43B2-AA8D-416B731C542A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2000" y="154080"/>
            <a:ext cx="8818560" cy="26445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2000" y="2924280"/>
            <a:ext cx="8818560" cy="16383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2920" y="3050640"/>
            <a:ext cx="831816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14280" y="6122880"/>
            <a:ext cx="2054160" cy="4572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440" indent="0"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81080" algn="ctr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360360" algn="ctr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539640" algn="ctr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53964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53964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62000" y="152280"/>
            <a:ext cx="8813880" cy="26542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12920" y="3050640"/>
            <a:ext cx="831816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rius    “Entertainment goes outdoor”</a:t>
            </a:r>
            <a:br>
              <a:rPr sz="3200"/>
            </a:br>
            <a:r>
              <a:rPr b="1" lang="en-GB" sz="3200" spc="-1" strike="noStrike">
                <a:solidFill>
                  <a:srgbClr val="d46028"/>
                </a:solidFill>
                <a:latin typeface="Arial"/>
              </a:rPr>
              <a:t>Product Status Report at S25/M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12920" y="4184280"/>
            <a:ext cx="8318160" cy="2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SR, 4th May 2005 – Confidential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12920" y="4641840"/>
            <a:ext cx="369252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>
              <a:lnSpc>
                <a:spcPct val="9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M. Mildenberger (SPM), Gregor Flüge (PLT), J. Jungbauer (SPM BA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rcRect l="7219" t="11624" r="6563" b="3231"/>
          <a:stretch/>
        </p:blipFill>
        <p:spPr>
          <a:xfrm>
            <a:off x="88920" y="0"/>
            <a:ext cx="8926560" cy="6872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Siemens Com MD; March 2005; Confidential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757872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d46028"/>
                </a:solidFill>
                <a:latin typeface="Arial"/>
              </a:rPr>
              <a:t>MTA still shows a delivery start as agreed at M1 (28th Jun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d460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M7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rcRect l="664" t="15086" r="490" b="5412"/>
          <a:stretch/>
        </p:blipFill>
        <p:spPr>
          <a:xfrm>
            <a:off x="223920" y="1098720"/>
            <a:ext cx="8459640" cy="5303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Siemens Com MD; March 2005; Confidential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493560" y="222120"/>
            <a:ext cx="7391520" cy="7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d46028"/>
                </a:solidFill>
                <a:latin typeface="Arial"/>
              </a:rPr>
              <a:t>R&amp;D Spending Siri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0" y="1038240"/>
          <a:ext cx="6581880" cy="2790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38240"/>
                    <a:ext cx="6581880" cy="27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685800" y="4505400"/>
          <a:ext cx="5410080" cy="18860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4505400"/>
                    <a:ext cx="5410080" cy="18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6515280" y="1295280"/>
            <a:ext cx="2438280" cy="39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mment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ount: E981-059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0 declared 23.06.200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1 declared 11.11.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3 planned 17.08.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orts after M3: 0‘16 Mio. €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K-Facto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3/04: 2,5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4/05: 1,9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e of FC: 10.03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d460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M7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Siemens Com MD; March 2005; Confidential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d46028"/>
                </a:solidFill>
                <a:latin typeface="Arial"/>
              </a:rPr>
              <a:t>Product highligh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62000" y="1108080"/>
            <a:ext cx="2900160" cy="7221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2920" y="1413000"/>
            <a:ext cx="1201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Key Featur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80040" y="1108080"/>
            <a:ext cx="2900520" cy="7221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331320" y="1413000"/>
            <a:ext cx="1069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3990960" y="1122480"/>
            <a:ext cx="1162080" cy="231588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d460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M7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14360" y="1957320"/>
            <a:ext cx="264780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Siemens Protection SystemTM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Shock, splash water and dust resistant (IP54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Media player (music &amp; video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RS MultiMediaCard slot (card and headset bundled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Push and Talk (PaT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62000" y="1165320"/>
            <a:ext cx="2900160" cy="7221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12920" y="1413000"/>
            <a:ext cx="1201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Key Featur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332400" y="1957320"/>
            <a:ext cx="2648160" cy="13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Integrated 1.3-megapixel camer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Video recording &amp; play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262K colour display, TF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3D Java engin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RS MultiMediaCard slo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Bluetooth</a:t>
            </a:r>
            <a:r>
              <a:rPr b="0" lang="en-GB" sz="1300" spc="-1" strike="noStrike" baseline="30000">
                <a:solidFill>
                  <a:srgbClr val="000000"/>
                </a:solidFill>
                <a:latin typeface="Arial"/>
              </a:rPr>
              <a:t>®</a:t>
            </a: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, GPRS Class 1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080040" y="1165320"/>
            <a:ext cx="2900520" cy="7221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331320" y="1413000"/>
            <a:ext cx="1069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14360" y="4354560"/>
            <a:ext cx="2647800" cy="11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Superior outdoor bar phon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Robust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igh value finish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uthentic materials (metal frame and rubber protected sides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2000" y="3560760"/>
            <a:ext cx="2900160" cy="7221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14000" y="3807000"/>
            <a:ext cx="636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Desig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373560" y="4354560"/>
            <a:ext cx="2647800" cy="63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Mobile Music Se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Wide range of Headsets and </a:t>
            </a:r>
            <a:br>
              <a:rPr sz="1300"/>
            </a:b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Car Solu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121200" y="3560760"/>
            <a:ext cx="2900160" cy="7221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372120" y="3808440"/>
            <a:ext cx="1128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Accessori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332400" y="4354560"/>
            <a:ext cx="2648160" cy="107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lnSpc>
                <a:spcPct val="100000"/>
              </a:lnSpc>
              <a:spcBef>
                <a:spcPts val="16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3D Java games and </a:t>
            </a:r>
            <a:br>
              <a:rPr sz="1300"/>
            </a:b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multiplayer games via Bluetooth</a:t>
            </a:r>
            <a:r>
              <a:rPr b="0" lang="en-GB" sz="1300" spc="-1" strike="noStrike" baseline="30000">
                <a:solidFill>
                  <a:srgbClr val="000000"/>
                </a:solidFill>
                <a:latin typeface="Arial"/>
              </a:rPr>
              <a:t>®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6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Themes, Download Assistan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6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Instant messag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Weather forecas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080040" y="3560760"/>
            <a:ext cx="2900520" cy="7221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330600" y="3807000"/>
            <a:ext cx="1145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Siemens Com MD; March 2005; Confidential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d46028"/>
                </a:solidFill>
                <a:latin typeface="Arial"/>
              </a:rPr>
              <a:t>Entertainment Goes Outdo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633760" y="1165320"/>
            <a:ext cx="432900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ejoice in music and video entertainment in all circumstances with this robust phone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633760" y="2981160"/>
            <a:ext cx="4329000" cy="48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Male more than femal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Mid to high incom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633760" y="3657600"/>
            <a:ext cx="4332240" cy="20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Outdoor activities have a very high priority for them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y expect robustness and reliability in their mobile devic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y want mobile devices to fit to travel, adventure and leisure activities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They enjoy using mobile devices with a variety of multimedia and technologically innovative features</a:t>
            </a:r>
            <a:r>
              <a:rPr b="0" lang="en-GB" sz="15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633760" y="2247840"/>
            <a:ext cx="4329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M-Class, Outdoo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rcRect l="2523" t="1522" r="2523" b="1764"/>
          <a:stretch/>
        </p:blipFill>
        <p:spPr>
          <a:xfrm>
            <a:off x="7091280" y="1646280"/>
            <a:ext cx="1882800" cy="382572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7093080" y="154080"/>
            <a:ext cx="915840" cy="880920"/>
          </a:xfrm>
          <a:prstGeom prst="rect">
            <a:avLst/>
          </a:prstGeom>
          <a:solidFill>
            <a:srgbClr val="d460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Arial"/>
              </a:rPr>
              <a:t>Product Idea,</a:t>
            </a:r>
            <a:br>
              <a:rPr sz="900"/>
            </a:br>
            <a:r>
              <a:rPr b="1" lang="en-GB" sz="900" spc="-1" strike="noStrike">
                <a:solidFill>
                  <a:srgbClr val="ffffff"/>
                </a:solidFill>
                <a:latin typeface="Arial"/>
              </a:rPr>
              <a:t>Target Grou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d460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M7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62000" y="1165320"/>
            <a:ext cx="2270160" cy="7221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14360" y="1413000"/>
            <a:ext cx="1954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Product Ide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2000" y="2000160"/>
            <a:ext cx="2270160" cy="7225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2000" y="2828880"/>
            <a:ext cx="2270160" cy="7225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2000" y="3657600"/>
            <a:ext cx="2270160" cy="7221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14360" y="2246400"/>
            <a:ext cx="1954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Product Seg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14360" y="2976480"/>
            <a:ext cx="19540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Target Group</a:t>
            </a:r>
            <a:br>
              <a:rPr sz="1500"/>
            </a:b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Socio-demographic Dat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14360" y="3805200"/>
            <a:ext cx="19540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Target Group</a:t>
            </a:r>
            <a:br>
              <a:rPr sz="1500"/>
            </a:b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Behavioural Aspe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Siemens Com MD; March 2005; Confidential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515880" y="1562040"/>
            <a:ext cx="7945560" cy="351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tIns="0" anchor="t">
            <a:spAutoFit/>
          </a:bodyPr>
          <a:p>
            <a:pPr marL="182520" indent="-1825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2b5d"/>
                </a:solidFill>
                <a:latin typeface="Arial"/>
              </a:rPr>
              <a:t>__________________ </a:t>
            </a:r>
            <a:r>
              <a:rPr b="1" lang="en-GB" sz="1500" spc="-1" strike="noStrike">
                <a:solidFill>
                  <a:srgbClr val="002b5d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2b5d"/>
                </a:solidFill>
                <a:latin typeface="Arial"/>
              </a:rPr>
              <a:t> __________________</a:t>
            </a:r>
            <a:r>
              <a:rPr b="1" lang="en-GB" sz="1500" spc="-1" strike="noStrike">
                <a:solidFill>
                  <a:srgbClr val="002b5d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2b5d"/>
                </a:solidFill>
                <a:latin typeface="Arial"/>
              </a:rPr>
              <a:t> __________________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2b5d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2b5d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2b5d"/>
                </a:solidFill>
                <a:latin typeface="Arial"/>
              </a:rPr>
              <a:t>SPM</a:t>
            </a:r>
            <a:r>
              <a:rPr b="1" lang="en-GB" sz="1500" spc="-1" strike="noStrike">
                <a:solidFill>
                  <a:srgbClr val="002b5d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2b5d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2b5d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2b5d"/>
                </a:solidFill>
                <a:latin typeface="Arial"/>
              </a:rPr>
              <a:t>PLT</a:t>
            </a:r>
            <a:r>
              <a:rPr b="1" lang="en-GB" sz="1500" spc="-1" strike="noStrike">
                <a:solidFill>
                  <a:srgbClr val="002b5d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2b5d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2b5d"/>
                </a:solidFill>
                <a:latin typeface="Arial"/>
              </a:rPr>
              <a:t>           SPM B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2b5d"/>
                </a:solidFill>
                <a:latin typeface="Arial"/>
              </a:rPr>
              <a:t>__________________</a:t>
            </a:r>
            <a:r>
              <a:rPr b="1" lang="en-GB" sz="1500" spc="-1" strike="noStrike">
                <a:solidFill>
                  <a:srgbClr val="002b5d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2b5d"/>
                </a:solidFill>
                <a:latin typeface="Arial"/>
              </a:rPr>
              <a:t>__________________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2b5d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2b5d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2b5d"/>
                </a:solidFill>
                <a:latin typeface="Arial"/>
              </a:rPr>
              <a:t>SD</a:t>
            </a:r>
            <a:r>
              <a:rPr b="1" lang="en-GB" sz="1500" spc="-1" strike="noStrike">
                <a:solidFill>
                  <a:srgbClr val="002b5d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2b5d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2b5d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2b5d"/>
                </a:solidFill>
                <a:latin typeface="Arial"/>
              </a:rPr>
              <a:t>Q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51240" y="2109960"/>
            <a:ext cx="1666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gned, M. Mildenber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7840" y="5310360"/>
            <a:ext cx="843732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2b5d"/>
                </a:solidFill>
                <a:latin typeface="Arial"/>
              </a:rPr>
              <a:t>Due to a decision from last PSR all extended core team members have to commit to the content of this presentation and “virtually” sign the presentation! Please send mail to SPM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70560" y="2146320"/>
            <a:ext cx="1235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gned, G. Flue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73280" y="2146320"/>
            <a:ext cx="1448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gned, J. Jungbau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46880" y="4083120"/>
            <a:ext cx="1046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igned, Z. Kir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07200" y="4056120"/>
            <a:ext cx="1155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gned, M. F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30040" y="291600"/>
            <a:ext cx="6553440" cy="6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46028"/>
                </a:solidFill>
                <a:latin typeface="Arial"/>
              </a:rPr>
              <a:t>This document is review and agreed by the extended Sirius REA Tea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d460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M7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612240" y="4065480"/>
            <a:ext cx="1166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gned, K. Zlatk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Siemens Com MD; March 2005; Confidential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r" pos="6553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46028"/>
                </a:solidFill>
                <a:latin typeface="Arial"/>
              </a:rPr>
              <a:t>Quality Gate Rating Sirius</a:t>
            </a:r>
            <a:r>
              <a:rPr b="1" lang="en-US" sz="2000" spc="-1" strike="noStrike">
                <a:solidFill>
                  <a:srgbClr val="d46028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d46028"/>
                </a:solidFill>
                <a:latin typeface="Arial"/>
              </a:rPr>
              <a:t>1/2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us S25/M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720960" y="1301760"/>
            <a:ext cx="749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71640" bIns="-716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d460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M7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705120" y="1233360"/>
            <a:ext cx="5289480" cy="645120"/>
          </a:xfrm>
          <a:prstGeom prst="rect">
            <a:avLst/>
          </a:prstGeom>
          <a:solidFill>
            <a:srgbClr val="e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trategy F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eature set and position are o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708360" y="2030400"/>
            <a:ext cx="5289480" cy="1328760"/>
          </a:xfrm>
          <a:prstGeom prst="rect">
            <a:avLst/>
          </a:prstGeom>
          <a:solidFill>
            <a:srgbClr val="e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rofitabi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M2: Profit +11’0€ (+7.21%) vs. M1: +24'7€ (10.1%,)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based on 813k units and 200€ CRP launch price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absolute Profit deviation: -55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Low confidence in Business Case due to price/volum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741240" y="2509920"/>
            <a:ext cx="2233440" cy="2208240"/>
            <a:chOff x="741240" y="2509920"/>
            <a:chExt cx="2233440" cy="2208240"/>
          </a:xfrm>
        </p:grpSpPr>
        <p:sp>
          <p:nvSpPr>
            <p:cNvPr id="116" name=""/>
            <p:cNvSpPr/>
            <p:nvPr/>
          </p:nvSpPr>
          <p:spPr>
            <a:xfrm>
              <a:off x="741240" y="2514960"/>
              <a:ext cx="2233440" cy="2203200"/>
            </a:xfrm>
            <a:prstGeom prst="ellipse">
              <a:avLst/>
            </a:prstGeom>
            <a:solidFill>
              <a:srgbClr val="00ff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050840" y="2810160"/>
              <a:ext cx="1614240" cy="16146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384200" y="3144960"/>
              <a:ext cx="949320" cy="9414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888840" y="3075120"/>
              <a:ext cx="1942920" cy="1082880"/>
            </a:xfrm>
            <a:prstGeom prst="line">
              <a:avLst/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900000" y="3054600"/>
              <a:ext cx="1927080" cy="1119240"/>
            </a:xfrm>
            <a:prstGeom prst="line">
              <a:avLst/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1860120" y="2509920"/>
              <a:ext cx="4680" cy="2208240"/>
            </a:xfrm>
            <a:prstGeom prst="line">
              <a:avLst/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1362240" y="2192400"/>
            <a:ext cx="10234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fit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778120" y="4226040"/>
            <a:ext cx="7016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2b2b2"/>
                </a:solidFill>
                <a:latin typeface="Arial"/>
                <a:ea typeface="Arial"/>
              </a:rPr>
              <a:t>Project</a:t>
            </a:r>
            <a:br>
              <a:rPr sz="1200"/>
            </a:br>
            <a:r>
              <a:rPr b="1" lang="en-GB" sz="1200" spc="-1" strike="noStrike">
                <a:solidFill>
                  <a:srgbClr val="b2b2b2"/>
                </a:solidFill>
                <a:latin typeface="Arial"/>
                <a:ea typeface="Arial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726640" y="2612880"/>
            <a:ext cx="8128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Sales F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7280" y="4226040"/>
            <a:ext cx="8024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2b2b2"/>
                </a:solidFill>
                <a:latin typeface="Arial"/>
                <a:ea typeface="Arial"/>
              </a:rPr>
              <a:t>Product </a:t>
            </a:r>
            <a:br>
              <a:rPr sz="1200"/>
            </a:br>
            <a:r>
              <a:rPr b="1" lang="en-GB" sz="1200" spc="-1" strike="noStrike">
                <a:solidFill>
                  <a:srgbClr val="b2b2b2"/>
                </a:solidFill>
                <a:latin typeface="Arial"/>
                <a:ea typeface="Arial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79280" y="2535120"/>
            <a:ext cx="120996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Strate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F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224720" y="4797360"/>
            <a:ext cx="12762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2b2b2"/>
                </a:solidFill>
                <a:latin typeface="Arial"/>
                <a:ea typeface="Arial"/>
              </a:rPr>
              <a:t>Time-to-Mar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732120" y="3546360"/>
            <a:ext cx="5289480" cy="2907720"/>
          </a:xfrm>
          <a:prstGeom prst="rect">
            <a:avLst/>
          </a:prstGeom>
          <a:solidFill>
            <a:srgbClr val="e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ales F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Launch CRP 200€; </a:t>
            </a:r>
            <a:br>
              <a:rPr sz="1500"/>
            </a:b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price risks: WE &amp; EE 13%, MEA &amp; APAC 8.5%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ff0000"/>
                </a:solidFill>
                <a:latin typeface="Arial"/>
              </a:rPr>
              <a:t>540k units (current demand planning) vs. 813k units (in Business Case)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vs. 1’35 units (M1) </a:t>
            </a:r>
            <a:r>
              <a:rPr b="0" lang="en-GB" sz="15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34% volume risk in BC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ll areas: Keys too small, bulky appearance, proportions between display and housing is wro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WE,EE,MEA: Capacity of MMC is too low (32 vs. 128 MB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WE: Java music player does not work due to a  problem in JAVA implementation (not required in M1)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519200" y="3344760"/>
            <a:ext cx="6904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</a:rPr>
              <a:t>Q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37400" y="5773680"/>
            <a:ext cx="3094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ating Meeting: 21-Apr-05 (update 2-May-05)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SO support: Dr. M. Ass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84240" y="3103560"/>
            <a:ext cx="1447920" cy="1163520"/>
          </a:xfrm>
          <a:custGeom>
            <a:avLst/>
            <a:gdLst/>
            <a:ahLst/>
            <a:rect l="l" t="t" r="r" b="b"/>
            <a:pathLst>
              <a:path w="912" h="733">
                <a:moveTo>
                  <a:pt x="548" y="733"/>
                </a:moveTo>
                <a:lnTo>
                  <a:pt x="912" y="526"/>
                </a:lnTo>
                <a:lnTo>
                  <a:pt x="738" y="218"/>
                </a:lnTo>
                <a:lnTo>
                  <a:pt x="559" y="118"/>
                </a:lnTo>
                <a:lnTo>
                  <a:pt x="0" y="0"/>
                </a:lnTo>
                <a:lnTo>
                  <a:pt x="202" y="520"/>
                </a:lnTo>
                <a:lnTo>
                  <a:pt x="548" y="733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Siemens Com MD; March 2005; Confidential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r" pos="6553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46028"/>
                </a:solidFill>
                <a:latin typeface="Arial"/>
              </a:rPr>
              <a:t>Quality Gate Rating Sirius </a:t>
            </a:r>
            <a:r>
              <a:rPr b="1" lang="en-US" sz="2000" spc="-1" strike="noStrike">
                <a:solidFill>
                  <a:srgbClr val="d46028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d46028"/>
                </a:solidFill>
                <a:latin typeface="Arial"/>
              </a:rPr>
              <a:t>2/2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us S25/M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720960" y="1301760"/>
            <a:ext cx="749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71640" bIns="-716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d460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M7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290600" y="2435400"/>
            <a:ext cx="10234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2b2b2"/>
                </a:solidFill>
                <a:latin typeface="Arial"/>
                <a:ea typeface="Arial"/>
              </a:rPr>
              <a:t>Profit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706840" y="4468680"/>
            <a:ext cx="7016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ject</a:t>
            </a:r>
            <a:br>
              <a:rPr sz="1200"/>
            </a:b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655000" y="2855880"/>
            <a:ext cx="8128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2b2b2"/>
                </a:solidFill>
                <a:latin typeface="Arial"/>
                <a:ea typeface="Arial"/>
              </a:rPr>
              <a:t>Sales F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5640" y="4468680"/>
            <a:ext cx="8024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duct </a:t>
            </a:r>
            <a:br>
              <a:rPr sz="1200"/>
            </a:b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08000" y="2778120"/>
            <a:ext cx="120960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2b2b2"/>
                </a:solidFill>
                <a:latin typeface="Arial"/>
                <a:ea typeface="Arial"/>
              </a:rPr>
              <a:t>Strate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2b2b2"/>
                </a:solidFill>
                <a:latin typeface="Arial"/>
                <a:ea typeface="Arial"/>
              </a:rPr>
              <a:t>F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153440" y="5040360"/>
            <a:ext cx="12762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Time-to-Mar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736800" y="2795760"/>
            <a:ext cx="5241960" cy="1443240"/>
          </a:xfrm>
          <a:prstGeom prst="rect">
            <a:avLst/>
          </a:prstGeom>
          <a:solidFill>
            <a:srgbClr val="e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ime-to-Mar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TM delay of up to 1.5 weeks expected due to the same reasons as Phoeni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S3:  25-May-05 (no delay in Primavera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DS: 28-Jun-05 (no delay in Primavera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736800" y="4473720"/>
            <a:ext cx="5241960" cy="1167480"/>
          </a:xfrm>
          <a:prstGeom prst="rect">
            <a:avLst/>
          </a:prstGeom>
          <a:solidFill>
            <a:srgbClr val="e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roject Qua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PD: partly missing skills in English, communication, project management and know-how about organis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Still insufficient SW resources to improve TTM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736800" y="1177920"/>
            <a:ext cx="5241960" cy="1443240"/>
          </a:xfrm>
          <a:prstGeom prst="rect">
            <a:avLst/>
          </a:prstGeom>
          <a:solidFill>
            <a:srgbClr val="e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roduct Qua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ll features are implemented and ready to tes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Dust on the display is not sufficient for IP54, ye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Cycling time in production is to high due to SW work- around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669960" y="2752560"/>
            <a:ext cx="2233440" cy="2208240"/>
            <a:chOff x="669960" y="2752560"/>
            <a:chExt cx="2233440" cy="2208240"/>
          </a:xfrm>
        </p:grpSpPr>
        <p:sp>
          <p:nvSpPr>
            <p:cNvPr id="146" name=""/>
            <p:cNvSpPr/>
            <p:nvPr/>
          </p:nvSpPr>
          <p:spPr>
            <a:xfrm>
              <a:off x="669960" y="2757600"/>
              <a:ext cx="2233440" cy="2203200"/>
            </a:xfrm>
            <a:prstGeom prst="ellipse">
              <a:avLst/>
            </a:prstGeom>
            <a:solidFill>
              <a:srgbClr val="00ff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79560" y="3052800"/>
              <a:ext cx="1614240" cy="16146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312920" y="3387600"/>
              <a:ext cx="949320" cy="9414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817560" y="3317760"/>
              <a:ext cx="1942920" cy="1082880"/>
            </a:xfrm>
            <a:prstGeom prst="line">
              <a:avLst/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28720" y="3297240"/>
              <a:ext cx="1927080" cy="1119240"/>
            </a:xfrm>
            <a:prstGeom prst="line">
              <a:avLst/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1788840" y="2752560"/>
              <a:ext cx="4680" cy="2208240"/>
            </a:xfrm>
            <a:prstGeom prst="line">
              <a:avLst/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1447920" y="3587760"/>
            <a:ext cx="6904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</a:rPr>
              <a:t>Q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65760" y="6016680"/>
            <a:ext cx="3094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ating Meeting: 21-Apr-05 (update 2-May-05)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SO support: Dr. M. Ass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12960" y="3346560"/>
            <a:ext cx="1447560" cy="1163520"/>
          </a:xfrm>
          <a:custGeom>
            <a:avLst/>
            <a:gdLst/>
            <a:ahLst/>
            <a:rect l="l" t="t" r="r" b="b"/>
            <a:pathLst>
              <a:path w="912" h="733">
                <a:moveTo>
                  <a:pt x="548" y="733"/>
                </a:moveTo>
                <a:lnTo>
                  <a:pt x="912" y="526"/>
                </a:lnTo>
                <a:lnTo>
                  <a:pt x="738" y="218"/>
                </a:lnTo>
                <a:lnTo>
                  <a:pt x="559" y="118"/>
                </a:lnTo>
                <a:lnTo>
                  <a:pt x="0" y="0"/>
                </a:lnTo>
                <a:lnTo>
                  <a:pt x="202" y="520"/>
                </a:lnTo>
                <a:lnTo>
                  <a:pt x="548" y="733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Siemens Com MD; March 2005; Confidential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468360" y="333360"/>
            <a:ext cx="753912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d46028"/>
                </a:solidFill>
                <a:latin typeface="Arial"/>
              </a:rPr>
              <a:t>Comparison Business Case</a:t>
            </a:r>
            <a:br>
              <a:rPr sz="2400"/>
            </a:b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Current Business Case of Sirius indicates a Profit of – 1’7 (-1.2%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d460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M7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510080" y="1855800"/>
            <a:ext cx="4516560" cy="4381560"/>
          </a:xfrm>
          <a:prstGeom prst="rect">
            <a:avLst/>
          </a:prstGeom>
          <a:solidFill>
            <a:srgbClr val="afc2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Autofit/>
          </a:bodyPr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Lifecyc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ill M1 assumptions (06/05 – 05/0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Units</a:t>
            </a:r>
            <a:r>
              <a:rPr b="1" lang="de-DE" sz="12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elta: +0’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2: DP 04/05;  Actual: PBM Input in ROF 05/05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 u="sng">
                <a:solidFill>
                  <a:srgbClr val="000000"/>
                </a:solidFill>
                <a:uFillTx/>
                <a:latin typeface="Arial"/>
              </a:rPr>
              <a:t>ASP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lta: - € 17.0/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2: M1 price line;  Actual: QPM 04/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HK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crease M2 and Actual due to lower quantities (tooling inves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CCQ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ill M1 assump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R&amp;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lta: +1.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2: R&amp;D Forecast 03/05; Actual: new indirect cost facto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Marco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ill M1 assumptions (2’5 + 5% of T/O + 5 €/pc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492800" y="1190520"/>
            <a:ext cx="4462200" cy="654120"/>
          </a:xfrm>
          <a:prstGeom prst="rect">
            <a:avLst/>
          </a:prstGeom>
          <a:solidFill>
            <a:srgbClr val="87b8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eviation Analysis M2 vs. Actu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131760" y="1177920"/>
          <a:ext cx="4148280" cy="4873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1760" y="1177920"/>
                    <a:ext cx="414828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Siemens Com MD; March 2005; Confidential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66560" y="279360"/>
            <a:ext cx="655344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d46028"/>
                </a:solidFill>
                <a:latin typeface="Arial"/>
              </a:rPr>
              <a:t>Proposed next step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d460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M7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00160" y="1362240"/>
            <a:ext cx="7974000" cy="12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tIns="0" anchor="t">
            <a:noAutofit/>
          </a:bodyPr>
          <a:p>
            <a:pPr marL="358920" indent="-179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D to set up crisis management team to lead the SW bug fixing process, PSR and MD board support in nominating a dedicated project leader for this ta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179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lyze details regarding software quality and expected return r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179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aluate potential TTM delay / loss of volumes in case software targets have to be reach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179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ent decision proposal to management latest end of M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38120" y="5073480"/>
            <a:ext cx="34113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t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SR agrees to propos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92240" y="5572080"/>
            <a:ext cx="380880" cy="304920"/>
          </a:xfrm>
          <a:prstGeom prst="rect">
            <a:avLst/>
          </a:prstGeom>
          <a:solidFill>
            <a:srgbClr val="bad1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463840" y="5572080"/>
            <a:ext cx="380880" cy="304920"/>
          </a:xfrm>
          <a:prstGeom prst="rect">
            <a:avLst/>
          </a:prstGeom>
          <a:solidFill>
            <a:srgbClr val="bad1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503360" y="5607000"/>
            <a:ext cx="5662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t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969280" y="5602320"/>
            <a:ext cx="4305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t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57480" y="5411880"/>
            <a:ext cx="921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t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Siemens Com MD; March 2005; Confidential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630072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d46028"/>
                </a:solidFill>
                <a:latin typeface="Arial"/>
              </a:rPr>
              <a:t>Backu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d460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M7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Siemens Com MD; March 2005; Confidential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d46028"/>
                </a:solidFill>
                <a:latin typeface="Arial"/>
              </a:rPr>
              <a:t>Measures, Responsibilities and Due Dat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212760" y="1155600"/>
          <a:ext cx="8764560" cy="5762880"/>
        </p:xfrm>
        <a:graphic>
          <a:graphicData uri="http://schemas.openxmlformats.org/drawingml/2006/table">
            <a:tbl>
              <a:tblPr/>
              <a:tblGrid>
                <a:gridCol w="1284120"/>
                <a:gridCol w="4461120"/>
                <a:gridCol w="664920"/>
                <a:gridCol w="601920"/>
                <a:gridCol w="1752480"/>
              </a:tblGrid>
              <a:tr h="344160">
                <a:tc>
                  <a:txBody>
                    <a:bodyPr lIns="0" rIns="0" tIns="0" bIns="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-Gate Ax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0e3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asu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0e3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u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0e3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0e3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ponsi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0e3"/>
                    </a:solidFill>
                  </a:tcPr>
                </a:tc>
              </a:tr>
              <a:tr h="412200">
                <a:tc>
                  <a:txBody>
                    <a:bodyPr lIns="0" rIns="0" tIns="0" bIns="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ategy Fi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080">
                <a:tc>
                  <a:txBody>
                    <a:bodyPr lIns="0" rIns="0" tIns="0" bIns="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fitabi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>
                  <a:txBody>
                    <a:bodyPr lIns="0" rIns="0" tIns="0" bIns="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les Fi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6200">
                <a:tc>
                  <a:txBody>
                    <a:bodyPr lIns="0" rIns="0" tIns="0" bIns="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ct Qua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st on display: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root cause is potentially the cushion. A new cushion will reduce or solve probl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92160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ftware: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Cycle time 2 seconds too long due to lots of workarounds. This will reduce capacity if not solv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92160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ystick: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p to 40% of all joystick caps falls off after the assembly and a short time of use. Improvements are defined and will be tested until End of cw19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92160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ystick: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% failure rate in customer test, under evalu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y 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1280">
                <a:tc>
                  <a:txBody>
                    <a:bodyPr lIns="0" rIns="0" tIns="0" bIns="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1280">
                <a:tc>
                  <a:txBody>
                    <a:bodyPr lIns="0" rIns="0" tIns="0" bIns="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ct Qua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92160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0560">
                <a:tc>
                  <a:txBody>
                    <a:bodyPr lIns="0" rIns="0" tIns="0" bIns="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th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7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d460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M7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Siemens Com MD; March 2005; Confidential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rcRect l="7050" t="10348" r="6563" b="4538"/>
          <a:stretch/>
        </p:blipFill>
        <p:spPr>
          <a:xfrm>
            <a:off x="88920" y="0"/>
            <a:ext cx="8899560" cy="6835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Siemens Com MD; March 2005; Confidential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/>
  <dc:description/>
  <dc:language>en-US</dc:language>
  <cp:lastModifiedBy>Marco Mildenberger</cp:lastModifiedBy>
  <cp:lastPrinted>2005-01-13T16:58:42Z</cp:lastPrinted>
  <dcterms:modified xsi:type="dcterms:W3CDTF">2005-05-04T08:06:26Z</dcterms:modified>
  <cp:revision>535</cp:revision>
  <dc:subject/>
  <dc:title>PowerPoint Presentation</dc:title>
</cp:coreProperties>
</file>