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18640" y="759960"/>
            <a:ext cx="52657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1040" y="4637160"/>
            <a:ext cx="50166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3"/>
          </p:nvPr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781200" y="733320"/>
            <a:ext cx="5295600" cy="366732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644720"/>
            <a:ext cx="5486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0A1A-9136-49D9-A07B-C0F0DB391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2886-60CC-48DE-8EAC-BE0ACAA26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AD76-339C-457B-AC38-B4DA4AE44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90EA-660C-48F6-B4E1-D593E3268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81F7-6A2A-484C-AC6A-1AFDE8058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5F4B-B591-4B2F-9EB6-E89E8E54E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88D7-EB85-4956-B596-104C43C5C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D3EE-7295-44E0-A389-5A0E41528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88B3-AC47-47A9-B886-473568F39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8FCA-1030-4B71-B4F0-0E46BB0F7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3E9F-D4CE-4EF7-96BD-97AD45166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C5B8-3A6F-4D83-ACC8-E97F0D3CD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10480" y="6237360"/>
            <a:ext cx="1843200" cy="588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1000" y="179280"/>
            <a:ext cx="9202680" cy="892440"/>
          </a:xfrm>
          <a:custGeom>
            <a:avLst/>
            <a:gdLst/>
            <a:ahLst/>
            <a:rect l="l" t="t" r="r" b="b"/>
            <a:pathLst>
              <a:path w="5351" h="719">
                <a:moveTo>
                  <a:pt x="5171" y="0"/>
                </a:moveTo>
                <a:lnTo>
                  <a:pt x="0" y="0"/>
                </a:lnTo>
                <a:lnTo>
                  <a:pt x="0" y="719"/>
                </a:lnTo>
                <a:lnTo>
                  <a:pt x="5351" y="719"/>
                </a:lnTo>
                <a:lnTo>
                  <a:pt x="5351" y="180"/>
                </a:lnTo>
                <a:lnTo>
                  <a:pt x="517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622920" y="6462720"/>
            <a:ext cx="725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400E92-0B3C-4CDF-B934-7480F08791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1555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47800" indent="-15552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McK Legend Boxes"/>
          <p:cNvGrpSpPr/>
          <p:nvPr/>
        </p:nvGrpSpPr>
        <p:grpSpPr>
          <a:xfrm>
            <a:off x="8443800" y="1547640"/>
            <a:ext cx="1081800" cy="984960"/>
            <a:chOff x="8443800" y="1547640"/>
            <a:chExt cx="1081800" cy="984960"/>
          </a:xfrm>
        </p:grpSpPr>
        <p:sp>
          <p:nvSpPr>
            <p:cNvPr id="6" name="" hidden="1"/>
            <p:cNvSpPr/>
            <p:nvPr/>
          </p:nvSpPr>
          <p:spPr>
            <a:xfrm>
              <a:off x="8443800" y="1562040"/>
              <a:ext cx="362880" cy="183960"/>
            </a:xfrm>
            <a:prstGeom prst="rect">
              <a:avLst/>
            </a:prstGeom>
            <a:solidFill>
              <a:srgbClr val="6ca4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 hidden="1"/>
            <p:cNvSpPr/>
            <p:nvPr/>
          </p:nvSpPr>
          <p:spPr>
            <a:xfrm>
              <a:off x="8443800" y="1819080"/>
              <a:ext cx="362880" cy="184320"/>
            </a:xfrm>
            <a:prstGeom prst="rect">
              <a:avLst/>
            </a:prstGeom>
            <a:solidFill>
              <a:srgbClr val="a4d2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 hidden="1"/>
            <p:cNvSpPr/>
            <p:nvPr/>
          </p:nvSpPr>
          <p:spPr>
            <a:xfrm>
              <a:off x="8930520" y="15476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 hidden="1"/>
            <p:cNvSpPr/>
            <p:nvPr/>
          </p:nvSpPr>
          <p:spPr>
            <a:xfrm>
              <a:off x="8930520" y="18050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 hidden="1"/>
            <p:cNvSpPr/>
            <p:nvPr/>
          </p:nvSpPr>
          <p:spPr>
            <a:xfrm>
              <a:off x="8930520" y="20620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 hidden="1"/>
            <p:cNvSpPr/>
            <p:nvPr/>
          </p:nvSpPr>
          <p:spPr>
            <a:xfrm>
              <a:off x="8443800" y="2076480"/>
              <a:ext cx="362880" cy="183960"/>
            </a:xfrm>
            <a:prstGeom prst="rect">
              <a:avLst/>
            </a:prstGeom>
            <a:solidFill>
              <a:srgbClr val="d460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 hidden="1"/>
            <p:cNvSpPr/>
            <p:nvPr/>
          </p:nvSpPr>
          <p:spPr>
            <a:xfrm>
              <a:off x="8930520" y="231912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 hidden="1"/>
            <p:cNvSpPr/>
            <p:nvPr/>
          </p:nvSpPr>
          <p:spPr>
            <a:xfrm>
              <a:off x="8443800" y="2333520"/>
              <a:ext cx="362880" cy="184320"/>
            </a:xfrm>
            <a:prstGeom prst="rect">
              <a:avLst/>
            </a:prstGeom>
            <a:solidFill>
              <a:srgbClr val="9e1d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McK Slide Elements"/>
          <p:cNvGrpSpPr/>
          <p:nvPr/>
        </p:nvGrpSpPr>
        <p:grpSpPr>
          <a:xfrm>
            <a:off x="495360" y="1547640"/>
            <a:ext cx="9324720" cy="5175360"/>
            <a:chOff x="495360" y="1547640"/>
            <a:chExt cx="9324720" cy="5175360"/>
          </a:xfrm>
        </p:grpSpPr>
        <p:sp>
          <p:nvSpPr>
            <p:cNvPr id="15" name="McK Measure" hidden="1"/>
            <p:cNvSpPr/>
            <p:nvPr/>
          </p:nvSpPr>
          <p:spPr>
            <a:xfrm>
              <a:off x="495360" y="1547640"/>
              <a:ext cx="775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McK Footnote" hidden="1"/>
            <p:cNvSpPr/>
            <p:nvPr/>
          </p:nvSpPr>
          <p:spPr>
            <a:xfrm>
              <a:off x="1439280" y="6570360"/>
              <a:ext cx="600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r" pos="5724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McK Source" hidden="1"/>
            <p:cNvSpPr/>
            <p:nvPr/>
          </p:nvSpPr>
          <p:spPr>
            <a:xfrm rot="16200000">
              <a:off x="7874280" y="4530960"/>
              <a:ext cx="373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5720" indent="-585720">
                <a:lnSpc>
                  <a:spcPct val="100000"/>
                </a:lnSpc>
                <a:tabLst>
                  <a:tab algn="l" pos="0"/>
                  <a:tab algn="r" pos="5446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342320" y="650700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viewer0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2787480"/>
            <a:ext cx="7207200" cy="10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2"/>
          </p:nvPr>
        </p:nvSpPr>
        <p:spPr>
          <a:xfrm>
            <a:off x="9170640" y="36360"/>
            <a:ext cx="3906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54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66680" indent="-37440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22360" indent="-395280"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" y="3009960"/>
            <a:ext cx="9202680" cy="1257120"/>
          </a:xfrm>
          <a:custGeom>
            <a:avLst/>
            <a:gdLst/>
            <a:ahLst/>
            <a:rect l="l" t="t" r="r" b="b"/>
            <a:pathLst>
              <a:path w="5351" h="1010">
                <a:moveTo>
                  <a:pt x="5351" y="0"/>
                </a:moveTo>
                <a:lnTo>
                  <a:pt x="0" y="0"/>
                </a:lnTo>
                <a:lnTo>
                  <a:pt x="0" y="1010"/>
                </a:lnTo>
                <a:lnTo>
                  <a:pt x="5351" y="1010"/>
                </a:lnTo>
                <a:lnTo>
                  <a:pt x="535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440" y="3141360"/>
            <a:ext cx="70088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64  (S65 w/o Camera)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Status Report at M1, 10.12.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9520" y="4960800"/>
            <a:ext cx="5265720" cy="15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12.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istian Baumg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Martin Mues-H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 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tia Rizz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 B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io Car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59600" y="3102120"/>
            <a:ext cx="2382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2440" y="282600"/>
            <a:ext cx="9213840" cy="25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7960" y="5460840"/>
            <a:ext cx="3486240" cy="111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959680" y="26676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 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262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267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272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277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282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287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292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2960" y="1249200"/>
            <a:ext cx="93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64 M1 document is reviewed and agreed by the S64 PD and 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D and REA Team members have signed the S64 M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32633" t="18950" r="29274" b="60245"/>
          <a:stretch/>
        </p:blipFill>
        <p:spPr>
          <a:xfrm rot="21540000">
            <a:off x="4792320" y="2117880"/>
            <a:ext cx="4176720" cy="1709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30226" t="13846" r="26262" b="12556"/>
          <a:stretch/>
        </p:blipFill>
        <p:spPr>
          <a:xfrm>
            <a:off x="800280" y="1949400"/>
            <a:ext cx="3684240" cy="46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96C5-31CD-4641-92AC-0AE59ADAA98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490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495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500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505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510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515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520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868320" y="2932200"/>
            <a:ext cx="2233440" cy="2208240"/>
            <a:chOff x="868320" y="2932200"/>
            <a:chExt cx="2233440" cy="2208240"/>
          </a:xfrm>
        </p:grpSpPr>
        <p:sp>
          <p:nvSpPr>
            <p:cNvPr id="562" name=""/>
            <p:cNvSpPr/>
            <p:nvPr/>
          </p:nvSpPr>
          <p:spPr>
            <a:xfrm>
              <a:off x="868320" y="293724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77920" y="323244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11280" y="356724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015920" y="349740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27080" y="347688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1987200" y="293220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489320" y="261468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05200" y="464832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53720" y="303516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4360" y="464832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360" y="2957400"/>
            <a:ext cx="1209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51800" y="521964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35520" y="2711520"/>
            <a:ext cx="5241960" cy="1371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2€ ASP, 170€ launch price, 155€ E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 risk: 5-10% due to naming issu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S64 is realized by customer as of “lower value”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35520" y="4689360"/>
            <a:ext cx="5241960" cy="1479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Impact in FY05: T/O  24’6, GM 8’7, PROFIT 16% (= 3'9€) current vs. 20% (target) --&gt; deviation: 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confidence of BA to realize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35520" y="147168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ned as S65 w/o camera (targeting corporate market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9480" y="3403440"/>
            <a:ext cx="139356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46280" y="376704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8080" y="619596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2D48-4143-442B-BC36-37A4FE4A7C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734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739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744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749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754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759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764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55880" y="2340000"/>
            <a:ext cx="5241960" cy="19494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18, 2005 (10k in VKL CW15, challenge to reach target Mar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onfidence by PL-T to reach April 18 (based on reuse of existing antenna / moderate confidence if antenna has to be adjusted, could result in 2wks del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55880" y="447192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Ls in place and resources agr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l planning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55880" y="129240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longing the lifecycle process into CY2006 would result in switch to lead fre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81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800" y="601668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69840" y="3224160"/>
            <a:ext cx="139392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F279-043E-47FE-994A-5597139598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sion Proposals in case of yellow Q-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2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97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98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98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99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99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00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00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4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18680" y="1405080"/>
            <a:ext cx="907452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Impacts on TTM, EBIT, Volumes, Quality is calculated and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(see backup, Impact on the overall MD portfolio in FY05 is: 160K units, T/O 24’6, GM 8’7, Profit 3’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Approve 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87520" y="3686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63400" y="51800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435320" y="3740040"/>
            <a:ext cx="239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approv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97880" y="5229360"/>
            <a:ext cx="17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st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A31C-67FD-470B-B3FB-E60B08403E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20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21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21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22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22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23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23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7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651400" y="2666880"/>
            <a:ext cx="45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F0E8-D965-4390-873C-2A4A3AD40B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4873680" y="1657440"/>
            <a:ext cx="2482920" cy="407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pside with LC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difference to S65 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- EUR 10 during 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ris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5% over LC in BC consid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K 88,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rect R&amp;D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ffort Mio. 1‘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of  Mio.1’0 considered (4% of Turnover) or 6 EUR per un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902120" y="1084320"/>
            <a:ext cx="2549520" cy="554040"/>
          </a:xfrm>
          <a:prstGeom prst="rect">
            <a:avLst/>
          </a:prstGeom>
          <a:solidFill>
            <a:srgbClr val="a4d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2" name=""/>
          <p:cNvGraphicFramePr/>
          <p:nvPr/>
        </p:nvGraphicFramePr>
        <p:xfrm>
          <a:off x="1346040" y="1092240"/>
          <a:ext cx="29340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1092240"/>
                    <a:ext cx="29340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4" name=""/>
          <p:cNvSpPr/>
          <p:nvPr/>
        </p:nvSpPr>
        <p:spPr>
          <a:xfrm flipV="1">
            <a:off x="2170080" y="6211800"/>
            <a:ext cx="48744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87800" y="6211800"/>
            <a:ext cx="723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468520" y="6211800"/>
            <a:ext cx="50328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78400" y="5221440"/>
            <a:ext cx="8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100920" y="2936880"/>
            <a:ext cx="8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910720" y="388800"/>
            <a:ext cx="141120" cy="123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910720" y="593640"/>
            <a:ext cx="141120" cy="122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910720" y="797040"/>
            <a:ext cx="1411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861400" y="241200"/>
            <a:ext cx="33012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902800" y="27000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907480" y="522360"/>
            <a:ext cx="233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907480" y="77004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44600" y="342720"/>
            <a:ext cx="91216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64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 case indicates 8’7 Gross Margin &amp;  3’9 Profit in FY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113520" y="364500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045120" y="472284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907480" y="515880"/>
            <a:ext cx="233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3225-39EE-472A-A5CE-D2B4F0574E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2920" y="588024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2920" y="1473120"/>
            <a:ext cx="188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2920" y="2859120"/>
            <a:ext cx="1895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2920" y="386388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2920" y="501012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830680" y="4829040"/>
            <a:ext cx="5283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 flipV="1" rot="16200000">
            <a:off x="1959480" y="1620360"/>
            <a:ext cx="65268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 rot="16200000">
            <a:off x="2223360" y="1467360"/>
            <a:ext cx="12852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 rot="16200000">
            <a:off x="2223360" y="1680120"/>
            <a:ext cx="128520" cy="135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 rot="16200000">
            <a:off x="2223360" y="1864080"/>
            <a:ext cx="128520" cy="135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 flipV="1" rot="16200000">
            <a:off x="1934280" y="2967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 flipV="1" rot="16200000">
            <a:off x="2197080" y="2812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 flipV="1" rot="16200000">
            <a:off x="2197080" y="3025440"/>
            <a:ext cx="128520" cy="136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 flipV="1" rot="16200000">
            <a:off x="2197080" y="322560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 rot="16200000">
            <a:off x="1934280" y="400608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 flipV="1" rot="16200000">
            <a:off x="2197080" y="385092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flipV="1" rot="16200000">
            <a:off x="2197080" y="4063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 flipV="1" rot="16200000">
            <a:off x="2197080" y="427644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 rot="16200000">
            <a:off x="1934280" y="5091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 flipV="1" rot="16200000">
            <a:off x="2196720" y="4937760"/>
            <a:ext cx="12888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 flipV="1" rot="16200000">
            <a:off x="2196720" y="5150520"/>
            <a:ext cx="12888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 rot="16200000">
            <a:off x="2197080" y="51591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 rot="16200000">
            <a:off x="1934280" y="590472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 rot="16200000">
            <a:off x="2197080" y="57495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 flipV="1" rot="16200000">
            <a:off x="2197080" y="5962320"/>
            <a:ext cx="12852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 flipV="1" rot="16200000">
            <a:off x="2197080" y="61750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05040" y="1305000"/>
            <a:ext cx="6829560" cy="11509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25 15.02.05,  S3 11.03.05, S4 11.04.05, M3 20.05.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S 04/05  18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MEA international variant planned (No operator variant e.g. Vodafone plan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fe cycle until end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lume 16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ta M1 (10.12.2004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01800" y="3686040"/>
            <a:ext cx="6829560" cy="1017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 modification Basis S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No Camera” =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r cover mod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modification (Exclude camera suppor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tenna modif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701800" y="4791240"/>
            <a:ext cx="6829560" cy="8395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flash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01800" y="5692680"/>
            <a:ext cx="6829560" cy="801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java “Photo editor” / No java “Worms”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java “Ches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 rot="16200000">
            <a:off x="2197080" y="53686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485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490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495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500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505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510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515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3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54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705040" y="2616120"/>
            <a:ext cx="6861240" cy="97956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servative BC: LC 0405-0905; 160k units;  ASP 153,75 ( Offer to market € 10 under  S65 Price , in BC additional price risk 5%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/O 24‘6;  HK 88,9 per unit,  GM 8’7, PROFIT 3‘9 (16% of turno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com 6€ per Box; direct R&amp;D 1’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B7FD-8279-40EE-A166-6E4EDEAAE1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95000" y="243360"/>
            <a:ext cx="8404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64:  Conserv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show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10’4 SM  &amp;  3’9 Pro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0" name=""/>
          <p:cNvGraphicFramePr/>
          <p:nvPr/>
        </p:nvGraphicFramePr>
        <p:xfrm>
          <a:off x="351000" y="1116000"/>
          <a:ext cx="916128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116000"/>
                    <a:ext cx="91612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F141-EC21-4BD4-930E-311FE53CC3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9:37:00Z</dcterms:created>
  <dc:creator>McKinsey User</dc:creator>
  <dc:description/>
  <dc:language>en-US</dc:language>
  <cp:lastModifiedBy>Mues-Hane Hans Martin</cp:lastModifiedBy>
  <cp:lastPrinted>2004-01-09T14:05:35Z</cp:lastPrinted>
  <dcterms:modified xsi:type="dcterms:W3CDTF">2004-12-10T09:09:39Z</dcterms:modified>
  <cp:revision>1030</cp:revision>
  <dc:subject/>
  <dc:title>TITL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/>
  </property>
  <property fmtid="{D5CDD505-2E9C-101B-9397-08002B2CF9AE}" pid="3" name="DocIDPosition">
    <vt:r8>0</vt:r8>
  </property>
  <property fmtid="{D5CDD505-2E9C-101B-9397-08002B2CF9AE}" pid="4" name="DocIDinSlide">
    <vt:bool>0</vt:bool>
  </property>
  <property fmtid="{D5CDD505-2E9C-101B-9397-08002B2CF9AE}" pid="5" name="DocIDinTitle">
    <vt:bool>0</vt:bool>
  </property>
  <property fmtid="{D5CDD505-2E9C-101B-9397-08002B2CF9AE}" pid="6" name="NotesPageLayout">
    <vt:lpwstr>Message</vt:lpwstr>
  </property>
  <property fmtid="{D5CDD505-2E9C-101B-9397-08002B2CF9AE}" pid="7" name="_AdHocReviewCycleID">
    <vt:r8>1398051792</vt:r8>
  </property>
  <property fmtid="{D5CDD505-2E9C-101B-9397-08002B2CF9AE}" pid="8" name="_AuthorEmail">
    <vt:lpwstr>hans-martin.mues-hane@siemens.com</vt:lpwstr>
  </property>
  <property fmtid="{D5CDD505-2E9C-101B-9397-08002B2CF9AE}" pid="9" name="_AuthorEmailDisplayName">
    <vt:lpwstr>Mues-Hane Hans-Martin Com MD PBM PG65</vt:lpwstr>
  </property>
  <property fmtid="{D5CDD505-2E9C-101B-9397-08002B2CF9AE}" pid="10" name="_EmailSubject">
    <vt:lpwstr>S64 Final Presentation PSR</vt:lpwstr>
  </property>
</Properties>
</file>