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5. Ao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Status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0" y="33703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3120" y="1290600"/>
            <a:ext cx="6964200" cy="489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lestones, timeline, Prima 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0 -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-Gate not passe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; HW; LCM (NPI 2&amp;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W; LCM (NPI 2&amp;3);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rima-Vera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completed due to missing links to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HW relevant WP in time with “Target S15”: 29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Key Caps –Aluminium Caps not feasible -&gt; going for stainless 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A1: PCBA Build: 15.04.05;  SLA Build: 06.06.05 ;WB TO: 18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TimeLine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0: 3.5 month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2: 1 month delayed (based on SW Platform DL C25 planning 09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ime between M1 and AS app. 3month only (based on M1 08/05 PL-T assum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C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cost gap of app. 7,-EUR due to reduced ASP and additional PD Budget (1/6 of X75 platform cost to be covered by Pol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Deci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640" y="1468440"/>
            <a:ext cx="8005680" cy="33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s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aration of M0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ease of Invest/ Budget till M0 (has been passed on to PBM Head as w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-&gt;PD Budget till M0 (6/05) 1.7Mio EUR (including SCM Budget 135k 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-&gt;Tooling due till M0 (6/05) 1.478Mio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osal of Polaris Project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 declare M0 Polar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ue to missing input from platform, esp. missing 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inue WP as plann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preliminary Time Schedule and release Budget/ Invest in order to minimize DS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08:08:59Z</dcterms:created>
  <dc:creator>Thomas Neumann</dc:creator>
  <dc:description/>
  <dc:language>en-US</dc:language>
  <cp:lastModifiedBy>Thomas Neumann</cp:lastModifiedBy>
  <cp:lastPrinted>2004-02-29T14:41:19Z</cp:lastPrinted>
  <dcterms:modified xsi:type="dcterms:W3CDTF">2005-04-15T10:39:57Z</dcterms:modified>
  <cp:revision>14</cp:revision>
  <dc:subject/>
  <dc:title>SG2 products – Polaris </dc:title>
</cp:coreProperties>
</file>