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050320" y="152280"/>
            <a:ext cx="91584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Gold Lite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S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7522560" y="8128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30.03.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5760" y="1197000"/>
            <a:ext cx="8769240" cy="2282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1600" y="4175280"/>
            <a:ext cx="80420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75/85 SGL Platform Status (excl. S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5120" y="5000760"/>
            <a:ext cx="296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05-03-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PL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rouk Z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D SWP Mario Topel February 9th, 2004 - Confidential -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75/85 SGL Platform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4120" y="1244520"/>
            <a:ext cx="8529480" cy="5174280"/>
            <a:chOff x="384120" y="1244520"/>
            <a:chExt cx="8529480" cy="5174280"/>
          </a:xfrm>
        </p:grpSpPr>
        <p:sp>
          <p:nvSpPr>
            <p:cNvPr id="104" name=""/>
            <p:cNvSpPr/>
            <p:nvPr/>
          </p:nvSpPr>
          <p:spPr>
            <a:xfrm>
              <a:off x="384120" y="1244520"/>
              <a:ext cx="8529480" cy="517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7480" y="1244520"/>
              <a:ext cx="8440560" cy="517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8800" y="1289160"/>
            <a:ext cx="85186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0: 01.03.05 (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0.06.04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2:    N/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:  N/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0: N/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25: 18.03.05 (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8.03.04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4:   01.04.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: 01.03.05 (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2.10.04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3:   15.12.0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3:   01.06.200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75/85 SGL Platform planning has been finished and account has been ope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estones are only SW related. S25 has been decl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of lead-free soldering – new problems in Phoenix/Sirius B1+ boards with Mozart AS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zation period between SW S25 and first DS only 9 wee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ck of SW resources to tackle all bugs and CRs (including operator CRs) in time for the DS SW-free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risk release of SGL with G15 mask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tests on SGL lead-free showed positive results, no problems expected in mass prod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6E RF-solution implemented in Adonis and Aries – high power consumption in talk and standby mode believed to be related to B6E SW – currently under investig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AAC/MP3-chip with integrated MMC-interface for SGL platform under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540400"/>
                <a:tab algn="l" pos="5770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e to high unused stock of key components from R65 generation (SGL, Mozart), careful material management and component allocation to the new SGL products is requi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D SWP Mario Topel February 9th, 2004 - Confidential -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GoldLite G12 – Project Quantities and St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8760" y="1065240"/>
            <a:ext cx="8774280" cy="53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D SWP Mario Topel February 9th, 2004 - Confidential -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io Topel</dc:creator>
  <dc:description/>
  <dc:language>en-US</dc:language>
  <cp:lastModifiedBy>CN1FZ000</cp:lastModifiedBy>
  <cp:lastPrinted>2004-02-29T14:41:19Z</cp:lastPrinted>
  <dcterms:modified xsi:type="dcterms:W3CDTF">2005-03-30T03:40:29Z</dcterms:modified>
  <cp:revision>495</cp:revision>
  <dc:subject>SW-Status SGold Lite Platform</dc:subject>
  <dc:title>PowerPoint Presentation</dc:title>
</cp:coreProperties>
</file>