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F06B-5230-4C2B-A469-D29F362ACA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A192-D2F7-411C-A8DC-6F52FE3656F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482F8-47CA-4036-9C31-65E1899F71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D7E-BE0D-4DF3-A629-477C9C43114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7530-6595-4DE0-A418-894EC306C2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3D4E-BB59-46A0-B62D-1AEF37FC91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447-1E80-4F3F-AFD0-17867BFD66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2DF7-251B-4F63-9543-ACEE2E2FA3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6E7D-D5F5-4DA9-BCD6-E6182E23F1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1CF2-FD3A-4FEC-ACD7-420B9B7453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37CC-93EE-445E-98E4-01FEBFF458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47BE-272F-4C78-8D78-1C06D151FC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6CEB-1072-49D5-807B-417B19FFD3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3193-ABB3-4359-8B2E-08F8E5F8E0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E96F-5E81-4BDC-9021-F74805A7D1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F223290E-0A22-4C6A-8DDF-0C69B1D7FF39}" type="datetime">
              <a:rPr b="0" lang="de-DE" sz="1200" spc="-1" strike="noStrike">
                <a:solidFill>
                  <a:srgbClr val="000000"/>
                </a:solidFill>
                <a:latin typeface="Arial"/>
              </a:rPr>
              <a:t>29.07.26</a:t>
            </a:fld>
            <a:r>
              <a:rPr b="0" lang="de-DE" sz="1200" spc="-1" strike="noStrike">
                <a:solidFill>
                  <a:srgbClr val="000000"/>
                </a:solidFill>
                <a:latin typeface="Arial"/>
              </a:rPr>
              <a:t>   </a:t>
            </a:r>
            <a:fld id="{3AB0389E-2EF3-4868-9131-18850310C04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