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3991-2823-4849-91D3-36084F2524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FF52-E638-4856-8B6A-3219865164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DDBE-33C3-478E-975E-4EEA12B127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751B-299F-45DB-9802-ADF64826B82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6C6A8-0ABB-48B8-B72E-F83827AC52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34C74-D2CF-4C77-A719-F1C5518E59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4809-285F-4885-88CC-7AE56869F9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17BB-9DB4-41ED-BDE9-8C9E7B5217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BF5DA-BD42-430F-9826-DD9109DCF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EF1A0-0F04-4954-A1E4-9B9513AA50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9A31-CAA8-4B7E-B6BD-8F19F3540D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08FE-F8EB-4EEE-A587-ABD7E91652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357E-3DD9-43C3-B666-9B798E6F3A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92C1-18A7-45AA-ADE5-3411055BBB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E506B-0F79-409F-AB6C-3C8447F330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554E0-F3EE-45AC-99CC-AA14E2146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CE298819-98E7-4215-A3B0-D5FF23C8956B}" type="datetime5">
              <a:rPr b="0" lang="de-DE" sz="1000" spc="-1" strike="noStrike">
                <a:solidFill>
                  <a:srgbClr val="000000"/>
                </a:solidFill>
                <a:latin typeface="Arial"/>
              </a:rPr>
              <a:t>29. Jul 2026</a:t>
            </a:fld>
            <a:r>
              <a:rPr b="0" lang="de-DE" sz="1000" spc="-1" strike="noStrike">
                <a:solidFill>
                  <a:srgbClr val="000000"/>
                </a:solidFill>
                <a:latin typeface="Arial"/>
              </a:rPr>
              <a:t>   </a:t>
            </a:r>
            <a:fld id="{BD12704E-1AB2-4E0D-8F63-98B54954414C}"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D3FD7BC4-711C-41D0-9506-EFB0644CB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B4DB5AE1-E402-4DAC-B7E6-B804EF54972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